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BF6A5-6001-4BE9-A7D6-6FDA0DF44214}"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DE74F-344D-4D84-B159-B905F62A4A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14B34-E9D8-4B2F-B55B-9F15440D8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4AB00-C33E-4F19-AD12-177E1C1C4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A733C6-8243-4325-BB5E-EEFC01BC6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3A931-54FE-4AB8-9832-E090D6436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D22685-3EEA-4360-8626-5A8A2298FA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1250C-1C56-49AD-BE10-EEA6440D8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F3D7F-EEF8-4920-9667-07E7E6CD4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9A3DC-9BDE-4C44-BEE1-9444BC6FD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9F0B95-B138-4155-8E50-77A9C8ACE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84AD3-6B5C-4CD9-8F13-CB4F884A6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49F9D-BE5B-4E3D-A221-7C899A113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6F033-FBE2-4BCE-8DB0-AC6498C71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C0DD1-535F-4D97-9F90-00A0DAF45C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1EE0B-4E3D-4BDC-A1E5-D56B51299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7455E-B43A-4AA1-A54C-632E1A96D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705DFB-CEBD-429C-8DB8-8D7E6E3535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5B76A9-7A4E-4076-89B5-3E5322ABCB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6EC4B9-6054-484B-BFC6-1A8678CC94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291B99-B5A8-4BE5-96FC-8A3C5D4205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A2AADE-AE91-4D6B-BE59-B47A8D1971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FE5E63-448D-4C4A-A57A-41AD7AF703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0A8F89-7F97-4694-A20C-CFF6F3890A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F0A52-52B0-4DDB-A0BE-8E45D9A1A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2323C8-0F84-4A48-A351-A6A8F74DA2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77D6C0-A615-4ED8-9EC3-664E926474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CB0BAC-2D01-4E28-9BE1-9C031B899A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29A886-34B1-49F4-96A7-266CBBA85A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9D0821-1A3A-4BCC-A1FA-3D9B6C2FBA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389DEE-53BF-445E-B54C-680F72819F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BBDDA0-D8EC-442A-8726-91A9A6374C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A2F739-7976-43DD-9A38-0A6E9194AA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9FB4EB-8794-4244-8276-B4565B16CA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5D98F2-DC75-4130-9B65-C330B84A18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0B57A-0826-432F-823E-52DD9CE08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4BEB4E-6D5D-4F2C-A237-32407BC4B1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5E38A1-7644-4D7D-8EC8-85D674DB07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CEA643-39EB-40D9-8603-0053304664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5E8D57-B03C-4DF5-9A69-86E9045D55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055A8B-1396-4F6A-88FE-A96635E774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B7E606-6652-421D-A01A-522574C86B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30A80D-869B-42F6-B466-03CCD2C5C4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74127A-3397-414B-A782-CB37B2C9F6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F202FD-98C3-4ABE-BAF7-5B1D67A392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17B948-F379-4A38-A6FC-6D07958284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08BCC-6D6A-4D88-AA88-5AAE8D307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478A01-789A-4DF6-9033-7A244C47BD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0E6BDC-FD93-4A22-893D-6FA7A1BA81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128545-9A7C-4DFC-A102-0B870B47D0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ED3E1C-076F-4662-8E05-0DD961C91A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F9708D-C49F-4FD1-B085-65D114731C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A4A401-A417-415D-984E-8B29385DD5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420A77-9C55-4436-A54D-B67ADF7796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264616-ABB8-4037-BDBE-08E8825C3E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C8CA1B-91F0-4266-A565-29B7E70126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80E67C-3147-4771-90E1-BF822392B2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393A2-5CDD-4A57-B95C-AF793BB88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0EF832-AD49-43D4-A64E-7E9EC13009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B51EF-F17E-405B-803B-5E67C9E8F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2F3F7-56A2-4B19-B6B8-9E58C362A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824A6-6F7F-42C3-8D2C-3410BB2F8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0400" y="-6480"/>
            <a:ext cx="1000080" cy="6870960"/>
            <a:chOff x="8150400" y="-6480"/>
            <a:chExt cx="1000080" cy="6870960"/>
          </a:xfrm>
        </p:grpSpPr>
        <p:pic>
          <p:nvPicPr>
            <p:cNvPr id="1" name="Rechthoek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53F8E-0167-4BCF-822E-2A827FC01A22}"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64000" y="-6480"/>
            <a:ext cx="6486480" cy="6870960"/>
            <a:chOff x="2664000" y="-6480"/>
            <a:chExt cx="6486480" cy="6870960"/>
          </a:xfrm>
        </p:grpSpPr>
        <p:pic>
          <p:nvPicPr>
            <p:cNvPr id="45" name="Rechthoek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326EB-D584-4FC5-86ED-67BE602680CC}"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0400" y="-6480"/>
            <a:ext cx="1000080" cy="6870960"/>
            <a:chOff x="8150400" y="-6480"/>
            <a:chExt cx="1000080" cy="6870960"/>
          </a:xfrm>
        </p:grpSpPr>
        <p:pic>
          <p:nvPicPr>
            <p:cNvPr id="90" name="Rechthoek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0604A-3664-4EBE-A56E-C08CBF95674F}"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EF078-2594-4418-93F7-0738ED13CE71}"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0400" y="-6480"/>
            <a:ext cx="1000080" cy="6870960"/>
            <a:chOff x="8150400" y="-6480"/>
            <a:chExt cx="1000080" cy="6870960"/>
          </a:xfrm>
        </p:grpSpPr>
        <p:pic>
          <p:nvPicPr>
            <p:cNvPr id="177" name="Rechthoek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B2435-8D87-4A6C-9AB3-D2608368638A}"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2560" y="353880"/>
            <a:ext cx="8601120" cy="32544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212760" y="317520"/>
            <a:ext cx="7493040" cy="1150920"/>
          </a:xfrm>
          <a:prstGeom prst="rect">
            <a:avLst/>
          </a:prstGeom>
          <a:ln w="0">
            <a:noFill/>
          </a:ln>
        </p:spPr>
      </p:pic>
      <p:pic>
        <p:nvPicPr>
          <p:cNvPr id="266" name="Tijdelijke aanduiding voor inhoud 2" descr=""/>
          <p:cNvPicPr/>
          <p:nvPr/>
        </p:nvPicPr>
        <p:blipFill>
          <a:blip r:embed="rId2"/>
          <a:stretch/>
        </p:blipFill>
        <p:spPr>
          <a:xfrm>
            <a:off x="450720" y="1554120"/>
            <a:ext cx="7340760" cy="490716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212760" y="317520"/>
            <a:ext cx="7493040" cy="115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212760" y="317520"/>
            <a:ext cx="7493040" cy="115092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212760" y="633240"/>
            <a:ext cx="7493040" cy="83520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door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d…</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42840" y="853920"/>
            <a:ext cx="8905680" cy="425448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244440" y="133200"/>
            <a:ext cx="7461360" cy="108612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ilmpje</a:t>
            </a: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212760" y="317520"/>
            <a:ext cx="7572240" cy="1150920"/>
          </a:xfrm>
          <a:prstGeom prst="rect">
            <a:avLst/>
          </a:prstGeom>
          <a:ln w="0">
            <a:noFill/>
          </a:ln>
        </p:spPr>
      </p:pic>
      <p:pic>
        <p:nvPicPr>
          <p:cNvPr id="253" name="Tijdelijke aanduiding voor inhoud 2" descr=""/>
          <p:cNvPicPr/>
          <p:nvPr/>
        </p:nvPicPr>
        <p:blipFill>
          <a:blip r:embed="rId3"/>
          <a:stretch/>
        </p:blipFill>
        <p:spPr>
          <a:xfrm>
            <a:off x="334800" y="1596960"/>
            <a:ext cx="7377120" cy="48704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212760" y="317520"/>
            <a:ext cx="7493040" cy="1150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212760" y="317520"/>
            <a:ext cx="7493040" cy="1150920"/>
          </a:xfrm>
          <a:prstGeom prst="rect">
            <a:avLst/>
          </a:prstGeom>
          <a:ln w="0">
            <a:noFill/>
          </a:ln>
        </p:spPr>
      </p:pic>
      <p:pic>
        <p:nvPicPr>
          <p:cNvPr id="258" name="Tijdelijke aanduiding voor inhoud 2" descr=""/>
          <p:cNvPicPr/>
          <p:nvPr/>
        </p:nvPicPr>
        <p:blipFill>
          <a:blip r:embed="rId2"/>
          <a:stretch/>
        </p:blipFill>
        <p:spPr>
          <a:xfrm>
            <a:off x="328680" y="1603440"/>
            <a:ext cx="7377120" cy="485784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212760" y="317520"/>
            <a:ext cx="7493040" cy="1150920"/>
          </a:xfrm>
          <a:prstGeom prst="rect">
            <a:avLst/>
          </a:prstGeom>
          <a:ln w="0">
            <a:noFill/>
          </a:ln>
        </p:spPr>
      </p:pic>
      <p:pic>
        <p:nvPicPr>
          <p:cNvPr id="261" name="Tijdelijke aanduiding voor inhoud 2" descr=""/>
          <p:cNvPicPr/>
          <p:nvPr/>
        </p:nvPicPr>
        <p:blipFill>
          <a:blip r:embed="rId2"/>
          <a:stretch/>
        </p:blipFill>
        <p:spPr>
          <a:xfrm>
            <a:off x="347760" y="1554120"/>
            <a:ext cx="7381800" cy="493236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212760" y="317520"/>
            <a:ext cx="7493040" cy="1150920"/>
          </a:xfrm>
          <a:prstGeom prst="rect">
            <a:avLst/>
          </a:prstGeom>
          <a:ln w="0">
            <a:noFill/>
          </a:ln>
        </p:spPr>
      </p:pic>
      <p:pic>
        <p:nvPicPr>
          <p:cNvPr id="264" name="Tijdelijke aanduiding voor inhoud 2" descr=""/>
          <p:cNvPicPr/>
          <p:nvPr/>
        </p:nvPicPr>
        <p:blipFill>
          <a:blip r:embed="rId2"/>
          <a:stretch/>
        </p:blipFill>
        <p:spPr>
          <a:xfrm>
            <a:off x="414360" y="1547640"/>
            <a:ext cx="7351560" cy="491364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Joke</cp:lastModifiedBy>
  <dcterms:modified xsi:type="dcterms:W3CDTF">2014-01-14T13:54:54Z</dcterms:modified>
  <cp:revision>51</cp:revision>
  <dc:subject/>
  <dc:title>Kinderarbeid</dc:title>
</cp:coreProperties>
</file>