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B982-D03C-4929-9C6C-B20B89F2E541}"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E99D-7990-4CF8-9AC0-6A41618C07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8E24F-5569-451E-8DF2-E726790D0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D6F18-AC37-4C7E-A788-50317A8B7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3F474-61EA-415C-B366-7D92CF3C4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DF408-C78F-4923-94DC-31967851E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37639-9724-4DB8-8662-4F13771DA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A638F-B4EC-4B81-9ECF-9E3260134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6C208-2D26-47A1-B786-ABD14C09C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31662-C2BC-49E7-B02E-0EB9071AE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0ED40-9D03-43CD-88EE-CB2EB93AF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FAF82-CA22-4EF2-91A8-AAD980FC4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057C6-C0CE-4140-9BC9-EC32BCEBF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B3442-CA17-4B0B-B042-3E9593CD4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B56CC-93CC-49B1-80EB-C07830870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6BB00-2499-424E-8290-4451AE694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C22A2-9515-4D60-9853-8179B2A79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0D7BF-F574-4E17-9A7C-E32E86276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245A3-568A-4363-B3E8-623A0018B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81A946-6505-4F7C-AAFB-0C965EA9CB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90B16-AC6B-4AD8-A8A7-A93C2D4F3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890A9C-3370-462E-94EA-8014691B84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648132-B27F-4B3F-9B04-EA1FDEFA0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3EA21E-AFD8-48E4-9F35-D6046A494C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B9263-F8FF-403E-AAFD-47CE438AF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0A4153-4E47-46B5-A9A3-3F07FD8F8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89F0A-A6FD-4472-BBFF-E54CB5366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EC0F7-618B-4FA7-9F80-2B36ADAC8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BE234-F5F6-4551-BDC0-738188E28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59F773-C7D2-4447-B243-5BFD5AEED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2350BD-F28A-4974-ABEE-C23A1B6712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9D0900-091D-4AFD-8CC4-423CBA6339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B47F83-9256-414F-A138-AAED82E18B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8FE238-F03F-48E5-A7B8-CB9A8CD48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36E605-27D5-4B5D-9D90-150532C785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44D62-5AF0-4352-9507-12C9B77C9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387E16-8C27-4E37-8375-713117D08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9BE8C-5885-4B95-B76E-3053205E9E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AA839-C6F2-4A83-A84B-3637DA5BE4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D90F5-A500-476C-AA97-EE85DEBD4E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D33729-D60B-47C4-BF80-6235EAC76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0107C1-8A2A-4267-B8B8-612DF9C05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12624E-EA32-4FEE-9006-6EF436E0A9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EDD896-7168-4EE5-9495-4762E2DF7D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41B5E7-1C6C-45CE-87A7-FA47CBF194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445035-FEB9-491B-8C7F-AB527DA6A2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64F3E-AA07-4E05-8D3C-27644BDAD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8756E8-8845-4926-9B12-5426693FA8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67B018-E1FA-4576-B72B-52403CAB73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F90F35-590E-4690-AE38-9ECE0FD5C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EDAF56-608B-4147-945C-EA6F9AFB14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C07C09-45D8-4E0D-B3A9-7E30056C9D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AB66A-4128-4ADD-B3A2-72A22D94B1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EDD022-E3A1-4BD9-BA57-6978D561E2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56328D-7F90-47FF-8F16-726EAECD6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34E08A-CEA1-4266-B64F-6FD4CE494F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E3DFBF-07E0-4E52-BA3B-1089C9A948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6AC0E-DCDC-4C40-B074-5ECB417DD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E5E8AD-AE79-453D-8DA5-16AD0BA38E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70E5F-DA65-49DB-AD02-2F0926893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FBFE5-1CE4-43F3-BD2D-9503809F4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5A6FC-0055-44EF-861A-3814DC215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D00A-1976-429D-A544-7655486E42F5}"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6F24-BD60-4D07-A06C-7AA110E81659}"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4DBA-16F4-4AE4-8155-B2B97750F3AA}"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DCF6-80C3-451D-8B54-214A0FD0DCF9}"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0D56-E998-4A16-80AF-FAD7D362A2B2}"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door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d…</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Joke</cp:lastModifiedBy>
  <dcterms:modified xsi:type="dcterms:W3CDTF">2014-01-14T13:54:54Z</dcterms:modified>
  <cp:revision>51</cp:revision>
  <dc:subject/>
  <dc:title>Kinderarbeid</dc:title>
</cp:coreProperties>
</file>