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A6BC-18A8-4D56-9DC0-4543A6AD27CE}"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0102-0936-497D-B32C-A1371A9C28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9C5A5-7169-479C-BB0D-5D0ED8789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68AC6-FECB-478B-A680-5B16B376E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CC1A9-A97C-47CC-9D4F-990DC2ACD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0E16B-562A-45E6-A2F4-4144E3479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A68E0-2C34-4F36-BF36-933A397AF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248B9-E156-44C9-93F9-2E85A4CCE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4452A-99D4-4519-B0B4-0069DB56F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62878-1E41-4163-89EF-34BE06295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2A466-3D25-4465-8741-E48B6F74A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F4502-BC88-4340-9ECD-808F8C530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5E92E-0778-4CDC-8B07-B3ED5839E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A751F-D0BB-4C77-8056-1FED1D1E3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333DD-4BB4-43AA-BBC0-C7B63AE69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F22A9-FB33-487D-ABFC-1A3784B39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7F6A8-BA34-4678-868F-B01E5B643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6EDE6-E7B2-41A1-97D9-15485A0B3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112EA-3570-486F-80B6-AB49C9D106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BD9BAD-4468-43E9-BDD7-1A7BAD3918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AF612B-41A0-4A04-A30C-4C1D7AE70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6EE13-70DD-4555-9039-DDE3FA6C45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CFBA21-196E-41D0-8EAF-CB3AA30678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47A31-4289-4AEC-A486-F7A73C94DF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C9B15-7E81-41CE-AF42-F1F339C38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0FD846-4D0C-4A74-B886-5DD87FD54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38A38E-079F-48B2-8117-A951EC665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60AFC-0452-409D-9CD9-47336B9319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D4532-28A0-4E19-9899-2ED233D5B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B5C4D2-1648-4090-8FBE-FB9F8602F6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23C9DD-E631-457F-9F4C-4319567A28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E10246-81D9-4761-A68D-DCC6AE0C03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E72E3B-D381-4810-9C2E-504541ADA1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AD5BF8-4E86-4F9E-AE8C-C3E78C8594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51D88A-8BA8-4728-AAC8-9C73209089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80F0B-7F6D-472D-8657-4ECB88F66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0186AD-F839-412D-A530-C12F881B56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8E9451-7B56-41A0-A9CF-EE71DF76B1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34FBE-C297-44E7-9CF0-D3E4BFE9D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02C53-E217-4F11-9537-FF0B824014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D8748C-5838-42BB-83AA-419157BFAE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9FAFB-DA59-4370-8EDE-12A4DA21B1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828075-FB60-4628-856D-AA451669CB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B0FC4D-AE24-4E0F-BF51-ACBCB8FFDC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C838A5-8EB7-447C-9C1D-C72466061A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5ABA36-A8F4-43F1-8042-338AE18715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890E0-32E2-42AC-8D2D-5E1DA8BF6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3F1EAC-4E99-4D24-9D7A-46F55E3EAD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00A978-7A5E-4045-B665-389E4DA74E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227D01-3F9A-451D-BF5D-C0019B26ED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D064CD-14D3-4025-A8C5-AD7BF5670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B6276A-9B69-4BEB-A9F4-A19762AF9B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2FC49D-AD22-4BF3-8E8C-C651A4C3F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CD99F-FC77-4401-A11E-E79459CAE9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EC82D0-9D34-41EA-847C-965CF1745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A85002-0394-4707-ABF7-71BC8A5737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1378C7-34F1-4155-AC63-49A078F97E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9CECE-C575-4744-BA59-B092377CA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C7D09A-24EF-4907-A6D3-404E89F952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FC4C9-98D2-498B-BC68-983A60E3A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9078B-A2B5-4B5C-B257-F7852BB70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DE798-3596-435D-BE53-B89084541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F4A3-E7B9-47F4-82EE-BC628C0204B3}"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7C89-B2EB-4DB9-8537-30387FA023D6}"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44DF-A618-4988-B1FF-3A91BA85C795}"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8721-634A-4789-A8F5-D46E31D76831}"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27E4-9424-4B27-B24A-AF9E726A0C63}"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door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d…</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Joke</cp:lastModifiedBy>
  <dcterms:modified xsi:type="dcterms:W3CDTF">2014-01-14T13:54:54Z</dcterms:modified>
  <cp:revision>51</cp:revision>
  <dc:subject/>
  <dc:title>Kinderarbeid</dc:title>
</cp:coreProperties>
</file>