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351-EDEC-4661-BA62-E5CD409E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C4F-C01F-4996-BEA2-BCAED8A5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013-E325-48EC-9C71-C3F78292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D34-B3CB-44C2-AB83-8BF6AE37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D519-5002-4BFF-8A75-AF448515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A6B-A9CA-4C6F-ADBB-F6BD14BD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EBF4-586F-42CA-9BF1-2499594E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0A18-13B4-4CFA-813F-AF9496F3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CD1-0FDF-4FF4-8476-CAC82250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9EE-41B5-45C8-B652-00E60F9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DAC8-7C74-4D23-97F7-D3035199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4C7-08C4-4522-92FB-979AD9E9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A05D-A634-4753-A73F-86033CB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EF78-766A-44EC-AF64-F28AFC69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4B68-4984-45D7-A545-C5A398F9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8A56-5B2A-41EE-B9A0-B53FF0E0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A6EA-C244-418F-B320-EB441DC2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CE1-01BB-48E7-91F0-E338AD37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F62-D548-4924-B3D7-BC1C0FC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386-873B-462E-87CC-8C5A4180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3F4-E017-4972-A207-85EBF1C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190-1216-4927-AF19-2D238CA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B86-AD5B-47F4-B17C-F2AD847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7E8-0A12-4A03-927D-8121723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F1E-6FCE-4745-BFEA-202FFFD310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907F-5A69-4DF2-8E26-EB5DE85823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3vHAXFpHqs" TargetMode="External"/><Relationship Id="rId2" Type="http://schemas.openxmlformats.org/officeDocument/2006/relationships/hyperlink" Target="https://www.youtube.com/watch?v=LpV3yAlyBa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Syndroom van Korsakoff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youtube.com/watch?v=n3vHAXFpHqs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s://www.youtube.com/watch?v=LpV3yAlyB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mgang m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4 K’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kr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sekwe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ti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29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 </a:t>
            </a:r>
            <a:r>
              <a:rPr b="0" lang="nl-N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re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 k’s als basis voor ED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h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iet aangeboren hersenletse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nietiging van hersencellen t.g.v. alcoholmisbruik in combinatie met vit B1 (thiamine) deficiëntie óf ten gevolge van hersentrauma of vergiftiging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Ziekte van Wernic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wustzijnsveranderingen en 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a (en mogelijk dodelijke afloop als er niet meteen thiamine wordt gegev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ystagmus (oogbewegingsstoorn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venwichtsstoornissen/loopstoornissen (atax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verfunctiestoornissen horen niet bij deze ziekte, maar zie je als alcoholisme de oorzaak van Wernick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path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lirium tremens: hallucinaties, tremoren. (Epilepsie is een apart en groot probleem bij alcoholonttrekking, maar is geen onderdeel van Wernick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cute en levensbedreigende toestand van totale uitputting en ontreddering/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trograde amne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Het geheu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 – lang –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halamus – cortex -Hippocampus (limbisch systee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xpliciet (bewust; episodisch en semantisch) en impliciet (onbewus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xecutieve func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itiëren: vermogen om met taken of handelingen te beg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hiberen; vermogen om taken of handelingen te beëindigen en impulsen af te r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isteren: vermogen om een taak of handeling vol te hou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rganiseren; vermogen om deelactiviteiten op elkaar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eren; vermogen om (alternatieve) oplossingen te beden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bstraheren; vermogen om afstand te nemen van het concr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uperviseren: vermogen om eigen gedrag te overzien en zo nodig te corrig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heugenstoor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nterograde amnesie </a:t>
            </a:r>
            <a:r>
              <a:rPr b="0" lang="nl-NL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 ophaalstoornis van nieuw opgeslagen informatie en desoriënt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Retrograde amnesie; lange termijn geheu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chronogenesis; moeite met juiste tijdlij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fabulere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soriëntatie vooral in tijd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pathie; problemen met het initiëren van gedrag ≠ onwil maar falen van de w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lanningsstoornissen en bijsturen van gedrag; vasthouden en afronden van handelin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brek aan ziekte-inzi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nzekerheid en faalangst; verzeilen in situaties die je niet kunt overzien en bijstu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ordeels- en kritiek stoorn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erseverere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cretisme (niet abstract kunnen denken;spreekwoorden en gezegden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Sociaal isolemen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Lichamelijke aandoeningen: loopstoornissen (dronkemansloop), leverstoornissen, polyneuropathieën!!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Normaal intellect en niet progressie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48:01Z</dcterms:created>
  <dc:creator>u00r2i1</dc:creator>
  <dc:description/>
  <dc:language>en-US</dc:language>
  <cp:lastModifiedBy>Willem Gilsing</cp:lastModifiedBy>
  <dcterms:modified xsi:type="dcterms:W3CDTF">2016-03-15T11:02:43Z</dcterms:modified>
  <cp:revision>14</cp:revision>
  <dc:subject/>
  <dc:title>Syndroom van Korsakoff</dc:title>
</cp:coreProperties>
</file>