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E9A-1200-47D3-99CF-8856A990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793-D17D-43EE-9CBA-049EDABE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19C-DA2E-4251-A183-E443E352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986-6421-415C-A476-43E8B130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D33D-DA76-4B2F-8D0B-FE7B2081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FB30-E1B6-48D4-8D24-02E893E9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5826-6882-4660-94DA-70FDF21F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35BA-70AA-4CE2-ADCF-74A46246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033-FAC2-4420-AD3F-6F3051A2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386D-41C5-415F-9FC1-A7097026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C7DC-DD14-4689-8B0B-1B69D09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FBD-89B5-42CE-BCD1-31CF5A12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E432-01A6-4EA5-AD01-4213F47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0657-EE8C-4F54-9A3C-10AAC142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DDB5-9109-45AF-BD88-83B24E1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979D-54BD-4A37-9485-7C0B43E4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3192-632F-4886-9160-A7CB8E0D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E3C-37A8-4AA2-8909-CB70DE80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B59-D438-4CB8-8A16-B68A6EF3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567-2255-4F8B-8F02-C8CFA61C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0BE-8924-4C0F-8742-C3EBF78D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E4E-4E64-4EDD-A7CE-FF7BA39B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332-9EEA-47B4-8D63-140AECA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E53-5F2E-4588-A01A-846CA5B9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FA55-90F2-4FB2-AA3A-63B2EF8288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C0AB-BEA8-43A1-9681-557CD7EA52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3vHAXFpHqs" TargetMode="External"/><Relationship Id="rId2" Type="http://schemas.openxmlformats.org/officeDocument/2006/relationships/hyperlink" Target="https://www.youtube.com/watch?v=LpV3yAlyBa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6666"/>
                </a:solidFill>
                <a:latin typeface="Arial"/>
              </a:rPr>
              <a:t>Syndroom van Korsakoff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youtube.com/watch?v=n3vHAXFpHqs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s://www.youtube.com/watch?v=LpV3yAlyBa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mgang m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4 K’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kre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sekwen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ntin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29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 </a:t>
            </a:r>
            <a:r>
              <a:rPr b="0" lang="nl-NL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kre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5 k’s als basis voor ED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he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iet aangeboren hersenletsel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nietiging van hersencellen t.g.v. alcoholmisbruik in combinatie met vit B1 (thiamine) deficiëntie óf ten gevolge van hersentrauma of vergiftiging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Ziekte van Wernic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wustzijnsveranderingen en 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ma (en mogelijk dodelijke afloop als er niet meteen thiamine wordt gegev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ystagmus (oogbewegingsstoorn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venwichtsstoornissen/loopstoornissen (atax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everfunctiestoornissen horen niet bij deze ziekte, maar zie je als alcoholisme de oorzaak van Wernicke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path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lirium tremens: hallucinaties, tremoren. (Epilepsie is een apart en groot probleem bij alcoholonttrekking, maar is geen onderdeel van Wernick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cute en levensbedreigende toestand van totale uitputting en ontreddering/verward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trograde amne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Het geheug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ort – lang – dir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halamus – cortex -Hippocampus (limbisch systee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xpliciet (bewust; episodisch en semantisch) en impliciet (onbewus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xecutieve func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itiëren: vermogen om met taken of handelingen te beginn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hiberen; vermogen om taken of handelingen te beëindigen en impulsen af te r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isteren: vermogen om een taak of handeling vol te hou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rganiseren; vermogen om deelactiviteiten op elkaar af te stem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dapteren; vermogen om (alternatieve) oplossingen te beden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bstraheren; vermogen om afstand te nemen van het concre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uperviseren: vermogen om eigen gedrag te overzien en zo nodig te corrige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heugenstoorniss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nterograde amnesie </a:t>
            </a:r>
            <a:r>
              <a:rPr b="0" lang="nl-NL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 ophaalstoornis van nieuw opgeslagen informatie en desoriëntati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Retrograde amnesie; lange termijn geheu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chronogenesis; moeite met juiste tijdlij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fabulere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ymptomen Korsakov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Desoriëntatie vooral in tijd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Apathie; problemen met het initiëren van gedrag ≠ onwil maar falen van de w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lanningsstoornissen en bijsturen van gedrag; vasthouden en afronden van handeling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Gebrek aan ziekte-inzi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nzekerheid en faalangst; verzeilen in situaties die je niet kunt overzien en bijstur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Oordeels- en kritiek stoorn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Persevereren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Concretisme (niet abstract kunnen denken;spreekwoorden en gezegden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Sociaal isolement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Lichamelijke aandoeningen: loopstoornissen (dronkemansloop), leverstoornissen, polyneuropathieën!!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Verdana"/>
              </a:rPr>
              <a:t>Normaal intellect en niet progressie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6:48:01Z</dcterms:created>
  <dc:creator>u00r2i1</dc:creator>
  <dc:description/>
  <dc:language>en-US</dc:language>
  <cp:lastModifiedBy>Willem Gilsing</cp:lastModifiedBy>
  <dcterms:modified xsi:type="dcterms:W3CDTF">2016-03-15T11:02:43Z</dcterms:modified>
  <cp:revision>14</cp:revision>
  <dc:subject/>
  <dc:title>Syndroom van Korsakoff</dc:title>
</cp:coreProperties>
</file>