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38A-697C-4007-8525-4CDF5AA0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09D-BB00-4842-846A-3F49DC92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351-2654-4DB7-B910-BAA9FA0E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CD8-9950-46D4-8ADC-AE736A56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63BC-8A2D-4F91-978E-C68CD83A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E4E7-F367-4F2B-A854-123DD291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85A1-1AF6-49CB-A106-64BF27CE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E529-500B-426A-9978-8C5122F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A1AC-8194-4F1C-A253-D8CC9A2D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F01E-23DD-4444-AA37-BCAB32E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FDAE-5E0B-4355-9D4A-6E8D25C1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9DC-378A-4E87-8A9D-120DC89F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CFF5-EF56-4E6B-9838-40AB1613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95D9-8A2E-4942-9906-505FE9C4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116C-021A-409F-B2AB-4937C61D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9016-1A64-4ABC-B125-89066D62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0E9B-ABE6-484F-9CAF-70661AE7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AA0-B2F0-4326-BF9C-40D45059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0EA-E701-4D66-935E-B4004038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152-A63C-4455-8A9E-3A8A601C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405-7ABD-40C9-8655-CC8F45BF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0D4-6D86-4F4E-BF5F-06DFE39C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932-E0BA-4FC6-8589-4B7DB1D6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0ED-D435-48B4-8A67-C3DF7DB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CD4E-B12A-46F1-ABF9-A4DC0143CF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4406-763B-445B-8A13-DEE99A1F09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3vHAXFpHqs" TargetMode="External"/><Relationship Id="rId2" Type="http://schemas.openxmlformats.org/officeDocument/2006/relationships/hyperlink" Target="https://www.youtube.com/watch?v=LpV3yAlyBa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6666"/>
                </a:solidFill>
                <a:latin typeface="Arial"/>
              </a:rPr>
              <a:t>Syndroom van Korsakoff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youtube.com/watch?v=n3vHAXFpHqs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s://www.youtube.com/watch?v=LpV3yAlyB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mgang me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4 K’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kre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sekwen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ti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29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 </a:t>
            </a:r>
            <a:r>
              <a:rPr b="0" lang="nl-NL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re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 k’s als basis voor ED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he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iet aangeboren hersenletsel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nietiging van hersencellen t.g.v. alcoholmisbruik in combinatie met vit B1 (thiamine) deficiëntie óf ten gevolge van hersentrauma of vergiftiging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Ziekte van Wernick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wustzijnsveranderingen en 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a (en mogelijk dodelijke afloop als er niet meteen thiamine wordt gegev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ystagmus (oogbewegingsstoorn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venwichtsstoornissen/loopstoornissen (atax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verfunctiestoornissen horen niet bij deze ziekte, maar zie je als alcoholisme de oorzaak van Wernicke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path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lirium tremens: hallucinaties, tremoren. (Epilepsie is een apart en groot probleem bij alcoholonttrekking, maar is geen onderdeel van Wernick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cute en levensbedreigende toestand van totale uitputting en ontreddering/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trograde amne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Het geheug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 – lang – dir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halamus – cortex -Hippocampus (limbisch systeem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xpliciet (bewust; episodisch en semantisch) en impliciet (onbewus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xecutieve funct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itiëren: vermogen om met taken of handelingen te begin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hiberen; vermogen om taken of handelingen te beëindigen en impulsen af te r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isteren: vermogen om een taak of handeling vol te hou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rganiseren; vermogen om deelactiviteiten op elkaar af te st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dapteren; vermogen om (alternatieve) oplossingen te beden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bstraheren; vermogen om afstand te nemen van het concre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uperviseren: vermogen om eigen gedrag te overzien en zo nodig te corrige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heugenstoorniss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nterograde amnesie </a:t>
            </a:r>
            <a:r>
              <a:rPr b="0" lang="nl-NL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 ophaalstoornis van nieuw opgeslagen informatie en desoriëntati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Retrograde amnesie; lange termijn geheu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chronogenesis; moeite met juiste tijdlij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fabulere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Desoriëntatie vooral in tijd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pathie; problemen met het initiëren van gedrag ≠ onwil maar falen van de w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lanningsstoornissen en bijsturen van gedrag; vasthouden en afronden van handelin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brek aan ziekte-inzi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nzekerheid en faalangst; verzeilen in situaties die je niet kunt overzien en bijstur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ordeels- en kritiek stoorn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ersevereren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cretisme (niet abstract kunnen denken;spreekwoorden en gezegden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Sociaal isolement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Lichamelijke aandoeningen: loopstoornissen (dronkemansloop), leverstoornissen, polyneuropathieën!!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Normaal intellect en niet progressie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6:48:01Z</dcterms:created>
  <dc:creator>u00r2i1</dc:creator>
  <dc:description/>
  <dc:language>en-US</dc:language>
  <cp:lastModifiedBy>Willem Gilsing</cp:lastModifiedBy>
  <dcterms:modified xsi:type="dcterms:W3CDTF">2016-03-15T11:02:43Z</dcterms:modified>
  <cp:revision>14</cp:revision>
  <dc:subject/>
  <dc:title>Syndroom van Korsakoff</dc:title>
</cp:coreProperties>
</file>