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2B8-06CD-449B-954C-9D14B6E0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06EF-F768-419C-9235-5927DD9F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E36-E215-473D-BADA-1686B9DA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4F2-1FA3-4D21-9343-0766C4A5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6447-FF28-42C1-B797-D68041DB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8A64-6B8D-4B3B-BF25-23CF9DE6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39A6-7865-4AD9-8DE3-B6FA69B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FB81-694A-44FC-B2FA-AAB9AC3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844D-B383-4024-9718-31A01EC7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2CFD-442C-4E8C-9E6C-E902ABF7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6908-F0DC-443E-99ED-0E0B7B6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780-8CE9-4710-9E72-22FBE1E7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7526-77B4-4439-9875-74BD380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3C0-00B3-4255-ADF3-87E24C9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68BC-E041-4567-9AAC-D33B7187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8925-68F5-4C4A-A9A5-AA8F31C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82CA-92DC-4151-865D-366E8D88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E62-AF6A-4738-A2DC-CCA753EB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9EB-9A70-4F77-9F26-882A54FC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25A-44D1-4568-AE7B-51BE480E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30B-6CB2-46E2-AD5B-70DED0A2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916-C92A-4389-B834-190B094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0A8-5508-4F33-9750-010F761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26C-8320-4D78-AC87-423A03A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DDAA-A534-43D3-8903-5BD641F7C0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53F-DB6C-4202-908C-23120E5392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3vHAXFpHqs" TargetMode="External"/><Relationship Id="rId2" Type="http://schemas.openxmlformats.org/officeDocument/2006/relationships/hyperlink" Target="https://www.youtube.com/watch?v=LpV3yAlyBa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Syndroom van Korsakoff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youtube.com/watch?v=n3vHAXFpHqs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s://www.youtube.com/watch?v=LpV3yAlyB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mgang m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4 K’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kr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sekwe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ti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29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 </a:t>
            </a:r>
            <a:r>
              <a:rPr b="0" lang="nl-NL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re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 k’s als basis voor ED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h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iet aangeboren hersenletse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nietiging van hersencellen t.g.v. alcoholmisbruik in combinatie met vit B1 (thiamine) deficiëntie óf ten gevolge van hersentrauma of vergiftiging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Ziekte van Wernic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wustzijnsveranderingen en 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a (en mogelijk dodelijke afloop als er niet meteen thiamine wordt gegev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ystagmus (oogbewegingsstoorn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venwichtsstoornissen/loopstoornissen (atax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verfunctiestoornissen horen niet bij deze ziekte, maar zie je als alcoholisme de oorzaak van Wernick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path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lirium tremens: hallucinaties, tremoren. (Epilepsie is een apart en groot probleem bij alcoholonttrekking, maar is geen onderdeel van Wernick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cute en levensbedreigende toestand van totale uitputting en ontreddering/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trograde amne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Het geheug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 – lang – dir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halamus – cortex -Hippocampus (limbisch systee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xpliciet (bewust; episodisch en semantisch) en impliciet (onbewus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xecutieve func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itiëren: vermogen om met taken of handelingen te beg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hiberen; vermogen om taken of handelingen te beëindigen en impulsen af te r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isteren: vermogen om een taak of handeling vol te hou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rganiseren; vermogen om deelactiviteiten op elkaar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eren; vermogen om (alternatieve) oplossingen te beden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bstraheren; vermogen om afstand te nemen van het concr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uperviseren: vermogen om eigen gedrag te overzien en zo nodig te corrig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heugenstoorniss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nterograde amnesie </a:t>
            </a:r>
            <a:r>
              <a:rPr b="0" lang="nl-NL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 ophaalstoornis van nieuw opgeslagen informatie en desoriënt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Retrograde amnesie; lange termijn geheu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chronogenesis; moeite met juiste tijdlij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fabulere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soriëntatie vooral in tijd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pathie; problemen met het initiëren van gedrag ≠ onwil maar falen van de w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lanningsstoornissen en bijsturen van gedrag; vasthouden en afronden van handelin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brek aan ziekte-inzi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nzekerheid en faalangst; verzeilen in situaties die je niet kunt overzien en bijstu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ordeels- en kritiek stoorn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erseverere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cretisme (niet abstract kunnen denken;spreekwoorden en gezegden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Sociaal isolemen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Lichamelijke aandoeningen: loopstoornissen (dronkemansloop), leverstoornissen, polyneuropathieën!!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Normaal intellect en niet progressie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48:01Z</dcterms:created>
  <dc:creator>u00r2i1</dc:creator>
  <dc:description/>
  <dc:language>en-US</dc:language>
  <cp:lastModifiedBy>Willem Gilsing</cp:lastModifiedBy>
  <dcterms:modified xsi:type="dcterms:W3CDTF">2016-03-15T11:02:43Z</dcterms:modified>
  <cp:revision>14</cp:revision>
  <dc:subject/>
  <dc:title>Syndroom van Korsakoff</dc:title>
</cp:coreProperties>
</file>