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026-4049-4A6F-8B76-6BCE7795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2B4-B367-4BAE-82AE-66BF7396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E19-F859-45CA-86C0-E4EC94DA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4BD-CA67-4BA8-B282-62696E72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9701-DC7F-46C0-AF52-7138A7E9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D217-5F3F-46A8-AA99-162ED6E7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A320-02A0-4D4E-BA41-C0B1E291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79BC-1EBB-4294-95A1-9B5F017A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8EB4-A05B-411A-B394-BB7D1539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A1E6-CBBB-44EE-824A-931B8BB7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958D-28F4-40FA-91C2-BCEAEA56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0B3-4D77-413A-8EB9-8555398A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A58A-EDAB-4674-A81B-3518587A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A690-D3BC-44D2-AD4C-429F6FF9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BA36-DF7D-4769-BBAC-600E5E9E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6C2C-9A17-4AA5-94AC-97623BB7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487D-4CA0-4B76-83D5-EAD30F6D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77C-2D34-404D-9FB5-D51047E2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083-7AA7-425A-9F23-D221CA92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BAD-1E4C-4F37-8F45-BF69139A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DFD-A565-4C44-A53C-240088F7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6BB-ECAC-405B-8DF5-5D693D20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2EB6-6D58-4E42-9DBA-ACEE64AE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3F1-C8C2-4C12-9121-590E7941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F7B7-221E-4774-B317-B3EC125B79F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A5BA-F3F5-4501-86EC-A56F774AE94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3vHAXFpHqs" TargetMode="External"/><Relationship Id="rId2" Type="http://schemas.openxmlformats.org/officeDocument/2006/relationships/hyperlink" Target="https://www.youtube.com/watch?v=LpV3yAlyBa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6666"/>
                </a:solidFill>
                <a:latin typeface="Arial"/>
              </a:rPr>
              <a:t>Syndroom van Korsakoff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youtube.com/watch?v=n3vHAXFpHqs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s://www.youtube.com/watch?v=LpV3yAlyBa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mgang me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4 K’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kre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sekwen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ti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29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K </a:t>
            </a:r>
            <a:r>
              <a:rPr b="0" lang="nl-NL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kre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5 k’s als basis voor ED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he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iet aangeboren hersenletsel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nietiging van hersencellen t.g.v. alcoholmisbruik in combinatie met vit B1 (thiamine) deficiëntie óf ten gevolge van hersentrauma of vergiftiging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Ziekte van Wernick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wustzijnsveranderingen en verwardhe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a (en mogelijk dodelijke afloop als er niet meteen thiamine wordt gegev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ystagmus (oogbewegingsstoorni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venwichtsstoornissen/loopstoornissen (atax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everfunctiestoornissen horen niet bij deze ziekte, maar zie je als alcoholisme de oorzaak van Wernicke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path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lirium tremens: hallucinaties, tremoren. (Epilepsie is een apart en groot probleem bij alcoholonttrekking, maar is geen onderdeel van Wernick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cute en levensbedreigende toestand van totale uitputting en ontreddering/verwardhe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trograde amne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Het geheug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rt – lang – dir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halamus – cortex -Hippocampus (limbisch systeem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xpliciet (bewust; episodisch en semantisch) en impliciet (onbewus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xecutieve funct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itiëren: vermogen om met taken of handelingen te begin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hiberen; vermogen om taken of handelingen te beëindigen en impulsen af te rem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isteren: vermogen om een taak of handeling vol te hou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rganiseren; vermogen om deelactiviteiten op elkaar af te stem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dapteren; vermogen om (alternatieve) oplossingen te bedenk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bstraheren; vermogen om afstand te nemen van het concre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uperviseren: vermogen om eigen gedrag te overzien en zo nodig te corrige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ymptomen Korsakov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heugenstoorniss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nterograde amnesie </a:t>
            </a:r>
            <a:r>
              <a:rPr b="0" lang="nl-NL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 ophaalstoornis van nieuw opgeslagen informatie en desoriëntati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Retrograde amnesie; lange termijn geheug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chronogenesis; moeite met juiste tijdlij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Confabulere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ymptomen Korsakov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Desoriëntatie vooral in tijd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pathie; problemen met het initiëren van gedrag ≠ onwil maar falen van de wi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Planningsstoornissen en bijsturen van gedrag; vasthouden en afronden van handeling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Gebrek aan ziekte-inzic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Onzekerheid en faalangst; verzeilen in situaties die je niet kunt overzien en bijstur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Oordeels- en kritiek stoorn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Persevereren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Concretisme (niet abstract kunnen denken;spreekwoorden en gezegden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Sociaal isolement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Lichamelijke aandoeningen: loopstoornissen (dronkemansloop), leverstoornissen, polyneuropathieën!!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Normaal intellect en niet progressie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6:48:01Z</dcterms:created>
  <dc:creator>u00r2i1</dc:creator>
  <dc:description/>
  <dc:language>en-US</dc:language>
  <cp:lastModifiedBy>Willem Gilsing</cp:lastModifiedBy>
  <dcterms:modified xsi:type="dcterms:W3CDTF">2016-03-15T11:02:43Z</dcterms:modified>
  <cp:revision>14</cp:revision>
  <dc:subject/>
  <dc:title>Syndroom van Korsakoff</dc:title>
</cp:coreProperties>
</file>