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584-CC93-4C66-AA8E-2DADCF8E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2C6-D51A-4FFC-8B17-4B8C73BD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8DA-7E5D-493D-8049-85092E7C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6EC-026F-42B1-8E2F-6749A747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CD69-DAE7-41A5-BB9D-02E31BF0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8AB3-B0C6-4A69-8CA7-A3C45EA1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F941-4616-4F4C-AF22-2944920C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A641-7E81-4BAC-B3DB-26A8B848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27C0-DB9F-4C30-B511-EA8F8BF7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07FB-BB9B-442A-9CC7-F2AC7A37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B406-B4B3-4E46-A2D7-196F07BC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2DA-8DFA-4C92-9509-2283DA81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D891-47CF-4F51-A943-EC8A4B71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30B0-613E-446E-A3B4-75FEB69E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4ACB-0CA3-48DD-B5EF-EF706E07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DB14-9D2F-429F-8DAB-82F3C61B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545F-A3C0-4899-8E89-212652B2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5E2-7C81-4462-A653-F7D62D18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767-7489-41B3-A85B-6694EAE8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DE4-346E-4A7B-811B-AB0668CA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700-E38B-4D74-A660-37F3A343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A5A-65CE-4F8B-85B8-4814E0BA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9C4-78D1-47AC-B31E-058BB3B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BA3-B83B-4C90-B2C5-6658DC6B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9682-8598-4BF9-B745-9773F49021B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8722-255F-4F52-9002-5DC9669E13C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3vHAXFpHqs" TargetMode="External"/><Relationship Id="rId2" Type="http://schemas.openxmlformats.org/officeDocument/2006/relationships/hyperlink" Target="https://www.youtube.com/watch?v=LpV3yAlyBa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6666"/>
                </a:solidFill>
                <a:latin typeface="Arial"/>
              </a:rPr>
              <a:t>Syndroom van Korsakoff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youtube.com/watch?v=n3vHAXFpHqs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s://www.youtube.com/watch?v=LpV3yAlyBa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mgang me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4 K’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kre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sekwen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ti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29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K </a:t>
            </a:r>
            <a:r>
              <a:rPr b="0" lang="nl-NL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kre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5 k’s als basis voor ED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he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iet aangeboren hersenletsel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nietiging van hersencellen t.g.v. alcoholmisbruik in combinatie met vit B1 (thiamine) deficiëntie óf ten gevolge van hersentrauma of vergiftiging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Ziekte van Wernick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wustzijnsveranderingen en verward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a (en mogelijk dodelijke afloop als er niet meteen thiamine wordt gegev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ystagmus (oogbewegingsstoorni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venwichtsstoornissen/loopstoornissen (atax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verfunctiestoornissen horen niet bij deze ziekte, maar zie je als alcoholisme de oorzaak van Wernicke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path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lirium tremens: hallucinaties, tremoren. (Epilepsie is een apart en groot probleem bij alcoholonttrekking, maar is geen onderdeel van Wernick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cute en levensbedreigende toestand van totale uitputting en ontreddering/verward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trograde amne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Het geheug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rt – lang – dir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halamus – cortex -Hippocampus (limbisch systeem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xpliciet (bewust; episodisch en semantisch) en impliciet (onbewus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xecutieve funct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itiëren: vermogen om met taken of handelingen te begin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hiberen; vermogen om taken of handelingen te beëindigen en impulsen af te r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isteren: vermogen om een taak of handeling vol te hou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rganiseren; vermogen om deelactiviteiten op elkaar af te st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dapteren; vermogen om (alternatieve) oplossingen te beden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bstraheren; vermogen om afstand te nemen van het concre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uperviseren: vermogen om eigen gedrag te overzien en zo nodig te corrige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ymptomen Korsakov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heugenstoorniss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nterograde amnesie </a:t>
            </a:r>
            <a:r>
              <a:rPr b="0" lang="nl-NL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 ophaalstoornis van nieuw opgeslagen informatie en desoriëntati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Retrograde amnesie; lange termijn geheu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chronogenesis; moeite met juiste tijdlij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Confabulere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ymptomen Korsako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Desoriëntatie vooral in tijd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pathie; problemen met het initiëren van gedrag ≠ onwil maar falen van de w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Planningsstoornissen en bijsturen van gedrag; vasthouden en afronden van handelin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Gebrek aan ziekte-inzi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Onzekerheid en faalangst; verzeilen in situaties die je niet kunt overzien en bijstur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Oordeels- en kritiek stoorn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Persevereren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Concretisme (niet abstract kunnen denken;spreekwoorden en gezegden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Sociaal isolement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Lichamelijke aandoeningen: loopstoornissen (dronkemansloop), leverstoornissen, polyneuropathieën!!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Normaal intellect en niet progressie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6:48:01Z</dcterms:created>
  <dc:creator>u00r2i1</dc:creator>
  <dc:description/>
  <dc:language>en-US</dc:language>
  <cp:lastModifiedBy>Willem Gilsing</cp:lastModifiedBy>
  <dcterms:modified xsi:type="dcterms:W3CDTF">2016-03-15T11:02:43Z</dcterms:modified>
  <cp:revision>14</cp:revision>
  <dc:subject/>
  <dc:title>Syndroom van Korsakoff</dc:title>
</cp:coreProperties>
</file>