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E4A108-E643-447E-A9C7-E8C2989BC65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29CA41-25AE-45A1-9ECB-675A852AF24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Ondernemen voor dummies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9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ip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week 10 t/m 13 goed door alvorens je een afspraak maak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a allemaal naar het bedrijf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foto’s en maak aantekeningen (neem het gesprek op)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06T09:04:35Z</dcterms:modified>
  <cp:revision>210</cp:revision>
  <dc:subject/>
  <dc:title>PowerPoint Presentation</dc:title>
</cp:coreProperties>
</file>