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EB9E526-C4AF-4DF6-8B52-118051EB817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6E66449-5030-4FF2-951D-B95F5A623BD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6AB5860-992C-4929-AFF3-31B93039BCB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oonheffing op je salaris als je een dienstbetrekking hebt is een voorheff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 het jaar vul je je eigen specifieke situatie in op het aangifteformuli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 1 april het volgende jaar moet dit bij de Belastingdienst zij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oed en slim invullen kan veel geld besparen!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akijken huiswerk pag. 7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6985080" cy="469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826920" y="5661000"/>
            <a:ext cx="58341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8000" y="1170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vesteringsaftrek (28% van de investering tussen 2.300 en 55.000 euro, daarna steeds minder aftrek tot 0 % bij 307.00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nergie-investeringsaftrek (41,5% van het investeringsbedra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liezen uit 3 voorgaande jaren mogen verrekend worden (of 9 jaar voorui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scale oudedagsreserve (voor pensioenopbouw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aftrek (ongeveer 7.200 eur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rtersaftrek (2.100 euro) de eerste drie 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KB vrijstelling (14%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eewerkaftrek voor partn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30 novemb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gave 2 en 3 pagina 7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e herhal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rekenen inkomsten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enstelsel WET IB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125360"/>
            <a:ext cx="871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Afbeelding 3" descr=""/>
          <p:cNvPicPr/>
          <p:nvPr/>
        </p:nvPicPr>
        <p:blipFill>
          <a:blip r:embed="rId1"/>
          <a:srcRect l="54834" t="43605" r="17957" b="30934"/>
          <a:stretch/>
        </p:blipFill>
        <p:spPr>
          <a:xfrm>
            <a:off x="395280" y="1844640"/>
            <a:ext cx="820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lar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winst uit  eenmanszaak, VOF, CV, M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(0,6% van de WOZ waarde – hypotheekrentekosten, nooit een bijtelling bij lage of geen rentekos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utokostenforfait als je auto van de zaak privé gebruikt (maximaal 25% van de cataloguswaarde van de aut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orfait is een wettelijk vastgesteld bedrag of percentage dat in plaats komt van de werkelijk inkomsten of uitga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oeveel belasting betaal je bij een inkomen van 80.000 euro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4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971640" y="836640"/>
            <a:ext cx="6546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19.822 x 36,5% =   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7.235,0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33.589 – 19.822 =  13.767 x 42% =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5.781,72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57.585 - 33.589 =  23.996 x 42% =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            10.078,32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80.000 – 57.585 =  22.415 x 52% = 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         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Calibri"/>
                <a:ea typeface="Calibri"/>
              </a:rPr>
              <a:t> 11.655,80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totaal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            34.750,8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vidend van aandelen (als je meer dan 5% van de aandelen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erswinst bij verkoop van deze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asting is altijd 25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,2% belasting over je vermogen boven de 21.139,-- euro (per persoo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 huis en roerende zaken (auto, boot, schilderij) tellen niet me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gemene heffingskorting (ongeveer 2000 euro en wordt lager als je meer verdien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rbeidskorting (als je in loondienst bent of een eigen bedrijf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leenstaande 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uderen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16T15:36:32Z</dcterms:modified>
  <cp:revision>157</cp:revision>
  <dc:subject/>
  <dc:title>PowerPoint Presentation</dc:title>
</cp:coreProperties>
</file>