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41003E4-EB34-4ED5-A1D8-E8E7FD078DB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7BA979E-72BD-4FC8-8753-0D52F86DC9C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65 t/m 77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t gaan we doen vandaag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rte herhal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nakijk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erken aan ondernemendheid voor Dummie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Nakijken huiswer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opgave 23 t/m 28 pagina 317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pgave 23: antwoord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C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pgave 24: antwoord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pgave 25: antwoord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C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pgave 26: antwoord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igenwoningforfait 0,6% van 260.000  =    1.56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ypotheekrenteaftrek 7% van 220.000 =  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15.40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rmindering belastbaar inkomen            13.84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pgave 27: antwoord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C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pgave 28: antwoord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36b20"/>
                </a:solidFill>
                <a:latin typeface="Arial"/>
              </a:rPr>
              <a:t>18 januari 2016: toets pag. 65 t/m  88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36b20"/>
                </a:solidFill>
                <a:latin typeface="Arial"/>
              </a:rPr>
              <a:t>Insturen </a:t>
            </a:r>
            <a:r>
              <a:rPr b="1" lang="fr-FR" sz="2400" spc="-1" strike="noStrike" u="sng">
                <a:solidFill>
                  <a:srgbClr val="136b20"/>
                </a:solidFill>
                <a:uFillTx/>
                <a:latin typeface="Arial"/>
              </a:rPr>
              <a:t>voor</a:t>
            </a:r>
            <a:r>
              <a:rPr b="1" lang="fr-FR" sz="2400" spc="-1" strike="noStrike">
                <a:solidFill>
                  <a:srgbClr val="136b20"/>
                </a:solidFill>
                <a:latin typeface="Arial"/>
              </a:rPr>
              <a:t> 18 december: opdrachten van week 13 van ondernemendheid voor Dummie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36b20"/>
                </a:solidFill>
                <a:latin typeface="Arial"/>
              </a:rPr>
              <a:t>Prettige  vakantie!!!!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5-12-18T09:05:21Z</dcterms:modified>
  <cp:revision>160</cp:revision>
  <dc:subject/>
  <dc:title>PowerPoint Presentation</dc:title>
</cp:coreProperties>
</file>