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9E067E7-FC83-4B2F-B558-7E68A263C6C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AECDCF6-E7EE-4BE8-8B54-C5CD8ADE9DA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Ondernemen voor dummies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9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ips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ees week 10 t/m 13 goed door alvorens je een afspraak maakt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a allemaal naar het bedrijf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k foto’s en maak aantekeningen (neem het gesprek op)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1-06T09:04:35Z</dcterms:modified>
  <cp:revision>210</cp:revision>
  <dc:subject/>
  <dc:title>PowerPoint Presentation</dc:title>
</cp:coreProperties>
</file>