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71800" y="-36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23400" y="749160"/>
            <a:ext cx="4986360" cy="374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71800" y="9477000"/>
            <a:ext cx="2960640" cy="500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AF77674-2DAD-43BD-90E5-CC536525FF5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3760" y="749160"/>
            <a:ext cx="4986360" cy="3740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jdelijke aanduiding voor dianummer 3"/>
          <p:cNvSpPr/>
          <p:nvPr/>
        </p:nvSpPr>
        <p:spPr>
          <a:xfrm>
            <a:off x="3871800" y="9477360"/>
            <a:ext cx="296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31141C3-4324-4953-B2C4-C530C7735F6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5388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99400" y="98100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80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5388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99400" y="3952080"/>
            <a:ext cx="280512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8680" y="279360"/>
            <a:ext cx="7772400" cy="19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360" y="395208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8680" y="2552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2360" y="981000"/>
            <a:ext cx="425124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8000" y="3952080"/>
            <a:ext cx="871200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136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136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36b2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9360" y="377028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8000" spc="-1" strike="noStrike">
                <a:solidFill>
                  <a:srgbClr val="ffffff"/>
                </a:solidFill>
                <a:latin typeface="Arial"/>
              </a:rPr>
              <a:t>Pag 12 t/m 43</a:t>
            </a:r>
            <a:endParaRPr b="1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156360" y="5157720"/>
            <a:ext cx="266544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4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1849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1680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84320" y="1268280"/>
            <a:ext cx="8955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1440" y="2602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73976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Antwoord pagina 26 opdracht 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84404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8680" y="27936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Opdrachten voor deze week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981000"/>
            <a:ext cx="8712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Laat het ingevulde schema van de verschillende ondernemingsvormen zien.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pagina 45 + 57 t/m 60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36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136b20"/>
                </a:solidFill>
                <a:latin typeface="Arial"/>
              </a:rPr>
              <a:t>Maken “week 7” van Ondernemendheid voor Dummies</a:t>
            </a: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36b2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7453440" cy="23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ert Keijsers</dc:creator>
  <dc:description/>
  <dc:language>en-US</dc:language>
  <cp:lastModifiedBy>Geert Keijsers</cp:lastModifiedBy>
  <dcterms:modified xsi:type="dcterms:W3CDTF">2015-10-15T14:56:19Z</dcterms:modified>
  <cp:revision>204</cp:revision>
  <dc:subject/>
  <dc:title>PowerPoint Presentation</dc:title>
</cp:coreProperties>
</file>