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E19353-6659-47A2-A569-EF03CA700CF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DB9C73A-CE8C-4039-8629-68AA1F251F0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6CC7166-0D62-4D0D-A55F-39E4D2829D2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65 t/m 77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enstelsel WET IB 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-360" y="1125360"/>
            <a:ext cx="8712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7" name="Afbeelding 3" descr=""/>
          <p:cNvPicPr/>
          <p:nvPr/>
        </p:nvPicPr>
        <p:blipFill>
          <a:blip r:embed="rId1"/>
          <a:srcRect l="54834" t="43605" r="17957" b="30934"/>
          <a:stretch/>
        </p:blipFill>
        <p:spPr>
          <a:xfrm>
            <a:off x="395280" y="1844640"/>
            <a:ext cx="8209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1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alar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ndernemerswinst uit  eenmanszaak, VOF, CV, MT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woningforfait (0,6% van de WOZ waarde – hypotheekrentekosten, nooit een bijtelling bij lage of geen rentekost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utokostenforfait als je auto van de zaak privé gebruikt (maximaal 25% van de cataloguswaarde van de auto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forfait is een wettelijk vastgesteld bedrag of percentage dat in plaats komt van de werkelijk inkomsten of uitgav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oeveel belasting betaal je in box 1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692280"/>
            <a:ext cx="87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2" name="Afbeelding 4" descr=""/>
          <p:cNvPicPr/>
          <p:nvPr/>
        </p:nvPicPr>
        <p:blipFill>
          <a:blip r:embed="rId1"/>
          <a:srcRect l="66053" t="45211" r="15284" b="27745"/>
          <a:stretch/>
        </p:blipFill>
        <p:spPr>
          <a:xfrm>
            <a:off x="971640" y="836640"/>
            <a:ext cx="65466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2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vidend van aandelen (als je meer dan 5% van de aandelen hebt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Koerswinst bij verkoop van deze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asting is altijd 25%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ox 3: wat valt hierond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1,2% belasting over je vermogen boven de 21.139,-- euro (per persoo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igen huis en roerende zaken (auto, boot, schilderij) tellen niet mee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Huiswerk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Pagina 78 opgave 1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13T14:56:55Z</dcterms:modified>
  <cp:revision>155</cp:revision>
  <dc:subject/>
  <dc:title>PowerPoint Presentation</dc:title>
</cp:coreProperties>
</file>