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C055CCF-F425-40D9-8CC9-ADFE156C984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241797-AAA3-4F25-947F-5CC845C7C77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E2DDEF-AFBA-474F-9D84-C7ADBE5D24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ndheid voor Dummies: presentat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7:27Z</dcterms:modified>
  <cp:revision>160</cp:revision>
  <dc:subject/>
  <dc:title>PowerPoint Presentation</dc:title>
</cp:coreProperties>
</file>