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40689FD-4978-499D-9DDE-394337DE5CF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5508E17-71E3-44EA-8653-FD87F285544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9 en 60 opdracht 6, 7 en 8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rcRect l="10960" t="19386" r="0" b="7190"/>
          <a:stretch/>
        </p:blipFill>
        <p:spPr>
          <a:xfrm>
            <a:off x="1619280" y="2590920"/>
            <a:ext cx="5468760" cy="4176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2"/>
          <a:srcRect l="0" t="68321" r="0" b="0"/>
          <a:stretch/>
        </p:blipFill>
        <p:spPr>
          <a:xfrm>
            <a:off x="1547640" y="1341360"/>
            <a:ext cx="475308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huiswe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9 november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Toets pagina 9 t/m 64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ek 8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666880" y="2637000"/>
            <a:ext cx="36496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eze week af hebbe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In BV: vermogen wordt verkregen door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        het uitgeven van aandel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Jij geeft bijvoorbeeld 1000 euro en krijgt 1 aandeel van 1000 euro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e maken onderscheid in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atschappelijk kapitaal: maximaal bedrag waarvoor aandelen uitgegeven mogen word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plaatst kapitaal: uitgegeven aandelen (niet geplaatste aandelen “liggen nog in de kast” en worden uitgegeven als kapitaal nodig i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stort kapitaal: kapitaal dat de aandeelhouders hebben betaald voor de aandelen aan de BV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Zie schema pagina 36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45 opdracht 1 en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839016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eenmansza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240" y="691920"/>
            <a:ext cx="871236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erd loo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gewaarde rente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79208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economisch resultaat (= vergoeding voor risico)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xploitatie overzicht B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160" y="810720"/>
            <a:ext cx="8712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mze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Directe kosten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ruto wins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Bedrijfskosten (personeel (ook jezelf), huisvesting etc.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bedrijfsresulta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- rente vreemd vermogen (van de bank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winst voor 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buClr>
                <a:srgbClr val="136b20"/>
              </a:buClr>
              <a:buFont typeface="Arial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nnootschapsbelasting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1828800"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= netto winst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7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811044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77007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58 opdracht 3 t/m 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5014" t="3042" r="11623" b="6822"/>
          <a:stretch/>
        </p:blipFill>
        <p:spPr>
          <a:xfrm>
            <a:off x="684360" y="1484280"/>
            <a:ext cx="63068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23T14:48:38Z</dcterms:modified>
  <cp:revision>209</cp:revision>
  <dc:subject/>
  <dc:title>PowerPoint Presentation</dc:title>
</cp:coreProperties>
</file>