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A199288-63D0-4004-A2D8-0F665E3771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FBB83A-67D9-42BD-90C7-0613360F48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14 dec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3 t/m 28 pagina 31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ven terugkomen op de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lmpje kijken over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nakijk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chijven volmak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80.000 – 19.822 = 60.178 (schijf 1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60.178 – (33.589 – 19.823) = 46.412 (schijf 2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46.412 – (57.585 – 33.590) = 22.417 (schijf 3 is vol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22.417 valt in schijf 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tal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1)                                 19.822 X 0,365 =   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2) (33.589 – 19.823 =) 13.766 X 0,42 =    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3) (57.585 – 33.590 =) 23.995 X 0,42 =  10.077,90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(4)                       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22.417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X 0,52 =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11.656,8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7372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 u="sng">
                <a:solidFill>
                  <a:srgbClr val="136b20"/>
                </a:solidFill>
                <a:uFillTx/>
                <a:latin typeface="Arial"/>
              </a:rPr>
              <a:t>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      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80.000                 34.751,49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4932360" y="0"/>
            <a:ext cx="421164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leg over inkomstenbelasting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ttps://www.youtube.com/watch?v=8av4tDj7ppU  </a:t>
            </a:r>
            <a:r>
              <a:rPr b="1" lang="nl-NL" sz="900" spc="-1" strike="noStrike">
                <a:solidFill>
                  <a:srgbClr val="136b20"/>
                </a:solidFill>
                <a:latin typeface="Arial"/>
              </a:rPr>
              <a:t>tot 12,40 min.</a:t>
            </a:r>
            <a:endParaRPr b="1" lang="en-US" sz="9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977760" y="2060640"/>
            <a:ext cx="745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 pag. 78 opdr.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727200" y="2276640"/>
            <a:ext cx="7656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Directe in indirect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en indirecte belastingen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belastingen: worden direct geheven bij de persoon (bv. loon- en inkomstenbelastin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: worden niet direct bij de belastingplichtige geheven (bv. BTW, overdrachtsbelasting, accijns, invoerrech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directe belastingen worden geheven van de leveranciers van goederen en dienst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 belastingen worden doorberekend en consument betaalt uiteindelij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T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TW is belasting toegevoegde waard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rie tariev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0% o.a onderwijs, gezondheidszorg, verzekeringen, bankdien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6% (verlaagd tarief) o.a. levensmiddelen, boeken, bioscoop, kapper, popconcer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21% (standaard tarief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drijf moet ieder maand of om de drie maanden BTW aangifte do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27T15:15:31Z</dcterms:modified>
  <cp:revision>160</cp:revision>
  <dc:subject/>
  <dc:title>PowerPoint Presentation</dc:title>
</cp:coreProperties>
</file>