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8A6E9EF-9665-4657-A797-9E97A2588CF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E514BFA-5B5F-414A-9AE8-2001DBFD382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Verdeling van de winst bij een VOF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Wat brengt iedere vennoot in bij de VOF?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Arbeid (tij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Vermogen (geld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Beloning is dus hiervan afhankelijk….dus uiteindelijke beloning per vennoot op het einde van het jaar bestaat uit: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Een vast bedrag voor de arbeid (gemaakte uren)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ntevergoeding voor ingelegde g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Resterende winst (of verlies) wordt verdeeld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Opdracht: in je mailbox zit onderstaand             schema. Vul dit schema zo volledig mogelijk                    in (in Word). De informatie haal je uit pagina 12 t/m 43 van je boek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Sla dit document op. 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24 + 25 + 26 van het boek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6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07960" y="2924280"/>
            <a:ext cx="60800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08T11:43:50Z</dcterms:modified>
  <cp:revision>201</cp:revision>
  <dc:subject/>
  <dc:title>PowerPoint Presentation</dc:title>
</cp:coreProperties>
</file>