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82959B-EF8B-48A1-9A1F-F4AC25B982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F4B7B45-D87B-4EAB-AB2B-8BB7C21589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portal.citaverde.nl/" TargetMode="External"/><Relationship Id="rId2" Type="http://schemas.openxmlformats.org/officeDocument/2006/relationships/hyperlink" Target="http://www.wikiwijs.nl/lom/preview/dXJuOndpa2l3aWpzbWFrZW46Mzg3MzQ=/485729602/d2lraXdpanNtYWtlbjozODczNA==?extraInfo=titel_link_vanaf_gevonden_resultaten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493560" y="1844640"/>
            <a:ext cx="80899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407880" y="2708280"/>
            <a:ext cx="87123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1116000" y="1658880"/>
            <a:ext cx="6192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6328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125280" y="2205000"/>
            <a:ext cx="8624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ebruiksaanwijzing Excel opdrac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764640"/>
            <a:ext cx="8712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1: ga naar: </a:t>
            </a: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portal.citaverde.nl/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2: Log in met je eigen gegeven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3: Kopieer de link die je hieronder ziet nadat je ingelogd bent. Je komt dan terecht op Wikiwijs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p 4: Kopieer de link nogmaals. Je bent dan bij de opdrach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wikiwijs.nl/lom/preview/dXJuOndpa2l3aWpzbWFrZW46Mzg3MzQ=/485729602/d2lraXdpanNtYWtlbjozODczNA==?extraInfo=titel_link_vanaf_gevonden_resultaten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 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tussentoets 1. Lukt dit niet: maak les 1 t/m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580212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ge leerjaar 2 bespre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 samen met jouw buurman/buurvrouw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: Excel opdrach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: 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toets pag. 107 t/m 136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1 tot en met 23 pagina 125 t/m 12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85057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23880" y="1844640"/>
            <a:ext cx="8497800" cy="252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755640" y="4121280"/>
            <a:ext cx="822492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11548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77840" y="2421000"/>
            <a:ext cx="8353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243000" y="3141720"/>
            <a:ext cx="8442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9711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20T09:58:48Z</dcterms:modified>
  <cp:revision>193</cp:revision>
  <dc:subject/>
  <dc:title>PowerPoint Presentation</dc:title>
</cp:coreProperties>
</file>