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943306-E514-409F-B24F-405D2337BC6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A6F074-A58E-492D-AEA5-C9C16901A43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9 en 60 opdracht 6, 7 en 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10960" t="19386" r="0" b="7190"/>
          <a:stretch/>
        </p:blipFill>
        <p:spPr>
          <a:xfrm>
            <a:off x="1619280" y="2590920"/>
            <a:ext cx="546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rcRect l="0" t="68321" r="0" b="0"/>
          <a:stretch/>
        </p:blipFill>
        <p:spPr>
          <a:xfrm>
            <a:off x="1547640" y="1341360"/>
            <a:ext cx="47530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 novemb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ts pagina 9 t/m 6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ek 8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666880" y="263700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BV: vermogen wordt verkregen door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het uitgeven van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ij geeft bijvoorbeeld 1000 euro en krijgt 1 aandeel van 1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 maken onderscheid i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tschappelijk kapitaal: maximaal bedrag waarvoor aandelen uitgegeven mogen w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plaatst kapitaal: uitgegeven aandelen (niet geplaatste aandelen “liggen nog in de kast” en worden uitgegeven als kapitaal nodig 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stort kapitaal: kapitaal dat de aandeelhouders hebben betaald voor de aandelen aan de BV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schema pagina 36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45 opdracht 1 en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390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eenmansza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240" y="691920"/>
            <a:ext cx="871236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erd loo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 ren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economisch resultaat (= vergoeding voor risico)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B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" y="81072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 (ook jezelf)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winst voor 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nnootschaps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7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11044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7700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3 t/m 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5014" t="3042" r="11623" b="6822"/>
          <a:stretch/>
        </p:blipFill>
        <p:spPr>
          <a:xfrm>
            <a:off x="684360" y="1484280"/>
            <a:ext cx="63068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23T14:48:38Z</dcterms:modified>
  <cp:revision>209</cp:revision>
  <dc:subject/>
  <dc:title>PowerPoint Presentation</dc:title>
</cp:coreProperties>
</file>