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D4C54A-BF4F-466F-9345-6D440E7894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323115-38B8-4B08-B1EA-C44997879C6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deling van de winst bij een V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rengt iedere vennoot in bij de VO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 (tij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ogen (gel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oning is dus hiervan afhankelijk….dus uiteindelijke beloning per vennoot op het einde van het jaar bestaat uit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vast bedrag voor de arbeid (gemaakte ur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vergoeding voor ingelegde g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erende winst (of verlies) wordt verde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dracht: in je mailbox zit onderstaand             schema. Vul dit schema zo volledig mogelijk                    in (in Word). De informatie haal je uit pagina 12 t/m 43 van je boe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la dit document op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24 + 25 + 26 van het bo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6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07960" y="2924280"/>
            <a:ext cx="60800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08T11:43:50Z</dcterms:modified>
  <cp:revision>201</cp:revision>
  <dc:subject/>
  <dc:title>PowerPoint Presentation</dc:title>
</cp:coreProperties>
</file>