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38836EE-F341-4EF8-A10E-B07AF3CE0B3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FA254FC-3120-4AC4-AE28-EC2336123FE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JDvAlmySth0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07 t/m 136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Tijdelijke aanduiding voor inhoud 3" descr=""/>
          <p:cNvPicPr/>
          <p:nvPr/>
        </p:nvPicPr>
        <p:blipFill>
          <a:blip r:embed="rId1"/>
          <a:srcRect l="26551" t="63219" r="51572" b="24899"/>
          <a:stretch/>
        </p:blipFill>
        <p:spPr>
          <a:xfrm>
            <a:off x="611280" y="2060640"/>
            <a:ext cx="7632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11040" y="2997360"/>
            <a:ext cx="797400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Tijdelijke aanduiding voor inhoud 3" descr=""/>
          <p:cNvPicPr/>
          <p:nvPr/>
        </p:nvPicPr>
        <p:blipFill>
          <a:blip r:embed="rId1"/>
          <a:srcRect l="2480" t="11317" r="81654" b="68723"/>
          <a:stretch/>
        </p:blipFill>
        <p:spPr>
          <a:xfrm>
            <a:off x="1187280" y="1989000"/>
            <a:ext cx="6264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08040" y="1773360"/>
            <a:ext cx="7580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Tijdelijke aanduiding voor inhoud 3" descr=""/>
          <p:cNvPicPr/>
          <p:nvPr/>
        </p:nvPicPr>
        <p:blipFill>
          <a:blip r:embed="rId1"/>
          <a:srcRect l="2480" t="51249" r="81654" b="36382"/>
          <a:stretch/>
        </p:blipFill>
        <p:spPr>
          <a:xfrm>
            <a:off x="755640" y="2133720"/>
            <a:ext cx="6696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5961240" cy="280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900000" y="3952800"/>
            <a:ext cx="649944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Tijdelijke aanduiding voor inhoud 3" descr=""/>
          <p:cNvPicPr/>
          <p:nvPr/>
        </p:nvPicPr>
        <p:blipFill>
          <a:blip r:embed="rId1"/>
          <a:srcRect l="24960" t="25652" r="56860" b="45329"/>
          <a:stretch/>
        </p:blipFill>
        <p:spPr>
          <a:xfrm>
            <a:off x="1258920" y="1628640"/>
            <a:ext cx="6265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kstvak 3"/>
          <p:cNvSpPr/>
          <p:nvPr/>
        </p:nvSpPr>
        <p:spPr>
          <a:xfrm>
            <a:off x="412920" y="189000"/>
            <a:ext cx="8135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ezettingsversch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kstvak 4"/>
          <p:cNvSpPr/>
          <p:nvPr/>
        </p:nvSpPr>
        <p:spPr>
          <a:xfrm>
            <a:off x="179280" y="1968480"/>
            <a:ext cx="741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Lezen blz. 114 2.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Als de vooraf ingeschatte bezetting uiteindelijk anders blijkt ontstaat er bezettingsverschi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Leg uit aan je buurman wat wordt bedoeld met bezettingsverschi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Formu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(Werkelijke bezetting – Normale bezetting) x uurkostprij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Let op: vermenigvuldig met uurkostprijs, niet met uurtarie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13 juni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k opdracht 10 blz. 123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k opdracht 25 t/m 28 blz 323 en 32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36b20"/>
                </a:solidFill>
                <a:latin typeface="Arial"/>
              </a:rPr>
              <a:t>27 juni:  toets pag. 107 t/m 136</a:t>
            </a:r>
            <a:endParaRPr b="1" lang="en-US" sz="40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049480" y="2205000"/>
            <a:ext cx="53942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 gaan we het vandaag over hebb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menvatten vorige week, incl. filmpj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werking 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machine uurtarief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zettingsverschi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komende week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amenvatting kost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weten we nog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finitie kostprijs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kostprijs is het totaalbedrag van de offers die noodzakelijk zijn om een artikel of dienst te kunnen lever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ffers zijn onder te verdelen in twee groepen. Welk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: noodzakelijke onvermijdbare offers voorbeel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v. grondstoffen, huur pand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spillingen: niet noodzakelijke offers en te voorkomen vpoorbeel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v. slordigheid, weinig teamgeest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lk artikel of dienst heeft zijn eigen kost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voudige methoden die in de praktijk veel gebruikt worden om de kostprijs te kunnen berekenen zij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manuurtarief (ambachtelijke dienstverlenin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machine-uurtarief (productiebedrijv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opslagmetho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rutowinstopslag (detailhandel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et manuurtar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egepast bij bedrijven die geld verdienen doo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al uren bij een klant in rekening te brengen. Loodgieter, schilder, advoca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4140360" y="3429000"/>
            <a:ext cx="238104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erschil uurkostprijs en manuurtar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is vergoeding voo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bedrijfskosten en materiaal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nuurtarief is vergoeding voo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uurkostprijs en winstopsla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932360" y="4149720"/>
            <a:ext cx="1428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mpje over het berekenen van het manuurtarief gemaakt door Kv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www.youtube.com/watch?v=JDvAlmySth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itwerking 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ze week af hebb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dracht 1 tot en met 6 pagina 121, 122 en 12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………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1" name="Afbeelding 3" descr=""/>
          <p:cNvPicPr/>
          <p:nvPr/>
        </p:nvPicPr>
        <p:blipFill>
          <a:blip r:embed="rId1"/>
          <a:srcRect l="26551" t="35253" r="51572" b="56708"/>
          <a:stretch/>
        </p:blipFill>
        <p:spPr>
          <a:xfrm>
            <a:off x="611280" y="3855960"/>
            <a:ext cx="4730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Tijdelijke aanduiding voor inhoud 3" descr=""/>
          <p:cNvPicPr/>
          <p:nvPr/>
        </p:nvPicPr>
        <p:blipFill>
          <a:blip r:embed="rId1"/>
          <a:srcRect l="26551" t="42594" r="51572" b="36087"/>
          <a:stretch/>
        </p:blipFill>
        <p:spPr>
          <a:xfrm>
            <a:off x="250920" y="1844640"/>
            <a:ext cx="849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6-06T07:18:49Z</dcterms:modified>
  <cp:revision>190</cp:revision>
  <dc:subject/>
  <dc:title>PowerPoint Presentation</dc:title>
</cp:coreProperties>
</file>