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7180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923400" y="749160"/>
            <a:ext cx="4986360" cy="374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7180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FB09AA2-A0D0-475C-AB49-D36EB65BBAE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ijdelijke aanduiding voor dianumm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97C4628-9E5A-40DA-9271-7296341B025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s://portal.citaverde.nl/" TargetMode="External"/><Relationship Id="rId2" Type="http://schemas.openxmlformats.org/officeDocument/2006/relationships/hyperlink" Target="http://www.wikiwijs.nl/lom/preview/dXJuOndpa2l3aWpzbWFrZW46Mzg3MzQ=/485729602/d2lraXdpanNtYWtlbjozODczNA==?extraInfo=titel_link_vanaf_gevonden_resultaten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9360" y="377028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8000" spc="-1" strike="noStrike">
                <a:solidFill>
                  <a:srgbClr val="ffffff"/>
                </a:solidFill>
                <a:latin typeface="Arial"/>
              </a:rPr>
              <a:t>Pag 107 t/m 136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156360" y="5157720"/>
            <a:ext cx="266544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493560" y="1844640"/>
            <a:ext cx="808992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407880" y="2708280"/>
            <a:ext cx="871236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1116000" y="1658880"/>
            <a:ext cx="6192720" cy="47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863280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125280" y="2205000"/>
            <a:ext cx="86248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Gebruiksaanwijzing Excel opdrach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08000" y="764640"/>
            <a:ext cx="87120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Stap 1: ga naar: </a:t>
            </a:r>
            <a:r>
              <a:rPr b="1" lang="nl-NL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s://portal.citaverde.nl/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 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Stap 2: Log in met je eigen gegeven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Stap 3: Kopieer de link die je hieronder ziet nadat je ingelogd bent. Je komt dan terecht op Wikiwijs.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Stap 4: Kopieer de link nogmaals. Je bent dan bij de opdracht.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wikiwijs.nl/lom/preview/dXJuOndpa2l3aWpzbWFrZW46Mzg3MzQ=/485729602/d2lraXdpanNtYWtlbjozODczNA==?extraInfo=titel_link_vanaf_gevonden_resultaten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 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ak tussentoets 1. Lukt dit niet: maak les 1 t/m 4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huiswe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36b20"/>
                </a:solidFill>
                <a:latin typeface="Arial"/>
              </a:rPr>
              <a:t>27 juni:  toets pag. 107 t/m 136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116" name="Picture 5" descr=""/>
          <p:cNvPicPr/>
          <p:nvPr/>
        </p:nvPicPr>
        <p:blipFill>
          <a:blip r:embed="rId1"/>
          <a:stretch/>
        </p:blipFill>
        <p:spPr>
          <a:xfrm>
            <a:off x="1619280" y="2852640"/>
            <a:ext cx="5802120" cy="38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Waar gaan we het vandaag over hebben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samenvatten vorige week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Stage leerjaar 2 besprek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uiswerk nakijken samen met jouw buurman/buurvrouw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ken: Excel opdrach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uiswerk voor komende week: </a:t>
            </a:r>
            <a:r>
              <a:rPr b="1" lang="fr-FR" sz="2400" spc="-1" strike="noStrike">
                <a:solidFill>
                  <a:srgbClr val="136b20"/>
                </a:solidFill>
                <a:latin typeface="Arial"/>
              </a:rPr>
              <a:t>toets pag. 107 t/m 136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Uitwerking huiswe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eze week af hebben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ken opdracht 11 tot en met 23 pagina 125 t/m 129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Nakijken………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250920" y="3284640"/>
            <a:ext cx="850572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623880" y="1844640"/>
            <a:ext cx="8497800" cy="2521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755640" y="4121280"/>
            <a:ext cx="8224920" cy="11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539640" y="1989000"/>
            <a:ext cx="811548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177840" y="2421000"/>
            <a:ext cx="83534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243000" y="3141720"/>
            <a:ext cx="844236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79711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ert Keijsers</dc:creator>
  <dc:description/>
  <dc:language>en-US</dc:language>
  <cp:lastModifiedBy>Geert Keijsers</cp:lastModifiedBy>
  <dcterms:modified xsi:type="dcterms:W3CDTF">2016-06-20T09:58:48Z</dcterms:modified>
  <cp:revision>193</cp:revision>
  <dc:subject/>
  <dc:title>PowerPoint Presentation</dc:title>
</cp:coreProperties>
</file>