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0D3F97-BEC8-4AB5-AD3E-58B417DA73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C32224-5183-401C-8554-6B3AB79F85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rken a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3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4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5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6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0,6% van 260.000  =    1.5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ypotheekrenteaftrek 7% van 220.00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5.4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indering belastbaar inkomen            13.8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7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8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Insturen </a:t>
            </a:r>
            <a:r>
              <a:rPr b="1" lang="fr-FR" sz="2400" spc="-1" strike="noStrike" u="sng">
                <a:solidFill>
                  <a:srgbClr val="136b20"/>
                </a:solidFill>
                <a:uFillTx/>
                <a:latin typeface="Arial"/>
              </a:rPr>
              <a:t>voor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 18 december: opdrachten van week 13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Prettige  vakantie!!!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5:21Z</dcterms:modified>
  <cp:revision>160</cp:revision>
  <dc:subject/>
  <dc:title>PowerPoint Presentation</dc:title>
</cp:coreProperties>
</file>