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1F30ED-FDAB-44E0-9F01-1ED91F60AC9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9F5D42-E2BA-49D2-B369-4271484A851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4Le1r0iqX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37 t/m 1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 / toe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rijsberekening in de detailhand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r nu eerst …….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omzet van een 17 jarig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4Le1r0iqX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jonge gameverbeteraar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p8ipdcWSew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succesvolle internetverkop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E33Oi_gzr48#t=96.1956488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16 jarige internet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R4Awdg-zr34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: de totale geldopbrengst                           (exclusief BTW) van alle in een bepaalde              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: de totale inkoopprijs exclusief BTW van de in een bepaalde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verschil tussen de omzet en de inkoopwaarde van de 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pagina 13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i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lefsgGAX3WU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__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Bru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huur, personeel, afschrijving etc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s kosten eraf zijn houd je nettowinst ove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brutowinst en net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wb-M6TR9A6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rutowinstop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winkel maakt kosten voor producten                          te verkopen zoal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vestingskosten, personeel, lenen van geld, reclame enz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kosten noemen w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of exploitatiekost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worden doorberekend via een opslag op de inkoopprijs. Dit noemen we de 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us: inkoopprijs + brutowinstopslag = verkoopprijs exclusief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snelle manier om                 verkoopprijs te bereken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0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W opslag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ex. BTW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21% van 190%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39,9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29,9% vd inkoop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229,9 : 100 = 2,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rekenen van de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lopige verkoopprijs berek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x brutowinstopslag x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aarna definitieve verkoopprijs vaststellen door naar boven of onder af te ron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/m 6 pagina 140 en 141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4T14:08:19Z</dcterms:modified>
  <cp:revision>193</cp:revision>
  <dc:subject/>
  <dc:title>PowerPoint Presentation</dc:title>
</cp:coreProperties>
</file>