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8D8C048-6C9C-40B2-B8D0-25106AEEC81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76D420-8FD5-415C-A961-55CB853E7DA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Ondernemen voor dummies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9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ip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week 10 t/m 13 goed door alvorens je een afspraak maak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a allemaal naar het bedrijf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foto’s en maak aantekeningen (neem het gesprek op)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06T09:04:35Z</dcterms:modified>
  <cp:revision>210</cp:revision>
  <dc:subject/>
  <dc:title>PowerPoint Presentation</dc:title>
</cp:coreProperties>
</file>