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427202-0217-4375-B617-FBACE587D0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28BE70-089D-4109-B228-9DEC98B0C4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84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16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4320" y="1268280"/>
            <a:ext cx="895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97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40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aat het ingevulde schema van de verschillende ondernemingsvormen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74534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15T14:56:19Z</dcterms:modified>
  <cp:revision>204</cp:revision>
  <dc:subject/>
  <dc:title>PowerPoint Presentation</dc:title>
</cp:coreProperties>
</file>