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7180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C2F6097-E1C9-4113-BECE-43A635D9CFD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089B745-B9A6-45F1-A33E-E151266E6D6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000" spc="-1" strike="noStrike">
                <a:solidFill>
                  <a:srgbClr val="ffffff"/>
                </a:solidFill>
                <a:latin typeface="Arial"/>
              </a:rPr>
              <a:t>Pag 12 t/m 43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56360" y="5157720"/>
            <a:ext cx="2665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Verdeling van de winst bij een VO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at brengt iedere vennoot in bij de VOF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rbeid (tijd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ermogen (geld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loning is dus hiervan afhankelijk….dus uiteindelijke beloning per vennoot op het einde van het jaar bestaat uit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en vast bedrag voor de arbeid (gemaakte uren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Rentevergoeding voor ingelegde geld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Resterende winst (of verlies) wordt verdeeld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Opdrachten voor deze week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pdracht: in je mailbox zit onderstaand             schema. Vul dit schema zo volledig mogelijk                    in (in Word). De informatie haal je uit pagina 12 t/m 43 van je boek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la dit document op.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 pagina 24 + 25 + 26 van het boek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 “week 6” van Ondernemendheid voor Dummie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507960" y="2924280"/>
            <a:ext cx="6080040" cy="26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ert Keijsers</dc:creator>
  <dc:description/>
  <dc:language>en-US</dc:language>
  <cp:lastModifiedBy>Geert Keijsers</cp:lastModifiedBy>
  <dcterms:modified xsi:type="dcterms:W3CDTF">2015-10-08T11:43:50Z</dcterms:modified>
  <cp:revision>201</cp:revision>
  <dc:subject/>
  <dc:title>PowerPoint Presentation</dc:title>
</cp:coreProperties>
</file>