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E5AC1E-3C74-443F-A2FE-D44B392C56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070B38-D96A-47C2-BD2E-29670930EA7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1849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168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4320" y="1268280"/>
            <a:ext cx="8955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976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40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aat het ingevulde schema van de verschillende ondernemingsvormen zi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74534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15T14:56:19Z</dcterms:modified>
  <cp:revision>204</cp:revision>
  <dc:subject/>
  <dc:title>PowerPoint Presentation</dc:title>
</cp:coreProperties>
</file>