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32600" cy="99790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32800" cy="99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60640" cy="5000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dt" idx="1"/>
          </p:nvPr>
        </p:nvSpPr>
        <p:spPr>
          <a:xfrm>
            <a:off x="3871800" y="-360"/>
            <a:ext cx="2960640" cy="5000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sldImg"/>
          </p:nvPr>
        </p:nvSpPr>
        <p:spPr>
          <a:xfrm>
            <a:off x="923400" y="749160"/>
            <a:ext cx="4986360" cy="3740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body"/>
          </p:nvPr>
        </p:nvSpPr>
        <p:spPr>
          <a:xfrm>
            <a:off x="682560" y="4739760"/>
            <a:ext cx="5469120" cy="44895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9477000"/>
            <a:ext cx="2960640" cy="5000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3871800" y="9477000"/>
            <a:ext cx="2960640" cy="5000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D04D03D7-D8E9-4DC1-A69D-E5D6B29D4227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923760" y="749160"/>
            <a:ext cx="4986360" cy="37404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2560" y="4739760"/>
            <a:ext cx="5469120" cy="44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Tijdelijke aanduiding voor dianummer 3"/>
          <p:cNvSpPr/>
          <p:nvPr/>
        </p:nvSpPr>
        <p:spPr>
          <a:xfrm>
            <a:off x="3871800" y="9477360"/>
            <a:ext cx="29606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108DEFE9-FEFE-4D9A-BC87-F0F88E45C9ED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08000" y="395208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57236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5388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9940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0800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5388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9940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58680" y="279360"/>
            <a:ext cx="77724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36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08000" y="395208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57236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05388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9940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0800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05388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9940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58680" y="279360"/>
            <a:ext cx="77724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36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136b2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136b2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79360" y="3770280"/>
            <a:ext cx="885672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8000" spc="-1" strike="noStrike">
                <a:solidFill>
                  <a:srgbClr val="ffffff"/>
                </a:solidFill>
                <a:latin typeface="Arial"/>
              </a:rPr>
              <a:t>Pag 90 t/m 106</a:t>
            </a:r>
            <a:endParaRPr b="1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6156360" y="5157720"/>
            <a:ext cx="266544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Afschrijven met een vast percentage van de aanschafwaarde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pic>
        <p:nvPicPr>
          <p:cNvPr id="103" name="Picture 3" descr=""/>
          <p:cNvPicPr/>
          <p:nvPr/>
        </p:nvPicPr>
        <p:blipFill>
          <a:blip r:embed="rId1"/>
          <a:stretch/>
        </p:blipFill>
        <p:spPr>
          <a:xfrm>
            <a:off x="5076720" y="3860640"/>
            <a:ext cx="381024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Afschrijven met een vast percentage van de boekwaarde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In voorbeeld wordt met 20% van de boekwaarde afgeschreven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pic>
        <p:nvPicPr>
          <p:cNvPr id="106" name="Picture 2" descr=""/>
          <p:cNvPicPr/>
          <p:nvPr/>
        </p:nvPicPr>
        <p:blipFill>
          <a:blip r:embed="rId1"/>
          <a:stretch/>
        </p:blipFill>
        <p:spPr>
          <a:xfrm>
            <a:off x="2771640" y="2855880"/>
            <a:ext cx="5224680" cy="350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08000" y="981000"/>
            <a:ext cx="8712000" cy="56880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Nakijken huiswerk: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136b20"/>
                </a:solidFill>
                <a:latin typeface="Arial"/>
              </a:rPr>
              <a:t>Opgave 1t/m 6 pag. 98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Antwoord opgave 1 pagina 98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470 x 0,28 = 131,60               470 x 0,32 =  150,40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520 x 1,60 = </a:t>
            </a:r>
            <a:r>
              <a:rPr b="1" lang="nl-NL" sz="2400" spc="-1" strike="noStrike" u="sng">
                <a:solidFill>
                  <a:srgbClr val="136b20"/>
                </a:solidFill>
                <a:uFillTx/>
                <a:latin typeface="Arial"/>
              </a:rPr>
              <a:t>832,00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               520 x 1,90 =  </a:t>
            </a:r>
            <a:r>
              <a:rPr b="1" lang="nl-NL" sz="2400" spc="-1" strike="noStrike" u="sng">
                <a:solidFill>
                  <a:srgbClr val="136b20"/>
                </a:solidFill>
                <a:uFillTx/>
                <a:latin typeface="Arial"/>
              </a:rPr>
              <a:t>988,00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Totaal           962,60                                   1138,40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Verschil 1138,40 – 962,60 =  175,80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Antwoord opgave 2 pagina 98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Picture 2" descr=""/>
          <p:cNvPicPr/>
          <p:nvPr/>
        </p:nvPicPr>
        <p:blipFill>
          <a:blip r:embed="rId1"/>
          <a:srcRect l="0" t="0" r="40049" b="0"/>
          <a:stretch/>
        </p:blipFill>
        <p:spPr>
          <a:xfrm>
            <a:off x="442800" y="2637000"/>
            <a:ext cx="8147160" cy="35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Antwoord opgave 3 pagina 98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Picture 2" descr=""/>
          <p:cNvPicPr/>
          <p:nvPr/>
        </p:nvPicPr>
        <p:blipFill>
          <a:blip r:embed="rId1"/>
          <a:stretch/>
        </p:blipFill>
        <p:spPr>
          <a:xfrm>
            <a:off x="469800" y="2492280"/>
            <a:ext cx="847260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Opgave 4 pagina 98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pic>
        <p:nvPicPr>
          <p:cNvPr id="120" name="Picture 4" descr=""/>
          <p:cNvPicPr/>
          <p:nvPr/>
        </p:nvPicPr>
        <p:blipFill>
          <a:blip r:embed="rId1"/>
          <a:srcRect l="0" t="0" r="55853" b="0"/>
          <a:stretch/>
        </p:blipFill>
        <p:spPr>
          <a:xfrm>
            <a:off x="692280" y="2276640"/>
            <a:ext cx="711828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Opgave 5 pagina 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24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pic>
        <p:nvPicPr>
          <p:cNvPr id="123" name="Picture 4" descr=""/>
          <p:cNvPicPr/>
          <p:nvPr/>
        </p:nvPicPr>
        <p:blipFill>
          <a:blip r:embed="rId1"/>
          <a:stretch/>
        </p:blipFill>
        <p:spPr>
          <a:xfrm>
            <a:off x="971640" y="1557360"/>
            <a:ext cx="6653160" cy="408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Opgave 6 pagina 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pic>
        <p:nvPicPr>
          <p:cNvPr id="126" name="Picture 4" descr=""/>
          <p:cNvPicPr/>
          <p:nvPr/>
        </p:nvPicPr>
        <p:blipFill>
          <a:blip r:embed="rId1"/>
          <a:stretch/>
        </p:blipFill>
        <p:spPr>
          <a:xfrm>
            <a:off x="109440" y="2349360"/>
            <a:ext cx="841536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Wat gaan we doen vandaag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Huiswerk af? Controle………. 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136b20"/>
                </a:solidFill>
                <a:latin typeface="Arial"/>
              </a:rPr>
              <a:t>Huiswerk voor maandag 11 april: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136b20"/>
                </a:solidFill>
                <a:latin typeface="Arial"/>
              </a:rPr>
              <a:t>Opgave 1t/m 6 pag. 98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Terugblik op vorige week, werken in tweetallen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Uitleg afschrijven naar aanschafwaarde en afschrijven naar boekwaarde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Nakijken huiswerk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Nieuwe opgaven maken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Opgave 7 pagina 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pic>
        <p:nvPicPr>
          <p:cNvPr id="129" name="Picture 4" descr=""/>
          <p:cNvPicPr/>
          <p:nvPr/>
        </p:nvPicPr>
        <p:blipFill>
          <a:blip r:embed="rId1"/>
          <a:srcRect l="3301" t="0" r="19305" b="0"/>
          <a:stretch/>
        </p:blipFill>
        <p:spPr>
          <a:xfrm>
            <a:off x="587520" y="2133720"/>
            <a:ext cx="8046720" cy="23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Opgave 8 pagina 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pic>
        <p:nvPicPr>
          <p:cNvPr id="132" name="Picture 2" descr=""/>
          <p:cNvPicPr/>
          <p:nvPr/>
        </p:nvPicPr>
        <p:blipFill>
          <a:blip r:embed="rId1"/>
          <a:stretch/>
        </p:blipFill>
        <p:spPr>
          <a:xfrm>
            <a:off x="520560" y="2492280"/>
            <a:ext cx="846468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Huiswerk voor maandag 18 apri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Pagina 319 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Opgave 1 t/m 12 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024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Bespreek in tweetallen en schrijf op wat is: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136b2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Grondstoffen?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136b2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Hulpstoffen?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136b2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DPM?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136b2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Vervangingswaarde DPM?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136b2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Welke (3) kosten komen er bij voorraad?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136b2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Afschrijving?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136b2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Technische levensduur?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136b2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Economische levensduur?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136b2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Afschrijven naar boekwaarde?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136b2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Restwaarde?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136b2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Geef 4 voorbeelden van diensten van derden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    </a:t>
            </a:r>
            <a:r>
              <a:rPr b="1" lang="nl-NL" sz="1200" spc="-1" strike="noStrike">
                <a:solidFill>
                  <a:srgbClr val="136b20"/>
                </a:solidFill>
                <a:latin typeface="Arial"/>
              </a:rPr>
              <a:t>https://www.youtube.com/watch?v=FMprcjk0yD8  </a:t>
            </a:r>
            <a:endParaRPr b="1" lang="en-US" sz="1200" spc="-1" strike="noStrike">
              <a:solidFill>
                <a:srgbClr val="136b2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136b2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Vorm groepjes van vier personen en vergelijk de antwoorden. Kom tot eenduidige antwoorden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https://www.youtube.com/watch?v=oGEclJGWq9k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kostensoort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Met welke kostensoorten heeft een bedrijf te maken?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Kosten van grondstoffen en hulpstoffen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Kosten van gebouwen, machines enz. (dpm’s)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Kosten van arbeid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Kosten van diensten van derden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Kosten van kostprijsverhogende belastingen en heffingen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voorraadkost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Welke kosten zitten er aan het hebben van voorraad?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De drie R’s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Ruimte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Rente 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Risico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Levensduur van een dp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Technische levensduur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Economische levensduur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Technisch: hoe lang gaat het dpm mee?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Economisch: hoe lang duurt het voordat een nieuw dpm het werk efficiënter dan verrichten?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Afschrijving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Wat is afschrijving?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De waardevermindering van een dpm gedurende een jaar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Wat is de restwaarde?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De waarde van het dpm als het is afgeschreven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Afschrijving = 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   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(aanschafwaarde – restwaarde) : levensduur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Bv           10.000      - 2.000              : 4   = 2.000 euro/jaar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Twee manieren van afschrijv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Afschrijven met een vast percentage van de aanschafprijs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Afschrijven met een vast percentage van de boekwaarde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Filmpje afschrijven naar aanschafkosten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 </a:t>
            </a:r>
            <a:r>
              <a:rPr b="1" lang="nl-NL" sz="2400" spc="-1" strike="noStrike" u="sng">
                <a:solidFill>
                  <a:srgbClr val="136b20"/>
                </a:solidFill>
                <a:uFillTx/>
                <a:latin typeface="Arial"/>
              </a:rPr>
              <a:t>http://www.youtube.com/watch?v=XFX63ZjR7F4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136b2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Calibri"/>
                <a:ea typeface="Calibri"/>
              </a:rPr>
              <a:t>filmpje kosten van duurzame productiemiddelen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http://www.youtube.com/watch?v=TsUqg4jb4PI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filmpje over afschrijven naar aanschaf- en boekwaarde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 </a:t>
            </a:r>
            <a:r>
              <a:rPr b="1" lang="nl-NL" sz="2400" spc="-1" strike="noStrike" u="sng">
                <a:solidFill>
                  <a:srgbClr val="136b20"/>
                </a:solidFill>
                <a:uFillTx/>
                <a:latin typeface="Arial"/>
              </a:rPr>
              <a:t>http://www.youtube.com/watch?v=WNzttJlN7dk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eert Keijsers</dc:creator>
  <dc:description/>
  <dc:language>en-US</dc:language>
  <cp:lastModifiedBy>Geert Keijsers</cp:lastModifiedBy>
  <dcterms:modified xsi:type="dcterms:W3CDTF">2016-04-11T08:19:50Z</dcterms:modified>
  <cp:revision>161</cp:revision>
  <dc:subject/>
  <dc:title>PowerPoint Presentation</dc:title>
</cp:coreProperties>
</file>