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56DCC27-B4DA-445D-A803-DE3C441D290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C6EF41-11C2-4A63-88C6-BBE1CFD61E3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2 t/m 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9 en 60 opdracht 6, 7 en 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rcRect l="10960" t="19386" r="0" b="7190"/>
          <a:stretch/>
        </p:blipFill>
        <p:spPr>
          <a:xfrm>
            <a:off x="1619280" y="2590920"/>
            <a:ext cx="5468760" cy="417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rcRect l="0" t="68321" r="0" b="0"/>
          <a:stretch/>
        </p:blipFill>
        <p:spPr>
          <a:xfrm>
            <a:off x="1547640" y="1341360"/>
            <a:ext cx="475308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9 novemb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ets pagina 9 t/m 6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ek 8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666880" y="2637000"/>
            <a:ext cx="36496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week af hebb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pagina 45 + 57 t/m 6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7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 BV: vermogen wordt verkregen door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het uitgeven van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Jij geeft bijvoorbeeld 1000 euro en krijgt 1 aandeel van 100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 maken onderscheid i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tschappelijk kapitaal: maximaal bedrag waarvoor aandelen uitgegeven mogen wo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plaatst kapitaal: uitgegeven aandelen (niet geplaatste aandelen “liggen nog in de kast” en worden uitgegeven als kapitaal nodig 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stort kapitaal: kapitaal dat de aandeelhouders hebben betaald voor de aandelen aan de BV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Zie schema pagina 36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45 opdracht 1 en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39016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ploitatie overzicht eenmansza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240" y="691920"/>
            <a:ext cx="871236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ruto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Bedrijfskosten (personeel, huisvesting etc.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edrijfsresulta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rente vreemd vermogen (van de bank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Netto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waardeerd loo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waarde rent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economisch resultaat (= vergoeding voor risico)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ploitatie overzicht B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160" y="810720"/>
            <a:ext cx="8712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ruto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Bedrijfskosten (personeel (ook jezelf), huisvesting etc.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edrijfsresulta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rente vreemd vermogen (van de bank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winst voor 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nnootschaps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netto wins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1440" y="2602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7 opdracht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811044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1440" y="2602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8 opdracht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7700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8 opdracht 3 t/m 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5014" t="3042" r="11623" b="6822"/>
          <a:stretch/>
        </p:blipFill>
        <p:spPr>
          <a:xfrm>
            <a:off x="684360" y="1484280"/>
            <a:ext cx="630684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0-23T14:48:38Z</dcterms:modified>
  <cp:revision>209</cp:revision>
  <dc:subject/>
  <dc:title>PowerPoint Presentation</dc:title>
</cp:coreProperties>
</file>