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AD274B9-F5EF-449D-BF55-F04E5B55FF4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4BDF9F9-A2E5-4DE7-AB86-6A4E1B513F2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07 t/m 13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et machine-uurtar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ees pagina 111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edere machine heeft eigen uurtarief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kosten verdelen volgens verdeelsleut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kosten per machine : normale bezet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uurtarief per machin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851280" y="4535640"/>
            <a:ext cx="2125800" cy="1755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1979640" y="4562640"/>
            <a:ext cx="1468440" cy="183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6443640" y="4575240"/>
            <a:ext cx="237168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 tot en met 9 pagina 121,122 en 12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136b20"/>
                </a:solidFill>
                <a:latin typeface="Arial"/>
              </a:rPr>
              <a:t>Antw. Pag. 15</a:t>
            </a:r>
            <a:endParaRPr b="1" lang="en-US" sz="8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5292720" y="2986200"/>
            <a:ext cx="3267000" cy="3286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395280" y="360360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zelfstandig ondernem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komende week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Quiz……………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lke kosten zitten in een kostprijs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le bedrijfskost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betekent begroot?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af ingescha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zijn indirecte kost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die niet precies toegewezen kunnen worden aan een product of dienst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een man-uurtarief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arief waarin alle kosten en de winst verrekend zij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het verschil tussen de uurkostprijs en het manuurtarief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is excl. winst, manuurtarief inclusief wins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320" y="279360"/>
            <a:ext cx="89060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oe bereken je het manuurtarief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uurkostprijs wordt op basis van begrot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geschatte) jaarcijfers berekend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Je hebt hiervoor nodig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grote bedrijfs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aantal directe arbeidsu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uurkostprijs bereken je door de begrote bedrijfskosten te delen door het aantal directe bedrijfsur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beeld berekening uurkostprij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le kosten:                                              250.000 euro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 aantal directe uren:                             4.500 ur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= 250.000 : 4.500 = 55,56 euro per 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rekening manuurtarief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+ winstopslag = manuurtarief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55,56             +    9,44            =  65,00 euro per 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4.500 X 9,44 = 42.480,00 euro 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                       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320" y="279360"/>
            <a:ext cx="897732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urkostprijs bij een zelfstandig ondernemer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8280" y="620640"/>
            <a:ext cx="8712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e begrote bedrijfskosten komend jaar: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Salaris (12 maanden x 1.750,- euro)    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akantiegeld (8%)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Inkomstenbelasting (ca. 30%)  totaal                 29.484,-              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pensio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4.8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rbeidsongeschiktheidsverzekering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3.0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fschrijving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3.8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dministratie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1.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Inventaris / kantoor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Rente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1.35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erkoop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uto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3.000,- 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erzekering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                         </a:t>
            </a:r>
            <a:r>
              <a:rPr b="1" lang="nl-NL" sz="1800" spc="-1" strike="noStrike" u="sng">
                <a:solidFill>
                  <a:srgbClr val="136b20"/>
                </a:solidFill>
                <a:uFillTx/>
                <a:latin typeface="Arial"/>
              </a:rPr>
              <a:t>   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bedrijfs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                       48.434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Het aantal directe arbeidsuren komend jaar: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(52 weken x 5 dagen) – 30 vakantiedagen = 230 dagen x 8 = 1840 uu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C)   Uurprijs = 48.434 : 1840 =  26,32 euro per uu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40% declarabel: (40% van 1840 = ) 736 uur   48.434 : 736 = 65,80 per uur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genoemde voorbeeld in beel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  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s://www.youtube.com/watch?v=9ChmvsBFV3U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IVgyp-dXZmo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2195640" y="2557440"/>
            <a:ext cx="543384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mpje over het berekenen van het manuurtarief gemaakt door Kv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s://www.youtube.com/watch?v=JDvAlmySth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en huiswerk van vorige 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5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6: antwoord 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7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8a: antwoord 53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8b: antwoord 29.42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9: antwoord 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0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1: antwoord B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2: antwoord 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3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4: antwoord B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5-30T07:46:07Z</dcterms:modified>
  <cp:revision>183</cp:revision>
  <dc:subject/>
  <dc:title>PowerPoint Presentation</dc:title>
</cp:coreProperties>
</file>