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4005360"/>
            <a:ext cx="8208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4000" spc="-1" strike="noStrike">
                <a:solidFill>
                  <a:srgbClr val="ffffff"/>
                </a:solidFill>
                <a:latin typeface="Arial"/>
              </a:rPr>
              <a:t>Mini-onderneming</a:t>
            </a:r>
            <a:br>
              <a:rPr sz="4800"/>
            </a:br>
            <a:r>
              <a:rPr b="1" i="1" lang="nl-NL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intro.mp3" descr=""/>
          <p:cNvPicPr/>
          <p:nvPr/>
        </p:nvPicPr>
        <p:blipFill>
          <a:blip r:embed="rId1"/>
          <a:stretch/>
        </p:blipFill>
        <p:spPr>
          <a:xfrm>
            <a:off x="7164360" y="4221000"/>
            <a:ext cx="14292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6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8680" y="264600"/>
            <a:ext cx="7772400" cy="4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erdo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an het einde van de les weet je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oe de beoordeling tot stand komt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oe de komende weken van ondernemen eruit zie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oe je begeleider op dit moment tegen je prestaties aankijkt.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oordeling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alt onder proevethema’s.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Criterium voor overgang = max. 2 tekorten in de proevethema’s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noveren = cijfer voor eerste verslag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ndernemendheid (= gedrag) = pitch + cijfer docen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nancieel = versla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etwerken = versla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nderne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mende wek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17/3 = presentatie wat tot nu toe bereikt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31/3 = Verslag maken + uitleg financieel + gesprek met groep cijfer tussenbeoordeling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7/4 financiële onderbouwing (toevoegen aan verslag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14/4 inleveren verslag en presentatie voorbereiden.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21/4 presentat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12/5 gesprek met begeleider (verantwoording gemaakte keuzes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19/5 Uitleg BPV opdracht en reflecti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nderne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houd verslag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1</a:t>
            </a:r>
            <a:r>
              <a:rPr b="1" lang="nl-NL" sz="2400" spc="-1" strike="noStrike" baseline="30000">
                <a:solidFill>
                  <a:srgbClr val="136b20"/>
                </a:solidFill>
                <a:latin typeface="Arial"/>
              </a:rPr>
              <a:t>e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oriëntatie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zet marktonderzoek (met onderbouwing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ijze van uitvoering (met onderbouwing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Resultaten marktonderzoe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oto prototype + toelichting waar je tegenaan liep bij maken ervan.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ijzigingen aan 1</a:t>
            </a:r>
            <a:r>
              <a:rPr b="1" lang="nl-NL" sz="2400" spc="-1" strike="noStrike" baseline="30000">
                <a:solidFill>
                  <a:srgbClr val="136b20"/>
                </a:solidFill>
                <a:latin typeface="Arial"/>
              </a:rPr>
              <a:t>e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idee op basis van marktonderzoek.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nderne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arschuwing indien onvoldoende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800" spc="-1" strike="noStrike">
                <a:solidFill>
                  <a:srgbClr val="ffffff"/>
                </a:solidFill>
                <a:latin typeface="Arial"/>
              </a:rPr>
              <a:t>Bedankt voor uw aandach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0:07:13Z</dcterms:created>
  <dc:creator>Marvin</dc:creator>
  <dc:description/>
  <dc:language>en-US</dc:language>
  <cp:lastModifiedBy>Gonnie de Boer</cp:lastModifiedBy>
  <dcterms:modified xsi:type="dcterms:W3CDTF">2016-03-15T09:44:09Z</dcterms:modified>
  <cp:revision>255</cp:revision>
  <dc:subject/>
  <dc:title>PowerPoint Presentation</dc:title>
</cp:coreProperties>
</file>