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400536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ini-onderneming</a:t>
            </a:r>
            <a:br>
              <a:rPr sz="4800"/>
            </a:br>
            <a:r>
              <a:rPr b="1" i="1" lang="nl-NL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intro.mp3" descr=""/>
          <p:cNvPicPr/>
          <p:nvPr/>
        </p:nvPicPr>
        <p:blipFill>
          <a:blip r:embed="rId1"/>
          <a:stretch/>
        </p:blipFill>
        <p:spPr>
          <a:xfrm>
            <a:off x="7164360" y="422100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64600"/>
            <a:ext cx="777240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erdo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 het einde van de les weet j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 de beoordeling tot stand kom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 de komende weken van ondernemen eruit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 je begeleider op dit moment tegen je prestaties aankijk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oordel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alt onder proevethema’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riterium voor overgang = max. 2 tekorten in de proevethema’s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noveren = cijfer voor eerste versla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(= gedrag) = pitch + cijfer docen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nancieel = ver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etwerken = ver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mende we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1/3 = Verslag maken + uitleg financieel + gesprek met groep cijfer tussenbeoordelin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7/4 financiële onderbouwing (toevoegen aan versl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4/4 inleveren verslag en presentatie voorbereiden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/4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2/5 Uitva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/5 Uitleg BPV opdracht en reflectie + gesprek met begeleider (verantwoording gemaakte keuze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houd versla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</a:t>
            </a:r>
            <a:r>
              <a:rPr b="1" lang="nl-NL" sz="2400" spc="-1" strike="noStrike" baseline="30000">
                <a:solidFill>
                  <a:srgbClr val="136b20"/>
                </a:solidFill>
                <a:latin typeface="Arial"/>
              </a:rPr>
              <a:t>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oriëntati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zet marktonderzoek (met onderbouw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ijze van uitvoering (met onderbouw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ultaten marktonderz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oto prototype + toelichting waar je tegenaan liep bij maken ervan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ijzigingen aan 1</a:t>
            </a:r>
            <a:r>
              <a:rPr b="1" lang="nl-NL" sz="2400" spc="-1" strike="noStrike" baseline="30000">
                <a:solidFill>
                  <a:srgbClr val="136b20"/>
                </a:solidFill>
                <a:latin typeface="Arial"/>
              </a:rPr>
              <a:t>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idee op basis van marktonderzoe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bouwing verkoopprijs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nancieel overzich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arschuwing indien onvoldoende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mende we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1/3 = Verslag maken + uitleg financieel + gesprek met groep cijfer tussenbeoordelin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7/4 financiële onderbouwing (toevoegen aan versl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4/4 inleveren verslag en presentatie voorbereiden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/4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2/5 Uitva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/5 Uitleg BPV opdracht en reflectie + gesprek met begeleider (verantwoording gemaakte keuze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ffff"/>
                </a:solidFill>
                <a:latin typeface="Arial"/>
              </a:rPr>
              <a:t>Bedankt voor uw aandac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0:07:13Z</dcterms:created>
  <dc:creator>Marvin</dc:creator>
  <dc:description/>
  <dc:language>en-US</dc:language>
  <cp:lastModifiedBy>Robin Kömhoff</cp:lastModifiedBy>
  <dcterms:modified xsi:type="dcterms:W3CDTF">2016-03-30T14:19:54Z</dcterms:modified>
  <cp:revision>256</cp:revision>
  <dc:subject/>
  <dc:title>PowerPoint Presentation</dc:title>
</cp:coreProperties>
</file>