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BE228-5EC3-42C6-ADDF-F860DD615E7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1E5DE-6477-4ACF-9F53-231561A1EF9A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CD539-3A89-41A7-B33F-9BC364C584A7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E0639-F13E-46FF-A850-E1E0CFB73ED7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58930-0226-4117-B559-262AC8B319CC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655CC-C76A-4D82-86B1-F11EF771E8A1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ECA5C-1F90-4918-B487-5D4559E2F769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8B678-34D0-419D-B4EB-391284E7CFB4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5BD5F-463B-424F-B816-E7B6FB181F4A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2F8C6-8F2A-431E-8F8A-1E43AC7F7B56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19A2-E234-4715-8558-6D05F586A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A514-AC66-4F05-AF8F-DB48DE75C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3200-078C-499A-947A-4B66F705C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94E8-450C-4382-A0E5-408DE3FE3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22243-7A55-44FB-AA58-2FA5F0ECF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06D3B-55A0-4569-BBC1-DB8585744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AA1A1-1076-439C-9B47-7A49FE230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32D8A-11EA-4D3B-BE51-C2886CB51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9E69D-D1B0-41E8-BCE9-D590C9BC1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477FA-974F-4E91-A5F5-A6CF0EF00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118C1-CFE5-429E-A2C1-28617102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82AB-4D65-4D95-81D0-F43FB2E9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17EA2-5392-4692-8649-5BDBD16A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09449-F11A-4EBC-B6E2-3A45FDC8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4546D-061C-4618-AF3D-EE9815784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9041C-26C0-4490-98D3-8E04BCE59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263BF-B2A6-4D1D-9239-FCDEAF8C8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AE6B-F3D6-4F40-9D1A-91FD0E009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F8BF-B6B1-471A-A0D3-39C1F463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E99A-48B2-4E08-A3DB-211220D2C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5FD1-72E3-465F-9D87-900024616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4A34-781C-4EF2-A93B-23267E5E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AD38-E06B-49B9-BC69-A8C8E53C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F707-B039-47E3-B271-9295201A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ACF59-C986-46BA-A554-594150E6628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1CBAF-E281-430D-8201-8F76D2FB075E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ccecff"/>
                </a:solidFill>
                <a:latin typeface="Arial"/>
              </a:rPr>
              <a:t>Intramusculair injectere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2225520" y="2968560"/>
            <a:ext cx="44197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Contra indicati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schadigde hu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ntstoken hu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emato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hu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amma amputatie met okselklier verwijd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Regel van 5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naam en geboortedat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medicijn ( let op vervaldatu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d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toedieningsv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tijd en aantal k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Techniek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Plaats desinfecte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Pak met volle hand spierbun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Spier laten ontspann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lot loodrecht injecte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Co niet in bloedvat z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(wordt niet altijd meer gedaa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Langzaam in spui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Naald vlot eru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Prikaccident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Nooit huls terug op de naa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bruik naaldencontai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tel jezelf op de hoogte, bij de instelling waar je werkt, hoe om te gaan met prikacciden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Berekeningen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 voorraa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1 ml =10 mg Phener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ef 7 m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oeveel ml geef j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 voorraa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2 ml = 15 mg Hald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ef 10 m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oeveel ml zuig je o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 voorraad: 1 ml= 5 mg Morf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ef 12,5 m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oeveel ml zuig je o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= parenteraal toedienen medicij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(buiten spijsverteringskanaal o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Afbeelding 3" descr="injectie.jpg"/>
          <p:cNvPicPr/>
          <p:nvPr/>
        </p:nvPicPr>
        <p:blipFill>
          <a:blip r:embed="rId1"/>
          <a:stretch/>
        </p:blipFill>
        <p:spPr>
          <a:xfrm>
            <a:off x="5732640" y="4437000"/>
            <a:ext cx="214308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t BI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jecteren is een voorbehouden handeling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at houdt dit in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an welke 4 voorwaarden moet voldaan worden als verpleegkundig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skundigheid: voldoende scho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kwaamheid: erva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pdrac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ogelijke tussenkomst van huisarts/a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Redenen om te 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Snel (meteen) resulta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Medicijn onwerkzaam wordt gemaakt door één van de spijsverteringssapp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Orale medicatie niet kan worden in genom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Patiënt geen orale medicatie wil innem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Medicatie alleen in injectievorm verkrijgbaa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4 verschillende manieren van injecter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tracutaan (i.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ubcutaan (s.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tramusculair (i.m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traveneus (i.v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8" descr="SC_45_90_graden"/>
          <p:cNvPicPr/>
          <p:nvPr/>
        </p:nvPicPr>
        <p:blipFill>
          <a:blip r:embed="rId1"/>
          <a:stretch/>
        </p:blipFill>
        <p:spPr>
          <a:xfrm>
            <a:off x="4716360" y="2421000"/>
            <a:ext cx="432144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ie plaats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Grote bilspier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musculus glutaeus maximu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groot, goed doorbloed, grote hvh toedien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bovenste, buitenste bilkwadra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omzeilt zenuwban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Grote hvh injecter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5" descr=""/>
          <p:cNvPicPr/>
          <p:nvPr/>
        </p:nvPicPr>
        <p:blipFill>
          <a:blip r:embed="rId1"/>
          <a:stretch/>
        </p:blipFill>
        <p:spPr>
          <a:xfrm>
            <a:off x="6012000" y="3444840"/>
            <a:ext cx="264780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Dijbee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usculus rectus femor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ovenbeen in 3-en verdelen: middelste dee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Zie Vilans protoc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Bovenar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usculus deltoïde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 kleinere hv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v. Griepprik, vaccina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5900760" y="3645000"/>
            <a:ext cx="265752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1:15:47Z</dcterms:created>
  <dc:creator>Rhea</dc:creator>
  <dc:description/>
  <dc:language>en-US</dc:language>
  <cp:lastModifiedBy>E.H. Scheltens-Flink</cp:lastModifiedBy>
  <dcterms:modified xsi:type="dcterms:W3CDTF">2015-10-07T17:48:49Z</dcterms:modified>
  <cp:revision>25</cp:revision>
  <dc:subject/>
  <dc:title>Wet BIG</dc:title>
</cp:coreProperties>
</file>