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5B96-E664-44DF-BB7F-057AEC0701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4532-B66D-443B-B03F-A96502689993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3C9C-D160-4600-BE30-A18610EB7456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3487-2DDA-4410-B803-B8C13677FAEF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2186-B44D-404C-9378-9883CD9AFCAC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7055-E667-4AF9-BDD0-0112ED38CA1C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00FC-7AAE-46A8-B260-F8C6725F1DE5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3A7A-5BEA-4386-B102-540C399DDB76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4D0E-FE9A-4628-8CA6-E473301FA705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F867-0BF8-40D7-BEB1-558CDDDB1DF7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7A96-9C91-451D-9A7B-516C66473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5EFB-590B-4366-BCCB-FA7EC133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4BC5-F208-400E-A39A-69851BFA5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8B2B-2292-4401-A781-8BA0272B7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D395-1438-4AA3-B275-6A952EB34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3277-6154-4155-9B19-5E647C63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D76C-B5E5-48A1-854E-2768AFCC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4F2B-B0A6-4CF2-A07A-874CB14F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7447-134C-462D-96DD-6335E9AE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4962-0E24-448E-8983-E03119E2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F99C-4840-447C-9AE8-D1E9E2DC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0E39-7396-41B2-BBA8-9F79F372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CFAF-E2BE-4AC8-8A68-D1E4F439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00DF-245D-44CE-AAFA-BB2F4E8B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18AD-25D9-4C55-98CD-7A94F226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D74D-DAD6-47A5-8934-03A9B69C1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2060-1D88-4197-8395-B976D3600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FF83-AC5B-4484-80BE-63B8B05A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C796-5001-4467-ADD8-44285042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AE43-8070-4FA7-87F7-949E4F9A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7047-25D3-449B-B3E6-E2ADE28C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668E-6E3A-49F9-AB84-11F11FE5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CA25-5879-47FA-8E3F-685AC271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ABEE-C377-47DA-B738-D2332F9A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FD60-1867-4CBB-9D2F-744C9CCCAE7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D5B8-39D4-4B4D-8F5B-E86A61E13142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ecff"/>
                </a:solidFill>
                <a:latin typeface="Arial"/>
              </a:rPr>
              <a:t>Intramusculair injectere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2225520" y="2968560"/>
            <a:ext cx="4419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Contra indicat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schadigde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tstoken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mat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h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mma amputatie met okselklier verwij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egel van 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naam en geboortedat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medicijn ( let op vervaldatu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d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toedieningsv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tijd en aantal k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Techniek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laats desinfect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ak met volle hand spierbun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pier laten ontspan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lot loodrecht inject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o niet in bloedvat z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(wordt niet altijd meer geda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angzaam in spui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Naald vlot er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Prikaccident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ooit huls terug op de naa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bruik naaldencontai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el jezelf op de hoogte, bij de instelling waar je werkt, hoe om te gaan met prikacciden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erekeningen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 ml =10 mg Phener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7 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geef j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2 ml = 15 mg Hald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10 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zuig je 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 1 ml= 5 mg Mor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12,5 m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zuig je 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= parenteraal toedienen medicij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(buiten spijsverteringskanaal o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Afbeelding 3" descr="injectie.jpg"/>
          <p:cNvPicPr/>
          <p:nvPr/>
        </p:nvPicPr>
        <p:blipFill>
          <a:blip r:embed="rId1"/>
          <a:stretch/>
        </p:blipFill>
        <p:spPr>
          <a:xfrm>
            <a:off x="5732640" y="4437000"/>
            <a:ext cx="214308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t BI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jecteren is een voorbehouden handeling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t houdt dit i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an welke 4 voorwaarden moet voldaan worden als verpleegkundi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skundigheid: voldoende scho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kwaamheid: erv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pdr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ogelijke tussenkomst van huisarts/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edenen om te 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Snel (meteen) resulta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edicijn onwerkzaam wordt gemaakt door één van de spijsverteringssapp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rale medicatie niet kan worden in geno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Patiënt geen orale medicatie wil inne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edicatie alleen in injectievorm verkrijgba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4 verschillende manieren van injecter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cutaan (i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ubcutaan (s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musculair (i.m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veneus (i.v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8" descr="SC_45_90_graden"/>
          <p:cNvPicPr/>
          <p:nvPr/>
        </p:nvPicPr>
        <p:blipFill>
          <a:blip r:embed="rId1"/>
          <a:stretch/>
        </p:blipFill>
        <p:spPr>
          <a:xfrm>
            <a:off x="4716360" y="2421000"/>
            <a:ext cx="4321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ie plaats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te bilspie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usculus glutaeus maxim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ot, goed doorbloed, grote hvh toedien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ovenste, buitenste bilkwadra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mzeilt zenuwban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te hvh injecter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6012000" y="3444840"/>
            <a:ext cx="26478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Dijbee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usculus rectus femo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ovenbeen in 3-en verdelen: middelste de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ie Vilans protoc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ovenar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usculus deltoïd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kleinere hv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v. Griepprik, vaccin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5900760" y="3645000"/>
            <a:ext cx="2657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E.H. Scheltens-Flink</cp:lastModifiedBy>
  <dcterms:modified xsi:type="dcterms:W3CDTF">2015-10-07T17:48:49Z</dcterms:modified>
  <cp:revision>25</cp:revision>
  <dc:subject/>
  <dc:title>Wet BIG</dc:title>
</cp:coreProperties>
</file>