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80FC-FA45-4478-B823-B56EBCDC1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738A-759B-4158-B1A3-5B2C4831668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3AE3-9354-44F2-944C-FCCA9B48CB9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1CE0-3840-482F-9554-0267609871C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04A5-0840-4E54-8A0C-DD13082975B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DCD484-DB38-4596-A2CE-3763F377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D02C79-7AE1-40E5-8DDB-6C91EFA3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165611-8840-4305-BA55-1FA65061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90BAD7-596F-470F-8A29-A8FC87D7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248AED-DC7C-460D-BC16-D4917A57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E1D9B8-88F7-4CD5-84DA-99ABFEF3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5705BF-F84C-4FC0-B56D-A84D0FD9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CE656-34B7-498E-937A-7DEF6CCE1F5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88FAB6-396C-45A1-B393-F944FA98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A348AF-3451-4853-8CA2-452C4EE8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ADA5D8-E5B1-4BE3-B041-CB68FAB7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D6A351-8F97-4BC0-B90B-7FA54C0A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5E02E2-E64E-4A98-A70F-89A2D9BE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ED2344-FAA6-44FE-BE8C-B5737CDA176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1C49EC-D03A-4DC4-8B9E-E30D7615D64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76D29-36EE-4C9A-A1CB-0F6AF5D3710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0D7CC7-D337-4D52-8477-815839B310B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34276-0A63-4327-AAF2-4FADF41F08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18FDF-B998-44DE-9661-3D648D522AC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07CFF1-B559-42F0-8C56-0B070562A7F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4F1E0-051A-4364-BAEB-019883FF05C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BA4A6-61DF-45EE-A782-547393E0A7D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1DA859-CC74-43E2-A178-9BE64403C8D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AB241-D2EA-47B1-B991-599A60E1DCA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14840-436E-4532-A83B-C7BA41A6C52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921422-4F7E-4F9A-9494-65ADE2AA1B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27A7-4C88-4B47-9858-F3A6DB11C2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5229-050C-42B8-83C0-93D7CF2C81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E55F-5DAB-41AE-80E6-8DAA11A46E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FFDA1-1DDC-4A6A-A432-4C3CBC1780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A296-5918-4680-891F-E037932A4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B36E-A066-4DE7-B532-C139DD72BC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6238-771B-4B74-BB54-56255A505B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0CA6D-1350-44E9-B073-43B3E7595C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6C1EE-0FE7-4A2C-819E-5D521584D4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8612-FB4F-4A19-8629-17A5A91D16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BD5-D1F5-473D-BB4F-537CF02D78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A93-3A33-418E-959C-722972ABD7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468-BF2C-4839-8E5C-547E759360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6C7B-1576-4269-AE99-B0A576B27F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A70-C8DE-46BB-84BE-ACAC47BCBB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B899-DCBF-4975-8A1F-5A6B3A7E0C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4A6-C054-4BCD-828A-7331480518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BFC-CF01-4A40-B4F2-C436C93534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CFE-8F26-46AF-AD09-6654431BDF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370-632E-4B01-8C69-8E6DAEC2B2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FC4-D1A2-4DFB-B4B0-8CFDE0A754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412-6633-4B1D-83BF-4DD83ACCAB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176-52AC-46F3-8230-57D67261BF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33DE2-9523-4851-8C2E-2B9E245491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01C48-1EC9-4704-976B-970C8E1578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2E245-AB1B-4DBE-ADD5-60887D40D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BEB1-CD72-4236-8273-4E44B27E49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A110F-39C7-4E1F-8EC7-BA4A06D765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F3473-4BE3-4D4F-B3F3-69EE35E3EA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13073-158A-4953-A72A-EAA16E02E0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78142-62FA-41FD-B7FC-752FB2E348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90C13-4114-48CD-BFBC-E57C03B651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DB100-2CC4-41EF-8F6C-A0951A096B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64682-C47A-4AFE-8654-616888F5CA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8D7E8-06DB-4D6D-BBBF-98E56B3B0F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944B7-89D7-447F-8005-252D11FFD15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79C11-E1CE-439C-A22E-E9FE8A853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8484-4EB1-4229-9186-8762DADE17D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220AC-7B84-410E-890E-0B9C6DE4C00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F64A0-5D29-408D-83C9-C49324846AB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F2C29-F1B6-4714-89C8-91F61B9A20D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9F7CE-EBA2-4AA8-A16C-06B6A81B867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20E73-1628-4D59-959D-539689DF83B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456C7-A21E-42A6-9514-BA3754F31C0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058CF-5A52-4D6A-994A-05452091DBF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0287E-8430-47AC-8382-DB50D995245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AE984-404B-488C-94F9-99DA46E8439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8B8E1-4B50-4FA0-B0CF-C27BEF097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425C-3A69-42BA-9718-E42D8EDA228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4EBDF-EDD6-4901-B4ED-3AC4E001049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764F0-4D37-4330-B88F-4A5D3D67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FD982-6CFD-4C4F-BC19-A57C2D76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B315A-36E8-4D7B-9FF8-803C5550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7051E-0A55-43E9-B94C-7CACFCBB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E1678-62D0-4690-8C28-700D3834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F9D32-571E-4032-A662-AE63335E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7C827-4F8F-4B3C-991F-CAC320FD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48AA0-0839-4D68-9494-ACFAE66D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9531D-C259-4581-BBCC-22B27DB3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DD77-9C99-4AA4-A085-F239E8065FD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ED8AA-13E7-4EB2-997A-16115C67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5E213-5B48-4420-B07A-238AA37D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3860A-18A7-44E9-8B65-3B2035FF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E466-61DC-46B0-AC47-921958B505E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3465-E9B8-4269-A36C-7913380E4A8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3499-3855-4B2B-AB0B-91C9B1BF6C9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050A-F7DE-44E1-8068-1464E7FC0F8D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A0EC-76E3-408B-9EF0-C84BE6668A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92C7-DB92-451A-B144-271E68C442C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5F1B-8CFE-4120-8FF6-8EA3D65A12B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E4B9-40BB-4284-84C3-9A7DC1B6DE10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A222-7720-4290-88FE-49A24DE067EB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B069-E0D0-4F5F-82B8-942E1D3EF5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payned.nl/nieuws/loonbeslag-wat-nu/&amp;rct=j&amp;frm=1&amp;q=&amp;esrc=s&amp;sa=U&amp;ei=9qSEVJqtNsW_PITvgYgP&amp;ved=0CCYQ9QEwCA&amp;usg=AFQjCNHvqkYd78LKxoBiyQRkfQOjCfYwNw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9564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8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6 H4.1 – 4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46280" y="40464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nnismaking met de B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619280" y="2060640"/>
            <a:ext cx="67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0 géén Eigen Vermogen en Pri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l de rekeningen: Aandelenvermogen, Winstreserve en Rekening-courant 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2: Geld onderweg of kruisposten en Voorlopige boek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6012000" y="4254480"/>
            <a:ext cx="2676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boeken van BTW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1)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15640" y="1390680"/>
            <a:ext cx="71629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ntvangen BTW van afnemers/klanten = </a:t>
            </a: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te betalen BTW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aan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de fiscus (= rek. van schuld), dus credit boe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taalde BTW aan leveranciers = </a:t>
            </a: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te vorderen BTW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van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de fiscus (= rek. van bezit), dus debet boe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BTW-tariev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Algemeen tarief = 2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Verlaagd tarief = 6% (levensmiddelen, boeken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Vrijgesteld tarief = geen btw plicht (onderwijs, gezondheidszorg, verzeker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6300720" y="4419720"/>
            <a:ext cx="1727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70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TW in de inkoopfac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764388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TW op de inkoopfactuur wordt betaald aan de leverancier, maar is terug te vorderen van de fiscus (= belastingdien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schrijving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                  debet         cre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908000" y="4460760"/>
          <a:ext cx="6323040" cy="1533600"/>
        </p:xfrm>
        <a:graphic>
          <a:graphicData uri="http://schemas.openxmlformats.org/drawingml/2006/table">
            <a:tbl>
              <a:tblPr/>
              <a:tblGrid>
                <a:gridCol w="4127760"/>
                <a:gridCol w="1130040"/>
                <a:gridCol w="106524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, …kosten, inventaris, machines, … 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280" y="53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TW in de inkoopcreditfac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87280" y="119700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TW op de inkoopcreditfactuur vermindert de vordering van de fiscus (= belastingdien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  </a:t>
            </a:r>
            <a:r>
              <a:rPr b="1" i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Inkoopcreditfactuur (=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debet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739880" y="3638520"/>
          <a:ext cx="6394320" cy="1533600"/>
        </p:xfrm>
        <a:graphic>
          <a:graphicData uri="http://schemas.openxmlformats.org/drawingml/2006/table">
            <a:tbl>
              <a:tblPr/>
              <a:tblGrid>
                <a:gridCol w="4148280"/>
                <a:gridCol w="1157040"/>
                <a:gridCol w="108900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, …kosten, inventaris, machines, … 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201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ld onderweg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f kruisposten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ij geld-opname of storting op de bankrekening is het bedrag niet meteen af- of bij-geschreven op de bankreken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dat het bericht van de bank (soms zelfs enkele dagen) later komt, het bedrag tijdelijk boeken op de rekening: Geld onderweg (= tussenrekening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Bijv. geldopname van € 200 van de bankreke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schrijving                             debet      cre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340000" y="4808520"/>
          <a:ext cx="5184720" cy="878040"/>
        </p:xfrm>
        <a:graphic>
          <a:graphicData uri="http://schemas.openxmlformats.org/drawingml/2006/table">
            <a:tbl>
              <a:tblPr/>
              <a:tblGrid>
                <a:gridCol w="3384360"/>
                <a:gridCol w="927360"/>
                <a:gridCol w="873000"/>
              </a:tblGrid>
              <a:tr h="434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ld onderw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5" name="Picture 25" descr="ANd9GcQTA42zAhOzJn_iYAO60Lo0uSwAnZC2t8tY0cSoIuQI9zXtNhj3Iptb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5241960"/>
            <a:ext cx="132552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645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ld onderweg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f kruisposten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801720" y="1341360"/>
            <a:ext cx="72705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s het bankafschrift later ontvangen wordt, het bedrag op de rekening: Geld onderweg (= tussenrekening) tegenboeken zodat de rekening: Geld onderweg weer glad loop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529000" y="4417920"/>
          <a:ext cx="4682880" cy="1036800"/>
        </p:xfrm>
        <a:graphic>
          <a:graphicData uri="http://schemas.openxmlformats.org/drawingml/2006/table">
            <a:tbl>
              <a:tblPr/>
              <a:tblGrid>
                <a:gridCol w="3057480"/>
                <a:gridCol w="836640"/>
                <a:gridCol w="78876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ld onderw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Rectangle 3"/>
          <p:cNvSpPr/>
          <p:nvPr/>
        </p:nvSpPr>
        <p:spPr>
          <a:xfrm>
            <a:off x="801720" y="1617840"/>
            <a:ext cx="72705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j ontvangst bankafschrift van de bankreke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mschrijving                     debet 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6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1 en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14:11Z</dcterms:modified>
  <cp:revision>190</cp:revision>
  <dc:subject/>
  <dc:title>Gemeente</dc:title>
</cp:coreProperties>
</file>