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7AF8-6E47-4602-8F4E-B209EFEB2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892E-6DBF-435A-9538-DFE32D7DDD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9A35-FA3A-407E-A867-1FCB7EBEACF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BD43-45C4-4AD1-A4E5-8C50F87585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352C-1D3F-4474-8CCD-AF74AD4DD27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88473-7EEE-4524-B2D8-7C3429D4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BFB7C-7F37-470E-9362-DD63C286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5EF2E5-34B4-4F22-8A65-DF0822D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F823F7-12A8-4E28-B78D-83C5A6FB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2B11C5-ABBE-483E-83B1-EBF1351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518E2-BC7C-4E8A-BF87-CB6B087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28223-FBD3-4234-9727-9D1D347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5B1B-EB17-495C-824B-776BC1C2A02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CC80E-F70F-4913-9043-DB663D89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51407-DE14-401C-B20D-5D8030A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BDE840-4A5B-4C4E-9F24-F2C86A68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788F35-CEBC-4E76-9C75-70632426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698FC-5B7F-4166-A06B-F221F9A2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D866D-44F2-4D05-BBCC-993BFF88B6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30BE5-FB70-4D62-B22F-58A70D00457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A5959-F3BC-4DA4-BA5C-C53E213320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2ACFC-FD11-4888-A5F6-FB08477CC73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53B49-124E-4B93-B9D3-9216FBF4F7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DF9F-4FC7-48DC-9687-DD4B3097531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6E32E-850E-4586-B5DB-CD1B0A629F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1AF5D-83BD-4209-9DA3-8446DB3D47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285FB-A338-4E8C-B8D2-BEDB3DB0D6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69DBB-CB94-458D-AEE5-70D7920DEF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5C7AB-558E-49CE-827A-64D9A179BDC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88632-43EA-4826-BDDC-DAE26FFC72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77A55-90A3-4598-BD17-1A20F554A3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0885-09E1-41F6-8445-97CE59003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8347-97A9-4852-8758-2572AD9042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A8A0-6B35-431B-AC14-A135EF0549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F64F-18A7-4F4C-B86B-D7C712D8D2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AEA6-7DD6-4BA5-98FD-7ECBC1544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D6FC-144F-42F7-82A1-CE61A73169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03E3-72B8-49CD-B34A-ADD30E25D3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44D0-8C7D-4818-8B92-2B1AB59E68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15EE-358C-4E60-8AD4-F3980CFFC1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52A1-9A97-4EDF-8E91-3C850F165A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9A2-100A-4917-AEB5-D746065DA0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302-C151-4FA8-AB98-4858865771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010-97BE-4716-9B23-71783C0352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D7E-2C2E-4D5D-BCB2-D3D55918C8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6D7-D227-4E86-BC02-649963704C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E3BA-9CFE-4DC9-ADC5-62B059ACAB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B02-3243-4AB0-B90E-29313146AC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38E-0170-471D-9065-B22184F9CF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968-6240-4540-8AED-7035D62B3A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5FD-2B9F-4D41-B275-F1D34E0777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33B-4972-453B-B68C-7323CA5410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AEF-7102-4B33-AFCE-92AC01D911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8BE-37F7-4F87-A7D3-E58602C469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619C2-54B4-4A0E-BC94-2D3832CFA8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17912-76B7-48A8-9ABD-24B86A29DC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16584-1EF3-4C03-B3FE-D6EB5A4F5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4C8D-F85A-4465-B5FD-532EB80FFD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93FB7-A4A1-4012-8E66-B80A038FDB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309DE-78F3-4668-85FE-A62072C1D6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78DD5-65BA-4F23-ADA4-9A7AA6B114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B8626-2550-4011-B55E-DDA5C01145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DA03-62A5-47FA-B29F-FC19000DF2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5A48F-A0C4-4FBA-AB91-80014D3349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58565-8966-44D2-8991-A63D21E242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0772D-27B0-4C89-8D0C-DC1C687548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49F8-8560-4D10-A4E5-91F8338F07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08E7D-AD50-4C26-8AEC-8BB9A8BD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0845-FE60-4FB3-ABD5-6101A5B74DE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80695-94D8-4BE2-BF67-DC67C52E4E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4F24C-03E2-4A28-9BED-38ABCD05F7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C5723-CBA4-4C39-AD2D-A1F9F4E83B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7E415-F3A4-42EB-B958-D6A27150AA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F37A2-8402-4BAD-8E2F-5EB7636049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8CC59-073D-455F-8A50-F8F3D4AF44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D54B-6125-4405-94AB-CC47229BAC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99603-2634-45CF-A0D8-6F60DCDAC8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D8268-8EAA-425E-863F-D5B5005CA4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5C7E2-DB80-41C4-A8F5-51F2D25B6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1D8B-BEE7-406C-9D39-67E2A54572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2493C-9EAB-4C85-8C37-23E7045C65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DAC84-EE24-4F11-8F69-DC9C11C0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1CB01-8C33-4B8E-BAE7-D787C20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3C73E-786F-4096-97A7-6A67B302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DAF31-2F41-4F1B-A461-67DD95A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EED34-3B43-41AD-917D-A983DA5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28F01-0948-4644-A2E5-0B34703F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5814C-A1A8-4764-9764-592737C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24473-0016-4FF2-AC4A-6B0522B8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3EC9A-9754-45C5-9610-076D822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C358-97F7-486B-B059-56B5437DDC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80595-33C4-4957-B185-D3400F1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8B70B-1D38-4883-BACE-15A51E9A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6B58B-FB30-4A59-9781-0039BE34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4304-3A09-4CD6-87AC-63EB4E839E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05A7-5DD7-4E36-B102-33AF3FCB9A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4D9-8DA7-4290-A813-CD130A46922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FCFA-3211-4212-8C48-27E164209050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E9AD-52F9-4B3D-A0F0-7120B2E33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EAA6-209E-483E-9F15-D3EEF4A3900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9A8-60A5-4804-A5B4-9915FB697DB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022D-1E23-450D-9950-653F16754D5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1110-20C8-40D2-96D8-96431541BD1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E958-C3C6-4DB0-BBCA-4BE2F765A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recensies.infonu.nl/financieel/123155-naar-een-financieel-onbezorgd-leven-annemarie-van-gaal.html&amp;rct=j&amp;frm=1&amp;q=&amp;esrc=s&amp;sa=U&amp;ei=oH8AVeyRMoT0PNrngfAI&amp;ved=0CCIQ9QEwBg&amp;usg=AFQjCNHrSmvCimMmhPhiyIqlVo49rHnxkQ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6000" y="1341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10 Hdst 6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7774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258920" y="1844640"/>
            <a:ext cx="67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taat = het kasboek = contante ontvangsten en uitgaven van een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veel bedrijven alleen kasgeld aanwezig voor kleine 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tailhandel en horeca wel veel contante opbre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643280" y="4307040"/>
            <a:ext cx="37357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58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02920" y="16282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unctie kasboek/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aanwezige kasg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inanciële feiten boeken op tegenrekening in het grootbo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5073480" y="4365720"/>
            <a:ext cx="352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r>
              <a:rPr b="1" lang="nl-NL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kasstaat nr.: 3                                        Periode maart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547640" y="2060640"/>
          <a:ext cx="6840720" cy="3360600"/>
        </p:xfrm>
        <a:graphic>
          <a:graphicData uri="http://schemas.openxmlformats.org/drawingml/2006/table">
            <a:tbl>
              <a:tblPr/>
              <a:tblGrid>
                <a:gridCol w="538200"/>
                <a:gridCol w="700200"/>
                <a:gridCol w="2901960"/>
                <a:gridCol w="849240"/>
                <a:gridCol w="809640"/>
                <a:gridCol w="1041480"/>
              </a:tblGrid>
              <a:tr h="4316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6732720" y="5600880"/>
            <a:ext cx="2220840" cy="9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92360" y="1773360"/>
          <a:ext cx="6153120" cy="3606840"/>
        </p:xfrm>
        <a:graphic>
          <a:graphicData uri="http://schemas.openxmlformats.org/drawingml/2006/table">
            <a:tbl>
              <a:tblPr/>
              <a:tblGrid>
                <a:gridCol w="484200"/>
                <a:gridCol w="630000"/>
                <a:gridCol w="2610000"/>
                <a:gridCol w="765000"/>
                <a:gridCol w="727200"/>
                <a:gridCol w="936720"/>
              </a:tblGrid>
              <a:tr h="3045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 debiteur ontvangen (Vf 20150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é-op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 crediteur betaald (If 20150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st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ine getan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nte verk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7380360" y="5384880"/>
            <a:ext cx="13777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1280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n debiteur ontvangen (Vf 2015014)    €   6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vé-opname  €   5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30560" y="2841480"/>
          <a:ext cx="4465440" cy="669960"/>
        </p:xfrm>
        <a:graphic>
          <a:graphicData uri="http://schemas.openxmlformats.org/drawingml/2006/table">
            <a:tbl>
              <a:tblPr/>
              <a:tblGrid>
                <a:gridCol w="2449440"/>
                <a:gridCol w="1079280"/>
                <a:gridCol w="936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euren (1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260440" y="4653000"/>
          <a:ext cx="4537080" cy="669960"/>
        </p:xfrm>
        <a:graphic>
          <a:graphicData uri="http://schemas.openxmlformats.org/drawingml/2006/table">
            <a:tbl>
              <a:tblPr/>
              <a:tblGrid>
                <a:gridCol w="2449800"/>
                <a:gridCol w="1008000"/>
                <a:gridCol w="10792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é  (0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71" descr="ANd9GcTomivo7dKSwyv8w0Z-g5VypPOW4VROsL_wtIXe-WW1GuNbKlmeHGty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9736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0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1:51Z</dcterms:modified>
  <cp:revision>214</cp:revision>
  <dc:subject/>
  <dc:title>Gemeente</dc:title>
</cp:coreProperties>
</file>