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1FF31-CAB8-40EC-9A88-E6D84C557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4DC56-158F-4CA5-A389-688D98A3CAA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4CA9-565E-417F-A0AE-AB5165D76D7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A12D-6ADB-45DE-801E-BBA6753A97B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4C8B3-317A-450F-A083-7AFF83445F0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83ADAF-607F-45B8-9BC8-EC2D1E4F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A4B902-A587-4942-8636-AD90CB08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AFED1E-BED3-4DF6-8B0F-DF33D5EF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BF436A-80E4-4FED-A0D8-BAABDB6D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1620CD-D5E2-4871-99B0-AC218D11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91B82E-6FA9-4EF9-9B7E-BCCA3E10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55B35A-B075-47FA-A33A-BBB718E0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402E6-2E7B-48BD-A838-407A28D1AB4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E8C7F1-7BE3-492C-A9B7-2C643A99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CFD885-E7D5-4DFE-AEA8-93CF3C45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EFCC96-DDE2-47FA-8F0D-3B0D22CE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1D0C52-7517-40CD-AC89-51C01B0F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C5E356-2E0A-4A4F-A7F5-B2F71BA7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6F463-C801-4FDF-B65F-783C43396D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5850A-996D-4760-86BF-AD09BA29C6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8D36F-8C6F-4F8A-9D10-1C6FB8C1AC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093A-BF4D-454C-B489-A6FFE0258D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E3FFA-608B-4964-978A-B87C819846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4520-19B8-415A-8365-C0C98B443D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7D1FB-C5F8-4B23-A40A-2D27A7158F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5CEDC-CF8B-4BB2-81B3-5000BEAE5B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DE941-715F-4999-AAAB-6F4BD51321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56F32-4AD6-4590-B5E0-1ACD6664A0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FB991-FC54-4E11-9866-5AA887FE29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4B9B-15EF-4541-9D1E-E344161F0E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64E2-81F8-4E04-9C56-09CC1256A3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95B-813C-4650-BD5E-7D3374DB95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6385-20DC-40A2-9145-AC2BA88496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415C-F7B2-4B4A-BF2D-E40CA62680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0B82A-8168-43B6-8457-535709E7B7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0339-991F-4CBE-B926-197B604647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36A-74DD-4ADF-B5E2-6BCAC1DD4E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06F2-6771-4200-A19D-81174A6669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29D9-0800-4B49-B0E9-A2484A4DB8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7BBA-8DF6-4BAD-9459-6BF2E948AC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52A3-203C-4A78-9536-6BF2B33CCC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41D4-5E27-4E49-B539-D266B41E020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2BE51-1C06-42D6-94C5-F6DEDC72CDC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2A8C1-F34D-4052-AE8E-0A739C7498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6F548-DA96-4A40-8B28-896943042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46544-751B-417C-9E48-A3800E83A4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17781-0989-4524-AF0E-C879F7ABA4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F6733-68FD-4B6F-A48B-663A917C97A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A728C-9D1D-455C-9253-882B2F41503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20E55-94DA-4BCD-A7FA-22B4611EE7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651C2-ECBE-4883-8C2A-58125BC11B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96A29-BE64-4A0D-BCA6-E6DA0DD92BD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3BE2A-0A28-4D38-8A57-35B21955D4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2D478-D823-4F7B-AD9E-82A8C8F0D5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E0EBF-63E7-42EC-AD8F-DE647A8ADD3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57968-1C1F-4867-9001-CCC404D2B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5FFBD-5D9C-43DD-B208-D1B792461B5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BE51E-6105-44EC-9BBB-3C831EFC4C5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44F8F-85BA-474E-867E-8DBB195CD49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7F5EB-7C08-437F-A8F1-2DF488764FE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C6B1B-6FED-4EC8-B456-BF4F84BA2A2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D2741-58E3-46C3-B338-17858770BDD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BBCC0-5A4A-44A7-9949-23C291F7961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78B0C-CB39-456E-8E41-72A96448A50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4AD32-ECC1-4AB8-8792-AA0CCA70FE1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DBE10-1016-4E69-B138-66228B2A1ED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3E248-C1B1-4DB5-B9F9-DFE642F14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24AE7-C3AD-447E-B7CC-1DB5A2190C1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6B77E-6D85-4269-9F79-65716C3C872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82D111-3F88-45FA-80A7-E944CD31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3DC60-F0AC-4249-8E61-90C48D95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CF79C-C64D-4A1D-A645-2B013782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30FC9C-39DE-4B41-928F-5EE8B494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4D8A0-C90E-4327-998D-AFD1C71D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D1504E-5832-40DF-8E4D-A19516C8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F4382-2069-4487-8415-4BDA6BC3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E38FF-AE1A-449C-A6B1-BB8E907D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AFA1C-EAA3-4E1C-B5E7-0EA98CF1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5200-0270-4FC5-B1F1-240A7FB950A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385EC-14A0-43A2-B302-A94CEF00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09F1C-1ACE-4B2A-AF55-F967ECCC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58985F-29DF-406A-A7CD-03604544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2CBC0-8859-4E77-A130-ADCB146C908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DE887-8494-485A-9D5B-A1264546DA5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77D6-22CE-474F-8747-158A787A4070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E2ED-91DE-4174-A4DE-069863BBC54F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F3CA-988C-4D60-BC22-0ED3E4D79118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8277-C3AC-40D5-A836-D7B786B9FA3D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323E-E3BD-49A8-97C0-7BFC3EBD7543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07FE-70D9-47E1-B07F-94F33840DBA7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F5AD-C4B3-4D0F-A345-4AD52382FB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5600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8 Hdst 4.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55640" y="568080"/>
            <a:ext cx="777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rhaling met journaalpost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9"/>
          <p:cNvSpPr/>
          <p:nvPr/>
        </p:nvSpPr>
        <p:spPr>
          <a:xfrm>
            <a:off x="755640" y="2060640"/>
            <a:ext cx="67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deren = journalis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en codering = een journaal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keningen die worden gecrediteerd</a:t>
            </a:r>
            <a:r>
              <a:rPr b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het woordje ‘aan’ voor het rekeningnummer ze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3176640" y="4221000"/>
            <a:ext cx="558792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8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4 paragraaf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23:59Z</dcterms:modified>
  <cp:revision>200</cp:revision>
  <dc:subject/>
  <dc:title>Gemeente</dc:title>
</cp:coreProperties>
</file>