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49642-C83F-4E54-8F26-8913B817A9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29257-33CE-40B9-B1B7-BE9ED99D72F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37639-A7A7-4FCE-BFC2-416C3437D50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8617F-01B6-456D-9FBD-E173E30131A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14A03-1F39-4E9F-8611-63C8F317B2B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7511C6-11AD-441D-A07C-D4A0CAAD9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DD150A-E5C0-4692-B30C-F9E8BB38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2C8FCE-3C11-40A5-8896-4F684E76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BBE1B2-6C92-42B1-8432-455A07D2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7247B7-E386-4482-BA64-5A334FC6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156A2D-560D-4E54-9958-D1561F48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196797-55DE-41F8-97E1-FA7D87F1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1FF5A-9310-4F77-9712-6BC4D375D38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F17BF2-1227-4968-A93F-E2C0CAA1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5E34D7-A595-41AC-A980-90E0506C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F86C47-F2B5-487E-A602-7386CFE5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32E533-006A-43A2-B6D7-B6307B5EF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E38144-8E35-4ED4-8F18-2B3898D06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72996-ACCF-49E1-86C5-6760D628CA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8F129-F732-4D67-9EC3-0E984784DE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E0F56-5EC2-4338-9280-C096D79A77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6931E-94D4-4FD3-9F2D-C000308EE7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539A2-9D16-46D0-A808-514421D4DB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CEBEA-9E03-4AC9-8842-49BAB5087E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70C49-821D-4B26-AC16-6DD1ED1E91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AD1DD-A87E-48E3-A5C1-0382377FB1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3E07A-2EDF-4B90-8B6A-AB8C06AD8F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AFEB5-23C8-42EB-AF59-ECF4B0C895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92564-03CD-4387-A863-07241CEDEF3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9485-F7ED-494E-B608-C7A7B60FB34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6209-F550-4B66-8E39-840D6CD80EC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166C-1D1B-4ABC-92DF-DE2EE9BC073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2847-818F-401C-B18F-4075CE288D5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AFF8-0A8E-4BE7-868E-1FAE082795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EE59F-E7DD-464D-8033-A990AC4B0B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9D07-303D-45CA-89B6-F2F322650D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6461-57A5-49DC-B32E-6734CAF7508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E19B-7120-43F9-8EB5-41DD8A84B51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9F8D-279C-454A-A64A-B72EF7DCDE9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0332-5306-4FB7-84DD-451109B0B7C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018A-B20E-416F-82F4-EF462E0E6D2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B7B6-BEEF-48D3-8593-0A1D3DAD41D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D9BA1-B3DF-4583-96D1-6B3FECCF815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B15AB-BD41-4AC1-BE4A-7047CE9634F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E5164-0585-42C4-8C13-35A077F51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758B7-C2E9-44D5-A954-B21FC5ADBB5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3DA75-C638-4AEF-9378-67042561F79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5B8A4-E7F2-449B-96F1-480087E5508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A7462-30B3-4583-A7B5-6A692F90A8C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A3AC0-AC21-44E4-AD40-9D3DB0930CA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F7522-13F2-442C-ACEF-39D114A003B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21A25-9ABB-4FB2-9621-8A62735384A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1589D-59E8-4580-9C0A-F1AB9E84F59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6D0AE-3BEB-4347-A848-B081551F0C1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3ED378-8AAA-4B25-A43C-75556A85379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3D7D4-A668-4733-96EA-D763707AC1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3B106-9158-4377-B736-25786E5A04A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8EFAD-62EC-45B1-BA00-D15BD71E1FD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CB1A4-94DE-4869-AA22-7CDDEEAB46B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EC1BC-64AE-4662-A615-1DB3F6DC38B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B588A-07FF-4E4D-93AA-A0143AB1011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85095-BC29-49D8-B089-F535D06443B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7EADC-6D16-4E93-B3E7-C48E34074FD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460DB-7231-4D66-8AC8-C4F8A7C9111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5A6B7-7104-41A7-AABB-304AAED4BB2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9BB05-69FD-4949-A010-03A6910D95E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07069-DF7F-4454-92C7-067DA292D4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936C7-4AD5-45C8-AC1D-06667FCBA14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5F819-DDDB-4423-91B3-694DE4BEC7E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026C32-60D1-4779-941D-AD7F5E9C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FEBD3E-1AF4-4F80-B984-5462363E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A398DA-FB28-4BAF-A1E3-D487931A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F48984-CB5F-4E26-8A77-FA1521AB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F6F75A-E5CD-4B38-AD60-08B00ADC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50629B-2E8C-4228-8F96-71E8F9BA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FB499B-EEF1-49F3-84B3-6448205C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0B6F1C-C9D5-404B-81FC-8486C142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1BC640-B55E-43A3-AB17-F31B8C25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5D968-20E5-41C1-8FD2-908F3706E47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1B49B6-91AE-4FE5-B408-810A1BA0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A477C4-7A56-4F0D-B081-F9ADBE69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D42DDF-D028-4229-BAEF-70E5ECE14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37237-4FDB-45D0-BD7E-F1014402A54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36617-FD6E-4954-BAB5-737ABE9CE1B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90FC-E402-42CE-B5D7-E5849ECCF3A3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2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DAE4-ACCA-40D3-A51E-5B4817DA9313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6389-94DB-4C0D-84F3-E20D985C61B4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D803-B485-421F-875B-5BDE7CDFFCC5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B4BD-C18F-4EFA-A8D1-D81AFB449554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559C-7D9F-4885-BA6A-BF0096484C0E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D72D-C7F4-46B6-81EB-E1CCA6EB1D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1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195640" y="1267920"/>
            <a:ext cx="4186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drijfs-administratie</a:t>
            </a:r>
            <a:br>
              <a:rPr sz="2400"/>
            </a:br>
            <a:br>
              <a:rPr sz="24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es 9 Hdst 5.1 – 5.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38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5.1: Sub-administratie crediteure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9"/>
          <p:cNvSpPr/>
          <p:nvPr/>
        </p:nvSpPr>
        <p:spPr>
          <a:xfrm>
            <a:off x="1089000" y="1773360"/>
            <a:ext cx="676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rootrekening ‘crediteuren’ = totale schuld aan credite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badministratie crediteuren = grootte van de schuld van elke afzonderlijke credi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lle crediteuren hebben in de subadministratie een saldo-kolom; deze wordt na elke boeking bijgewe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6875640" y="4025880"/>
            <a:ext cx="17348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5.2: Sub-administratie debiteure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402920" y="177336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b-administratie debiteuren = totaal openstaande facturen per klant die nog moet betal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Picture 4" descr=""/>
          <p:cNvPicPr/>
          <p:nvPr/>
        </p:nvPicPr>
        <p:blipFill>
          <a:blip r:embed="rId1"/>
          <a:stretch/>
        </p:blipFill>
        <p:spPr>
          <a:xfrm>
            <a:off x="5435640" y="3916440"/>
            <a:ext cx="2857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123640" y="367920"/>
            <a:ext cx="77742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5.2: Sub-administratie debiteure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1476000" y="155736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p de grootboekrekening voorraden is alleen het totaalbedrag van de voorraad zichtba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de subadministratie wordt per artikel een voorraadkaart bijgehoud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ordeel = per artikel zicht op de voorra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Picture 2" descr=""/>
          <p:cNvPicPr/>
          <p:nvPr/>
        </p:nvPicPr>
        <p:blipFill>
          <a:blip r:embed="rId1"/>
          <a:stretch/>
        </p:blipFill>
        <p:spPr>
          <a:xfrm>
            <a:off x="4397400" y="4437000"/>
            <a:ext cx="395604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uiswerk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iswerk les 9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ken de opdrachten van Hdst. 5 paragraaf 1+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an het boek: Administratie voor het MK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it wordt nabesproken in de volgende 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c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AutoShape 2"/>
          <p:cNvSpPr/>
          <p:nvPr/>
        </p:nvSpPr>
        <p:spPr>
          <a:xfrm>
            <a:off x="117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3" descr=""/>
          <p:cNvPicPr/>
          <p:nvPr/>
        </p:nvPicPr>
        <p:blipFill>
          <a:blip r:embed="rId1"/>
          <a:stretch/>
        </p:blipFill>
        <p:spPr>
          <a:xfrm>
            <a:off x="6084720" y="4724280"/>
            <a:ext cx="258156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0:15:35Z</dcterms:created>
  <dc:creator>Amber Ancion</dc:creator>
  <dc:description/>
  <dc:language>en-US</dc:language>
  <cp:lastModifiedBy>Jo van den Broek</cp:lastModifiedBy>
  <dcterms:modified xsi:type="dcterms:W3CDTF">2015-09-07T11:26:23Z</dcterms:modified>
  <cp:revision>205</cp:revision>
  <dc:subject/>
  <dc:title>Gemeente</dc:title>
</cp:coreProperties>
</file>