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CB2C-3A6C-4C6A-945E-2716B9AD1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389D-67BB-407D-83E4-9851C22B2AF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ACC1-D695-4486-87E1-63A73EEB385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AEC8-9908-4EF3-8845-BA32EAD6079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83522-69C6-4654-A31E-04F58C19E32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220E78-88EE-4A95-84FF-031E56F5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6758F4-0A9B-4EF9-B1DD-A91190CE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700193-50CA-4DD7-A092-3E68810D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96D901-0C27-4E9A-BF30-25A2F7A6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906029-F823-4BA1-A3C6-2CA60E1B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C5C71A-540C-42E0-B0CF-DB6D96CC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BDF0A1-73C3-439E-ACE8-D163FE08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4E063-0186-40CD-ACA3-4E404116EBD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9A6D33-2136-4988-A982-198CA135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745A0B-BE3E-4400-A153-750DCE70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A5C74A-297F-4A8E-8345-4169FCBE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8760D6-B9B9-4575-BD8A-26F1361A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19BAD3-026D-41A1-BE38-916ED5E6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D81B9-1A59-4D77-93B5-379F022E46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2AB21-7130-4DAE-B07F-6AAD62993C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A3C09-7178-4CB1-BBFF-3D622E8CCC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BA190-E3B3-42C9-9C7A-19532268D7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660D0-AC4B-4E2B-BA30-225A20C0F7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AB9F2-5A3B-4942-B8AC-205F1DD1C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A9329-FF97-4972-A25C-F8FCD414AB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33A8B-E6FD-498F-9D92-3174C917D0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E800D-2A44-4461-8C44-82287576C8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F29FB-9EBA-4CF5-8404-6440B02403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D337D-F8C8-4EAB-9DD0-696B790C4A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8326-E186-4789-BB33-C6E7D7224C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7D2-E909-48DF-A5A2-5F862E8739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AEE7-905D-4F3B-96E6-B8FE803B8C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8EAE-BEEA-43E6-8D79-E56F9766DF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54E-3543-48A4-93A3-1D2925E100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7863-F38C-48C9-BCC1-7162B68570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B172-967D-4497-9B7F-428A7A106B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BA2F-BBCF-4771-8A51-4EC2096B63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03B-8BAE-4277-88B2-416B601416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CED3-245C-4CAA-A27D-6C9780A66D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C9B-D0EB-44C3-86E8-7E56E9F2C4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B8A3-7130-42C5-BB97-F293C4DE3B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A192-AB19-4382-96F9-8F72E30208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B5177-5CDF-4DF1-AADC-0551B9EAF17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5A943-6F6D-4F57-A24D-E420144F6E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23F1D-1202-409A-816E-FD2406638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32C4-2BA0-4773-98DF-04460BEA74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ADBF1-FB80-4DE0-B603-BE059C34D3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F6816-07AD-4A09-8C42-755F4F9D80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96A29-D91A-4C21-9F1F-42C1CE0649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73431-2694-4EFE-BE26-BFDA02D437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32AE6-F606-4093-8F4C-0D4FA5F75AB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B22ED-A163-44B0-8203-CEBEA16D64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B5C08-A98B-4554-9D2C-725057E66F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AA8C6-9518-407E-97A9-DF69D04BE6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D8D65-2D1F-445A-8EA3-94776A50FF0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CFA55-4BD7-46AC-848B-F98D51BA5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2FE7-E918-4508-B1D5-7C06FA8BFA9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6669E-D40D-4A6E-BB9D-FFFD3BAF435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56482-A6F1-464A-93F5-62EAD2BF691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7E983-87BB-4E54-96C0-AC7CB970570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0D27F-9289-4E3F-8771-58C3395A84C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3DCC5-AC4E-4BAA-BF24-BC1670C441A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0BE63-E2CE-456F-89DC-C3DEA8AB20C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97DB8-E75A-42CB-A7E2-BEAF075CE5E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44A6D-81F6-47E3-ACC1-CBEE2FF8D39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6B1E3-1C94-410A-8C94-C5D62F90325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4F864-3B6E-48AF-B386-484EC6A7D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A4D4-96A2-4B6A-B12A-17BE451219C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99445-4676-47BA-9830-BB2058B05FC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3816C-4529-42F7-B5E7-F8531FCE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AB9C62-9D9F-4D71-B8E5-9F91B0BF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ADE7E-7ACC-41E6-AE92-2E01C947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4B86A-CECA-46C5-92A9-E0BE695B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B573A-6A55-4E7D-B47D-D9643124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F9BFE6-FBD6-4795-BFDA-24FB32DA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9E7E48-8A84-4DCC-8999-9F86D52C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4ACB6-4445-4829-B7D8-01EF58E7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434A1-0F99-4B26-B2BF-3A530663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A7A5-5851-49A3-966C-EC61B24AC83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266B6-7488-494F-91AD-7B33498C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B31954-5FDE-4202-9992-4789C3A6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639A6-F59E-4EB7-B29D-88E496E9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8306-8207-4149-AB00-765C5C042F0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997C-2C58-43F9-8E9F-DE5FEDCAD8F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0978-7DAB-4C39-B88C-60395E32F5D4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8AAF-24F4-4C4D-B02E-F28F8F141044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5F8B-2091-4727-A85A-F73CD1F02881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D46F-9938-4000-953B-41A9D0F159B6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1F1E-088B-413E-9CD9-D076CE9F5810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1605-006E-4295-8648-2A01D3A50F59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0730-AFD6-47A6-8322-BCEB15D60F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0036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es 11 Hdst 6.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7738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1692360" y="1925640"/>
            <a:ext cx="676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tailhan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ore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nkelamb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l veel contante ontvang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 het eind van de dag/week een kascontrole-str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5" descr=""/>
          <p:cNvPicPr/>
          <p:nvPr/>
        </p:nvPicPr>
        <p:blipFill>
          <a:blip r:embed="rId1"/>
          <a:stretch/>
        </p:blipFill>
        <p:spPr>
          <a:xfrm>
            <a:off x="5292720" y="4479840"/>
            <a:ext cx="34606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924200" y="1628280"/>
            <a:ext cx="66355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oorbeel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ssa en kascontro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ntrolestrook kassa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€  2.649,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trolestrook betaalautomaat  -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€  1.023,50  -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ankstortin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€  1.625,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Afbeelding 1" descr=""/>
          <p:cNvPicPr/>
          <p:nvPr/>
        </p:nvPicPr>
        <p:blipFill>
          <a:blip r:embed="rId1"/>
          <a:stretch/>
        </p:blipFill>
        <p:spPr>
          <a:xfrm>
            <a:off x="6130800" y="4437000"/>
            <a:ext cx="2124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17120" y="25992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3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547280" y="148428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t boeken van de kassta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edere ochtend een vast bedrag aan wisselgeld in de kas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ontvangstenkolom: de omzet en te betalen btw van de contante verkop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uitgavenkolom: de contante betalingen en de bedragen die onderweg zijn naar de bank (= pin- en creditcard-betaling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25513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2960" y="337680"/>
            <a:ext cx="7773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4)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t boeken van de bankbijschrijv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Nb.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rekeningnr. 200 =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wege ‘geld onderweg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476360" y="1844640"/>
          <a:ext cx="6095880" cy="1484280"/>
        </p:xfrm>
        <a:graphic>
          <a:graphicData uri="http://schemas.openxmlformats.org/drawingml/2006/table">
            <a:tbl>
              <a:tblPr/>
              <a:tblGrid>
                <a:gridCol w="3311640"/>
                <a:gridCol w="1368360"/>
                <a:gridCol w="1415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  (1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€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ting kasgeld (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   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nbetalingen (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cardbetalingen (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   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17800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76360" y="1125360"/>
            <a:ext cx="64785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11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6 paragraaf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5844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34:22Z</dcterms:modified>
  <cp:revision>228</cp:revision>
  <dc:subject/>
  <dc:title>Gemeente</dc:title>
</cp:coreProperties>
</file>