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A519C-3464-48CD-A20F-D25D322B5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F3A54-DCC6-4AFC-99B1-8E5EEE0C2BB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EF934-22E7-4998-9D47-2F167D66CB0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73062-A7E8-49B7-97B6-9093D369392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5B81A-9BE3-4F82-B23F-F4C80ED6DE5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2A45E3-12F9-49B1-A3F7-4350F60C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5DCF2A-D73D-46C5-B715-E2F96E21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13282D-3ACC-4CFD-A8CD-1C141559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BAC4A4-E7FB-414E-B7B0-58A6A4E1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4C43BC-1617-4086-A8D2-3AEFAAF5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2A1976-64FF-49D5-9516-E4463040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60DAFE-D4BD-4C05-B3E1-ABC6E475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8A694-C988-446C-8B2E-7D899081FE7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BD0EAA-6536-4AA1-80BA-5915B53D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581E79-1000-438A-9126-F742D7F8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E0F39A-D311-46EA-B28C-621A033A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730655-A45F-4549-8485-FDB89E5B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2B74D1-1577-46CF-83E9-BD3CAE7B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E4FF67-CDFC-4FD3-89AB-EF74FFE851A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FEC301-D709-46BC-9827-E38C71B1546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42F879-627B-404B-A9DC-B198E124A8D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EA7518-72EC-4EF2-8D9D-5B921800D21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4F836F-B594-4E99-AA67-D4EB5DCCEB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F64A0-26C0-4BF1-AAC9-46A54BA1856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4D5ACE-AEBA-4A69-976C-3BBB88FE6F4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1983ED-3A1E-45FC-B7DD-F1DBCC28C3F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322688-FD1A-47B2-B66C-75C5BB7441A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724707-07F4-4BB3-A629-0F8E48180AC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4ADB23-8C73-47AE-AE58-1CA7724D1E4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6E2F35-2C4A-486E-A2E8-226A445F055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60C437-A426-4659-92E4-0BE4AF0E96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119F6-D56A-4ADA-A9B2-5EB8F540A8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728AE-931F-42E3-B548-51DAEC55B6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BFEDF-EF16-4E2A-8A6F-E714ADD0E9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26E2E-1AF9-4CFD-8DCF-00A839EAFB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30D9B-49AD-4A86-BC47-61FF956621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AC3C3-EBF8-4B3E-9BC8-477B967EAD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C5C54-EC8E-4B5D-AB2F-E83F357EBE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92C16-4A51-413D-8FBE-2B83B781ED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74AF5-16B0-459C-A1C1-A4D8B5DF6C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F8F83-5C39-46CA-B119-EDC807AC2D0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6AC5-106C-4A1D-8C7F-70B9D87A207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5720-3AF1-4962-9A08-75B9B3EA7FE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8938-55B0-41FA-999B-1109C1F2D3A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25F6-6C55-464B-87FB-5BEE71C3595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4844-A6ED-4B8A-91CF-F407471279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15FBF-C4B2-4AED-A183-474B5FA8CC1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7606-6732-442B-B2AE-AC8C069A416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246F-84DA-4580-89BF-1D0645CEDFF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AED0-D534-4F73-B91D-FAC086151CF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3487-2189-44EC-9732-1CF257F26A9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1E4B-B4D6-4BA4-9EC7-ADF4EA26C25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FA38-D326-473B-B5ED-2D35CA8C983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9D07-A2AF-432C-8191-CB9C2675E98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C8A01-D802-44E1-8804-377626F753B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3ED28-B9FD-476D-BA9D-867FCE12EE6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C7C44-61C2-4946-A90D-4079D3EB9A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DD9A6-888B-4A66-B3BD-EC6D506B639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C5661-2B6B-4DA8-8C35-16949F2B4AE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D9D08-278E-4F35-98ED-462B8F66F3B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93549-229D-412E-A73E-67D07FBF4F4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67FB0-F513-4BD3-8B8B-789AD804BD0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E335D-BF9A-457B-90A5-45EA23BB68C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92A28D-8E4F-45C2-A75A-E09620CBFEB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80F7C-30EF-435F-BE65-B579CB1AB60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5DEC1-AC56-447D-9234-AE57219F514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8622C-B688-4377-A5B8-2F6560BAF7F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B1CBC5-52BC-40F4-9A79-0333D4507F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7D5CC-F660-40D5-8A0D-8CE9732EA08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44F8F-4EBA-4CA7-8E02-2251FA939BC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870B9-EC63-43C5-B248-0F0A1788670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BE2AF-AAF1-4EF7-80A1-5E035855AED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1259D-D7F4-4C07-808F-B4DB71F4674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48C37-FDBB-4D18-B8F6-7B4871D3199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92261-9C14-4D32-A048-FE9FDAE432E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040C8-7895-479B-85B7-1218D4E56F9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6C0F7-14AB-46EB-9815-B9AFECB7FA0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4E8B7-CD6E-4918-9F81-6E5CB6F68C4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EAC54-4A92-46D0-AA15-95E261579C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A224C-2CA1-40A1-8DBE-12AFEC5EC90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D5FF6-9E89-42AD-9884-1EE28B8DDC7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9F97E9-1BC9-4A7D-ADF8-FFB8B180D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543F0A-6FF5-4C78-BD1E-4CD37B63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452A06-6AA2-46A2-B29C-FC658374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468F83-18A3-408D-983D-567D0484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DA6685-5523-4B66-BBC5-15621FAE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871C05-44AC-4347-AC04-C52677F2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E47EDF-C13C-4D6C-AEEF-FDFD07B5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60A000-142C-4804-8FEC-F8FB6FE5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1E46C6-D4F3-4AE2-813C-0FC13628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39F98-69D0-4D4B-B70D-D0999982279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8D08A0-6EED-4F51-960D-64C3A7A1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576CD1-BA09-4B19-8AB6-9B831CABB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DDE6AC-9EE4-473B-B6B0-91C1BA25E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9D88A-0E0C-47D1-88D2-A1DCF4A1522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498F4-0F3E-481B-AFD0-9AA93550C2C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9D1C-4CB3-4C3F-A244-71049C4839A6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2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159F-DA2F-4E35-9E46-6E156BA35351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C36F-2FC5-43D5-980C-0B76CFA4FD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1C7D-E2EA-43E3-A61D-36C48BB3CD97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A155-BDFF-430B-A486-98E30ECC9BAF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76DB-8F85-4FEB-990D-1B395F23A0BB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AB15-BA4E-4BAD-9C1A-087971B16C05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FDC5-1D3F-4391-8D3F-71CFF27AF5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1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nl/url?url=http://payned.nl/nieuws/loonbeslag-wat-nu/&amp;rct=j&amp;frm=1&amp;q=&amp;esrc=s&amp;sa=U&amp;ei=9qSEVJqtNsW_PITvgYgP&amp;ved=0CCYQ9QEwCA&amp;usg=AFQjCNHvqkYd78LKxoBiyQRkfQOjCfYwNw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195640" y="1267920"/>
            <a:ext cx="41860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drijfs-administratie</a:t>
            </a:r>
            <a:br>
              <a:rPr sz="2800"/>
            </a:br>
            <a:br>
              <a:rPr sz="24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es 6 H4.1 – 4.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46280" y="404640"/>
            <a:ext cx="77738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ennismaking met de BV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19"/>
          <p:cNvSpPr/>
          <p:nvPr/>
        </p:nvSpPr>
        <p:spPr>
          <a:xfrm>
            <a:off x="1619280" y="2060640"/>
            <a:ext cx="676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rubr. 0 géén Eigen Vermogen en Pri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l de rekeningen: Aandelenvermogen, Winstreserve en Rekening-courant direc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rubr. 2: Geld onderweg of kruisposten en Voorlopige boek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"/>
          <p:cNvPicPr/>
          <p:nvPr/>
        </p:nvPicPr>
        <p:blipFill>
          <a:blip r:embed="rId1"/>
          <a:stretch/>
        </p:blipFill>
        <p:spPr>
          <a:xfrm>
            <a:off x="6012000" y="4254480"/>
            <a:ext cx="26762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boeken van BTW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(1)</a:t>
            </a:r>
            <a:br>
              <a:rPr sz="40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15640" y="1390680"/>
            <a:ext cx="71629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Ontvangen BTW van afnemers/klanten = </a:t>
            </a:r>
            <a:r>
              <a:rPr b="1" i="1" lang="nl-NL" sz="2000" spc="-1" strike="noStrike">
                <a:solidFill>
                  <a:srgbClr val="000000"/>
                </a:solidFill>
                <a:latin typeface="Calibri"/>
              </a:rPr>
              <a:t>te betalen BTW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aan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de fiscus (= rek. van schuld), dus credit boe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Betaalde BTW aan leveranciers = </a:t>
            </a:r>
            <a:r>
              <a:rPr b="1" i="1" lang="nl-NL" sz="2000" spc="-1" strike="noStrike">
                <a:solidFill>
                  <a:srgbClr val="000000"/>
                </a:solidFill>
                <a:latin typeface="Calibri"/>
              </a:rPr>
              <a:t>te vorderen BTW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van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 de fiscus (= rek. van bezit), dus debet boe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BTW-tarieve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Algemeen tarief = 21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Verlaagd tarief = 6% (levensmiddelen, boeken, 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Vrijgesteld tarief = geen btw plicht (onderwijs, gezondheidszorg, verzekering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6300720" y="4419720"/>
            <a:ext cx="17272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4360" y="709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TW in de inkoopfactu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1915920"/>
            <a:ext cx="764388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BTW op de inkoopfactuur wordt betaald aan de leverancier, maar is terug te vorderen van de fiscus (= belastingdien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koopfactuur (= If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omschrijving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                   debet         cred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1908000" y="4460760"/>
          <a:ext cx="6323040" cy="1533600"/>
        </p:xfrm>
        <a:graphic>
          <a:graphicData uri="http://schemas.openxmlformats.org/drawingml/2006/table">
            <a:tbl>
              <a:tblPr/>
              <a:tblGrid>
                <a:gridCol w="4127760"/>
                <a:gridCol w="1130040"/>
                <a:gridCol w="1065240"/>
              </a:tblGrid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orraad goederen, …kosten, inventaris, machines, … (= excl. BT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 vorderen BTW (6 of 21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diteuren (= incl. BT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280" y="5364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TW in de inkoopcreditfactu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187280" y="1197000"/>
            <a:ext cx="7499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BTW op de inkoopcreditfactuur vermindert de vordering van de fiscus (= belastingdien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koopfactuur (= If)  </a:t>
            </a:r>
            <a:r>
              <a:rPr b="1" i="1" lang="nl-NL" sz="2000" spc="-1" strike="noStrike">
                <a:solidFill>
                  <a:srgbClr val="ff0000"/>
                </a:solidFill>
                <a:latin typeface="Arial"/>
                <a:ea typeface="Arial"/>
              </a:rPr>
              <a:t>Inkoopcreditfactuur (=I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mschrijving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debet         cred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1739880" y="3638520"/>
          <a:ext cx="6394320" cy="1533600"/>
        </p:xfrm>
        <a:graphic>
          <a:graphicData uri="http://schemas.openxmlformats.org/drawingml/2006/table">
            <a:tbl>
              <a:tblPr/>
              <a:tblGrid>
                <a:gridCol w="4148280"/>
                <a:gridCol w="1157040"/>
                <a:gridCol w="1089000"/>
              </a:tblGrid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orraad goederen, …kosten, inventaris, machines, … (= excl. BT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1" lang="nl-NL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 vorderen BTW (6 of 21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      </a:t>
                      </a:r>
                      <a:r>
                        <a:rPr b="1" lang="nl-NL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diteuren (= incl. BT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1" lang="nl-NL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 </a:t>
                      </a:r>
                      <a:r>
                        <a:rPr b="1" lang="nl-NL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55640" y="201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ld onderweg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of kruisposten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7643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Bij geld-opname of storting op de bankrekening is het bedrag niet meteen af- of bij-geschreven op de bankrekening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Omdat het bericht van de bank (soms zelfs enkele dagen) later komt, het bedrag tijdelijk boeken op de rekening: Geld onderweg (= tussenrekening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Bijv. geldopname van € 200 van de bankreken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omschrijving                             debet      cred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2340000" y="4808520"/>
          <a:ext cx="5184720" cy="878040"/>
        </p:xfrm>
        <a:graphic>
          <a:graphicData uri="http://schemas.openxmlformats.org/drawingml/2006/table">
            <a:tbl>
              <a:tblPr/>
              <a:tblGrid>
                <a:gridCol w="3384360"/>
                <a:gridCol w="927360"/>
                <a:gridCol w="873000"/>
              </a:tblGrid>
              <a:tr h="434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ld onderw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5" name="Picture 25" descr="ANd9GcQTA42zAhOzJn_iYAO60Lo0uSwAnZC2t8tY0cSoIuQI9zXtNhj3IptbL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24720" y="5241960"/>
            <a:ext cx="1325520" cy="12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6645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ld onderweg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f kruisposten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801720" y="1341360"/>
            <a:ext cx="72705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ls het bankafschrift later ontvangen wordt, het bedrag op de rekening: Geld onderweg (= tussenrekening) tegenboeken zodat de rekening: Geld onderweg weer glad loop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2529000" y="4417920"/>
          <a:ext cx="4682880" cy="1036800"/>
        </p:xfrm>
        <a:graphic>
          <a:graphicData uri="http://schemas.openxmlformats.org/drawingml/2006/table">
            <a:tbl>
              <a:tblPr/>
              <a:tblGrid>
                <a:gridCol w="3057480"/>
                <a:gridCol w="836640"/>
                <a:gridCol w="788760"/>
              </a:tblGrid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ld onderw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Rectangle 3"/>
          <p:cNvSpPr/>
          <p:nvPr/>
        </p:nvSpPr>
        <p:spPr>
          <a:xfrm>
            <a:off x="801720" y="1617840"/>
            <a:ext cx="72705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nl-N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ij ontvangst bankafschrift van de bankreken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omschrijving                     debet      cre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uiswerk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iswerk les 6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ken de opdrachten van Hdst. 4 paragraaf 1 en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an het boek: Administratie voor het MK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it wordt nabesproken in de volgende 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uc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AutoShape 2"/>
          <p:cNvSpPr/>
          <p:nvPr/>
        </p:nvSpPr>
        <p:spPr>
          <a:xfrm>
            <a:off x="117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3" descr=""/>
          <p:cNvPicPr/>
          <p:nvPr/>
        </p:nvPicPr>
        <p:blipFill>
          <a:blip r:embed="rId1"/>
          <a:stretch/>
        </p:blipFill>
        <p:spPr>
          <a:xfrm>
            <a:off x="6084720" y="4724280"/>
            <a:ext cx="258156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0:15:35Z</dcterms:created>
  <dc:creator>Amber Ancion</dc:creator>
  <dc:description/>
  <dc:language>en-US</dc:language>
  <cp:lastModifiedBy>Jo van den Broek</cp:lastModifiedBy>
  <dcterms:modified xsi:type="dcterms:W3CDTF">2015-09-07T11:14:11Z</dcterms:modified>
  <cp:revision>190</cp:revision>
  <dc:subject/>
  <dc:title>Gemeente</dc:title>
</cp:coreProperties>
</file>