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37540-7741-48FC-A884-4AB32FD379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15258-710A-4883-B0AF-C43A0B85B4A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1441C-0AC5-4520-BE93-888E48A5FC8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B0F85-C034-45E5-B9C3-71BD021CAED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BAFC6-62EB-498F-B13D-3EBFD4730B8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3AD460-22E0-47AC-83F5-017BD88AA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622DA9-2D17-4DB3-A288-4962C635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AE0A35-4514-4971-BEFF-08452F27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4E1FC2-FD6F-4529-8809-BD48F09B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CC00AB-8B66-43DA-ABEB-76588932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04C72A-C4F4-49C0-8A4E-C766DC5B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43FFB4-9BAF-432E-9E46-789753A6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37E29-E5EA-481E-87F1-AAD460B6105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B4588C-E701-4627-B78F-C529E6EC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FD2CBD-8D13-47EA-96BC-550C0A65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4D10AD-52AA-4B6D-90F9-F6B76EB5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140A17-050A-4C60-BA98-5E45D6E88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649E5E-B166-448F-8185-677EA7976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11DB5-4F34-4D2A-81EA-BE3EF2DD8B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03F2C-4658-42B1-ABC8-1BC409C97B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218DF-9031-45DB-891E-F5EF485885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60B6F-3692-4695-B4AE-4AB477ECDB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D4C60-66F3-4738-AE50-49706F0052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02E97-E771-4289-9A5B-82011436E2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5111E-F1B3-4D17-8D59-4FCE474CD2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2F150-8024-421F-A210-14BECCB42C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55DC0-2DEA-468C-9018-DA8813B6EE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82022-4185-438C-A862-6F2F8F61B8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BE5F0-F786-486F-B258-3D038C243A8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4B06-6C94-413A-B932-85392C4944C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CB43-8439-4777-8F58-2A5C2D426FE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1994-8AC4-44B1-98C9-8743FA98247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89B2-B887-4963-BDD1-2DB92BE4D91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C214-2544-45BE-895B-3C8C9DF3F1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EA5DD-3CF7-46A5-B5AB-60ECC1A6400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639E-0F18-49E3-B977-184292F2B1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1913-F50E-4DAB-9001-F31F881BEFF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7523-14AE-4828-9657-D63306136B1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D52C-98EC-4385-A9BD-82DBD91C2F6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1CF8-4852-4C27-B5A5-F26A795DA42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3DAE-96D6-4557-9CAD-65209DDD931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7406-7ED7-4087-B84F-8159704ED46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DCE83-CAA4-4B85-8BAC-BD69103835D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03392-7336-4F12-9A94-E11EE641B3F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B4C32-986F-420E-A7D6-8B8DBB4241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59E96-09C9-4736-8721-A0921918367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F3E5D-9104-46F5-A21C-7353BFCAE49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26C69-54C5-4332-83CD-58281F42C2C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BC110-3DAA-494C-85BF-435EFD654C0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08DBF-1E02-4EA3-963D-9B7F26F218B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0D4B3-EA40-453E-8A7D-4013C448A6C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161DF-1C10-402C-93BC-AD2768A313E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A8691-7FC9-480C-8FBE-3BA4C9B2AD1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AE58C-4128-472C-A9F5-4D13D1C8597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7C7C8-278C-486A-B277-009D8A9D4A3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FCF9A-5E65-42AF-85D2-FED4AC856C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B8029-D06F-43C9-A6C4-149D2026468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8332B-8ED8-49E5-A7FA-443CA2D0670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C32C6-C51D-40A5-9CE4-4AD917AF089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1A94F-8AAA-437F-9AC8-B996F7E1BC9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DEE22-6CB7-4144-8F38-FCFA4A08793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3CE74-F6A7-4727-8081-26AEA23F881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419BF-1C97-462F-8597-31CF4293446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0817E-C03E-491C-9C77-D2B072A36CC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65BE6-BD80-4EE6-A30B-5102846FA24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4A0F1-6F90-4E4C-A02B-EE16AC5CB0E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36C21-BBDF-4588-BCD8-CEB1FCC745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275F3-B89B-4CCB-B1D8-5E8B85E65B8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CF59E-E371-4028-BD98-B93C5DBE344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5A68CB-3F5A-4D4D-B804-740D2397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B065B1-49AB-43A9-B25A-44EC0AA2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0791BB-D753-47E0-A21B-E8E2A692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ACBB1B-1F81-4F33-9242-9B2D777C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171D11-45CF-4100-93D8-E4E13E1B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34B869-01CD-488A-811E-15D76301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FE3787-B4E1-4498-BC24-584D24A5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0CEE8B-772C-469C-82E5-D27C7D85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A80D8C-FC57-40E3-93DC-18AF4481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7DD47-10E2-46B2-9AC0-641FA669255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28F0C8-3FC2-4610-833B-BF8B7747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2C0E99-14D6-43E5-8430-96A536CAF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449AD1-A711-4809-A1B3-E3D72E2C7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314CF-C26C-4DFF-B559-1EE673AB4EA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DF187-06B9-41EE-826E-9E45618F1F4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BFD1-F891-4742-BDF8-8FF7DE5C54D0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2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2CFC-E2D6-4DEF-8B75-07EE239A4CAE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FC3D-D38F-4D64-A933-3DB42C689E81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328E-E617-4595-9969-885DB8A48399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29E2-52FB-4FEB-85B7-943681497C94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C596-79CC-436B-A33E-4253444A7A45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F615-4730-479F-9DDC-AEF86468D1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1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556000" y="1267920"/>
            <a:ext cx="41860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drijfs-administratie</a:t>
            </a:r>
            <a:br>
              <a:rPr sz="2400"/>
            </a:br>
            <a:br>
              <a:rPr sz="24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es 8 Hdst 4.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55640" y="568080"/>
            <a:ext cx="77738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rhaling met journaalposte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9"/>
          <p:cNvSpPr/>
          <p:nvPr/>
        </p:nvSpPr>
        <p:spPr>
          <a:xfrm>
            <a:off x="755640" y="2060640"/>
            <a:ext cx="67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Coderen = journalis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en codering = een journaal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keningen die worden gecrediteerd</a:t>
            </a:r>
            <a:r>
              <a:rPr b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het woordje ‘aan’ voor het rekeningnummer ze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3176640" y="4221000"/>
            <a:ext cx="558792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uiswerk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iswerk les 8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ken de opdrachten van Hdst. 4 paragraaf 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 het boek: Administratie voor het MK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it wordt nabesproken in de volgende 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c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AutoShape 2"/>
          <p:cNvSpPr/>
          <p:nvPr/>
        </p:nvSpPr>
        <p:spPr>
          <a:xfrm>
            <a:off x="117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"/>
          <p:cNvPicPr/>
          <p:nvPr/>
        </p:nvPicPr>
        <p:blipFill>
          <a:blip r:embed="rId1"/>
          <a:stretch/>
        </p:blipFill>
        <p:spPr>
          <a:xfrm>
            <a:off x="6084720" y="4724280"/>
            <a:ext cx="258156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0:15:35Z</dcterms:created>
  <dc:creator>Amber Ancion</dc:creator>
  <dc:description/>
  <dc:language>en-US</dc:language>
  <cp:lastModifiedBy>Jo van den Broek</cp:lastModifiedBy>
  <dcterms:modified xsi:type="dcterms:W3CDTF">2015-09-07T11:23:59Z</dcterms:modified>
  <cp:revision>200</cp:revision>
  <dc:subject/>
  <dc:title>Gemeente</dc:title>
</cp:coreProperties>
</file>