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6498-03F6-4089-83DE-E0FECC397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FA2E-FFBD-44EF-BEC1-0A9331A30D7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7D8A-B7F8-4F00-A57F-FFF444F2E13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EF71-3C38-4941-B575-B00BC94AEB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7705-C4A1-4240-BE59-CA53B2E051B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277645-2AD6-4329-8EF9-5FC3F5DE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5DFF8-1DDB-47A2-AFA9-0ACA827B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1B4E7B-FF7E-40F3-B439-6BC6EEC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C1EDAB-E43F-4B4E-A708-FEA2C74E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8CEA5F-79FE-49E0-8083-021951D0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BC91A3-9114-48A0-A859-17D8D254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A3C20A-F723-4708-9EFD-6A71620F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49E1-5E7D-4880-8E6A-385766A6BB9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BEF10-0979-45E0-9F77-E139B768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583392-EA1A-458F-9974-A9FA3C58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49B3B2-5E5B-4587-89EB-30830205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0C7CE3-493A-4BA6-8A73-79E44F16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51DDA5-5A61-4FD5-9F42-F2E86464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73CB9-EAE4-41CA-982F-429D7385F9E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4F43F-B54E-4E53-A9FC-710515767A4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B57CD-BB74-4847-BEFD-25F5C19973F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ABCCD-3418-4BF2-9AE9-14192418337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6629B-D14F-4B2D-AD04-73E7894E96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1D57-A8BC-4FE6-A696-2DA60FC4186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3B6F0-BF3E-4167-A084-A27EF68134C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68FB3-CD23-4422-A230-BBEA87D6E79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D2F02-26F5-44DA-B412-23515AB3952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BB9CD-FF63-4497-8760-661411F06ED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07AFA-944E-4E3E-BE86-F54595B279E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E6192-9AA9-47CF-BBBE-177D3ED52B6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A95AB-8B07-4985-9A3A-5482337E6D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535B-C505-454B-AF1C-3BB9C8CDE8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8CAC-662A-4E08-AEC9-425FDCF54F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DCA0-D081-477D-BBE9-59FBFCE7C8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C4C7-A992-4EAA-A6B1-70286B077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0426-F469-4037-B45D-94B9DA8F4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4888-3B40-47B1-A60F-7B89C5EF2D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9DAD-F88E-453C-91D3-AC375F40A2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028C-425E-465F-B1F4-DBD1EC03CE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9693-D553-41A2-922B-E117C28DE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F093-142A-4DED-8C8E-0B5E2F46EA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8F2-2395-49EF-AFB6-136BB055A4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863-EFAC-4B34-8FB7-ADC2B70C55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6F3-FFDF-4874-80FD-E4CC1011A8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D4F-EA51-41F4-B8C7-A7DEE42CC9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50F-2B57-479C-BEFD-1875F4BF8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56B1-CED2-48C6-9351-E578A40E11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2CF-A781-41AC-9187-76466DB759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720-28CD-4240-AEC4-BF243FAF8D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046-E819-4EFA-BA02-AB3B94741F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7CA-50EB-4EA7-96A4-B60A42CD17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524-7040-435D-A758-A3F1744131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66D-4925-4D70-B988-1BF88D3A79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344-C299-4725-8B91-5D83651F42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3E08-37CA-46C0-9C20-A69B40480F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CFAF8-3576-4889-AB56-4CABEE0943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51112-1420-4CC0-8F8C-E097D4B1E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8005-6ED0-41EA-ABEF-8F8577A68D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B453D-A37F-47E9-BCEE-588022E99F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7E9AC-0BB1-415E-AA3F-BD3025A67D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3D260-7BB3-4DF3-BD9F-460059ECB0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A67F2-2AEB-423C-94BF-6D7D992B54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D1A58-382B-4E8D-8E9A-25B1A7C9AB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C2E8A-176B-4C27-B9F7-AB76E4DEDC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5B964-8D54-400D-B8CB-506D86F1C2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6C2A3-0405-44C3-BD50-CA62942975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DCBB8-94BA-444C-B31F-F46AB7C109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B3290-DE88-4070-8BA2-0C5C9C8A9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EDB6-7C7C-4FF7-8B35-5B8482E237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14835-FC55-4FEC-9289-CCAD01F9D8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2A062-C2BE-4DD7-A7B2-352B21F06C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C24A1-0706-4994-AB49-5A35700028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3014B-ED2B-48B0-AE49-D241AA4646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202B8-0C5A-4F3C-92D5-0D5845088F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025E7-D21A-4A29-8CAE-0473324C61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82C33-49DF-46D8-9D63-D6ED088E8F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57BA2-7AF9-4F27-805C-04EEAD26A8A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CBDAF-1D77-46BB-A877-4AC794F416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FFBFA-8C6F-43DE-B150-028EA45FD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F9D1-FA22-4EF8-87FF-BD12BD71F2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20BBD-0EBB-4073-B058-3A0E18E0EF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115B5-7495-4EE4-B28A-FD7AF33E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3FA14-D4F1-43B8-B95B-A19124ED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CDE08-9B39-464A-A1F4-E8D98456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74D70-F66D-43F2-A43A-AC1E7BE7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07231-2C72-49BA-835D-B393D388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D34BA-373C-4B3F-A25D-C818E968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D2ADA-79F1-4BD8-A83E-F85C38D1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185AF-FA9B-46D6-9D76-F159CAC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57D07-221D-434E-A67E-38B29A1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13FD-6FF3-4DBE-B2A9-A422C6C55E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069DC-6BC2-41C4-9336-61751283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803E1-7ADB-4865-BAB7-0C8B0CD9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1EE02-A9EF-4471-9C80-EE809AF8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CA5D-E884-4C73-B7A6-45399328A33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EFC8-2E5C-494F-A81B-F3711C2461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17DE-82BF-4BED-A6BB-88D13342E25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0D69-B4CA-4AC1-B097-4814A4817544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76E1-6D21-4455-A567-F9E2E1778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DFB2-B8E6-4076-8106-938214F8BBA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A98E-E825-46AF-808B-B1739D773C7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9522-A903-4F9B-AD9C-7FC1D75F294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72C-ECF2-469A-AA87-F6D2B2A9308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6631-3CCF-42D5-9969-679183CDD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125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7 Hdst 4.3 – 4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boekrekeningen van een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473120" y="2060640"/>
            <a:ext cx="67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elands Bandencentrum BV: Alle aandelen van de directeur (= directeur en eigenaar van de 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rekeningen: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 060, Winstreserve 061 en te betalen vennootschapsbelasting 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1 op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 courant directeur 18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vé-opnamen en –stor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soneelskosten 4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ok salaris van de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Afbeelding 1" descr=""/>
          <p:cNvPicPr/>
          <p:nvPr/>
        </p:nvPicPr>
        <p:blipFill>
          <a:blip r:embed="rId1"/>
          <a:stretch/>
        </p:blipFill>
        <p:spPr>
          <a:xfrm>
            <a:off x="6948360" y="4641840"/>
            <a:ext cx="1854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107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kopen en vaste verrekenpr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schatte inkoopprijzen wat  men denkt te moeten betalen = vaste verrekenprijs (vv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rekeningen bijwerken tegen vvp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schil tussen werkelijke inkoopprijs en vvp 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jsverschillen 7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dien werkelijke inkoopprijs hoger = debet op rekening prijsverschi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14680" y="4940280"/>
          <a:ext cx="6467400" cy="1881360"/>
        </p:xfrm>
        <a:graphic>
          <a:graphicData uri="http://schemas.openxmlformats.org/drawingml/2006/table">
            <a:tbl>
              <a:tblPr/>
              <a:tblGrid>
                <a:gridCol w="4221000"/>
                <a:gridCol w="1157400"/>
                <a:gridCol w="108900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 (=vvp-waar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Afbeelding 1" descr=""/>
          <p:cNvPicPr/>
          <p:nvPr/>
        </p:nvPicPr>
        <p:blipFill>
          <a:blip r:embed="rId1"/>
          <a:stretch/>
        </p:blipFill>
        <p:spPr>
          <a:xfrm>
            <a:off x="7777080" y="277344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kopen en vaste verrekenprijz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184464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oopfactuur is identiek aan voorgaa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zendbon: De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 goederen 7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gen vvp-waarde cod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Afbeelding 2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009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Jaarwer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104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aldo van de rekening prijsverschillen overboeken naar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v. debetsaldo van € 200 op de rekening prijsverschill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               debet 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547640" y="4608360"/>
          <a:ext cx="6323040" cy="87804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oopprijs verkop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3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3240" y="5592600"/>
            <a:ext cx="13255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47640" y="32184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Jaarwerk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1484280"/>
            <a:ext cx="72709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1 Nog te betalen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edi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schuld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0 Vooruit betaalde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b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bezitting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951200" y="4035600"/>
          <a:ext cx="6149880" cy="877680"/>
        </p:xfrm>
        <a:graphic>
          <a:graphicData uri="http://schemas.openxmlformats.org/drawingml/2006/table">
            <a:tbl>
              <a:tblPr/>
              <a:tblGrid>
                <a:gridCol w="4014720"/>
                <a:gridCol w="1098360"/>
                <a:gridCol w="10368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ekos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g te betalen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90800" y="5743440"/>
          <a:ext cx="6110280" cy="878040"/>
        </p:xfrm>
        <a:graphic>
          <a:graphicData uri="http://schemas.openxmlformats.org/drawingml/2006/table">
            <a:tbl>
              <a:tblPr/>
              <a:tblGrid>
                <a:gridCol w="3987720"/>
                <a:gridCol w="1092240"/>
                <a:gridCol w="103032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uitbetaalde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Rectangle 3"/>
          <p:cNvSpPr/>
          <p:nvPr/>
        </p:nvSpPr>
        <p:spPr>
          <a:xfrm>
            <a:off x="539640" y="1484280"/>
            <a:ext cx="7413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 te betalen rente-kosten €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vooruitbetaalde premie verzekeringen € 6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Afbeelding 1" descr=""/>
          <p:cNvPicPr/>
          <p:nvPr/>
        </p:nvPicPr>
        <p:blipFill>
          <a:blip r:embed="rId1"/>
          <a:stretch/>
        </p:blipFill>
        <p:spPr>
          <a:xfrm>
            <a:off x="6372360" y="455760"/>
            <a:ext cx="2327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lommenbalans van een B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4 rekeningen specifi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stre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-courant directeur (=priv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betalen vennootschapsbelasting (Vp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Afbeelding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7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3 t/m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1:57Z</dcterms:modified>
  <cp:revision>198</cp:revision>
  <dc:subject/>
  <dc:title>Gemeente</dc:title>
</cp:coreProperties>
</file>