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D3DC-3A90-47D1-8357-47776A8B4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C70D-4612-41C6-8BF5-634684343C7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AACC-F56E-467C-80DA-48FD5D48132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C16B-C0F9-42C9-B6C3-BC8E0264C6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AE62-65E4-41A3-83D7-A3F6A31F17D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99AB92-7FAC-4277-8C5B-DF32C257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C95098-7FCC-4473-8D51-4D87654A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510E22-1341-4EE4-8C20-9B97874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E38144-3D68-472C-BD58-6AB96A2F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1DF598-61CD-4A21-AC6B-682DD8B9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54456C-DBDE-4E8C-B7E2-59D7FED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7970C2-6EE3-44F9-A266-2E550244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BA20-16F6-4A0C-AC8A-F74A210DCFF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42242F-0FA5-4662-8B85-67620196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83B0B-4C27-4367-B627-37B6570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9BB63-821E-4BFF-BC4F-8F6EA763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EFEE7-FB46-4E61-AFBF-BE9572D6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443DD3-1AAE-49E2-9C48-9E8A6CD3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45EB-F27A-47E0-98C8-0F37879DF0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CCCD-5CB2-4EB6-83BB-E55F16662F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BB22-217A-482B-AB20-F91570FF5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912B-B503-477A-954F-F8770F235B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EBF0-6F2B-4FB6-B9B8-D8518266A7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22E8-B28A-4916-B2B9-7CA2E2ED5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C2383-8E99-4F8F-A3C3-574C0B3714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BD3F-73BC-420F-B3FD-7688F76D69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73B6-C7AA-4E20-BD30-76151B2E2A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1D29-9F50-4DF2-9659-9A12B48BE1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3A16-6C06-472A-A923-D697542091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7A3-3C87-4D9D-A19D-9FB30E4E1F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FD4-DD45-4EF6-89F5-BD48D9C410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CAD-2363-4E0E-8BB2-932441A0A6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E27-03F2-40DC-951C-8757FEC4B1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73E-1CE7-48AD-B855-D2DFA71F1A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1417-A450-47E6-A7C8-B427CBC215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E5B-8383-40FF-827C-BCF4810E4F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161-82D4-4719-8677-6594921064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92F-3568-4AE9-980A-BE99599699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93A-4C5A-48C6-A675-8C8EC3DE97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1BD-05C6-4DFB-A2B8-30BE8C4461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E98-B41C-432B-9F76-4B493F37BF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EDE-7731-4408-A3DB-2CF5253078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6C17F-4C78-4E52-A05A-8E3DCC29E9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93BDA-DBE5-433D-ACA9-1FE707F98D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89FEA-0A30-4B2D-A7CF-95EA4A881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4E39-DC17-4E1F-9859-91CEF4AFC0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B07A6-394A-4E20-8F48-DC33D9738F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56BC2-D889-4681-857D-0C497A7FF4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45C5A-46A1-4514-8DEE-973EB311F8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E100B-3CD2-46B4-B9F7-D7154385B9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274C5-CD4F-4175-A14C-AE5E5E0FE5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D0023-EE92-4E53-9129-63C2E1A535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304EF-05F5-46E2-9430-9069561BDF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3D7FE-CEBA-4562-8A2B-DE21A6DE25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A23B7-FDD5-4954-AF1B-036EDDB18B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A93EF-3F42-4603-AC30-6E696154A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2341-BA88-4371-BC9A-6A6E9BDED17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2711E-F2AC-4BDF-9FFE-7C3DF11B99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0A30A-7D26-453E-8F02-6EBC21A478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768AA-0743-4400-BEF7-5B4A6027F8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88D8D-C330-40A8-AD24-6CC4B2CBE4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F2652-53DE-42D6-A254-5BA9F7A46F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1FFC8-0978-4ABD-B703-FE1664544E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527F5-2B5C-4B85-90F8-D997CC4B4A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B7D02-F09D-421F-AD50-A2FD31483F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E6C42-F1A1-48E0-904C-CF1DF0922EA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23B29-52A6-43D7-A32D-A1E0B9CD9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2C78-EEBF-41B6-8404-915CAECE5B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FB5A-55F9-475E-8ECB-89DC036DD85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13E47-2337-4076-9C12-6584F176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EA863-D9E1-4E6F-B637-DE93E613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51F2C-FFFA-4810-B210-F04157C2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BF96B-2EC5-4584-9BAE-B549C8E4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C9F72-7085-4E26-9A35-7DEFAD5E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8A8AA-9906-4693-B667-D6C36F63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A0E31-2B9F-4657-AF6A-83CA7E75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81A6A-3CB9-4FAB-9AF7-20E1746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493A6-F86D-4181-B0E4-360B8D3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0BA4-2906-4D52-AB5B-5117C3C85BB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CE44E-61F6-47CE-9F71-3431987B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75A25-95CB-451D-B6A4-5E7D4CE4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1A4C3-1003-4C0E-939E-D0C274EC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D75B-17E2-4B0B-98BB-8F739A6695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A5B3-ED9B-4444-A9A9-D93421F133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091-3C0D-4A75-A9C7-CDF29AA7C32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69B8-F980-44D0-B9FE-1FB549EA8DD6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BA4E-740F-4E49-B3A3-1F4CE049D10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1A23-B05D-4084-A395-FFADB136A8D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3820-56A2-4A88-B8C6-AC497484BC7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CEA2-0F81-4B89-B20C-351A2FFE0A5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5F1F-895C-479E-A25F-33A840B71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9 Hdst 5.1 – 5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1: Sub-administratie cred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089000" y="1773360"/>
            <a:ext cx="67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rootrekening ‘crediteuren’ = totale schuld aan credit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administratie crediteuren = grootte van de schuld van elke afzonderlijke credi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le crediteuren hebben in de subadministratie een saldo-kolom; deze wordt na elke boeking bij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6875640" y="4025880"/>
            <a:ext cx="1734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402920" y="1773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-administratie debiteuren = totaal openstaande facturen per klant die nog moet be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5435640" y="39164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23640" y="367920"/>
            <a:ext cx="7774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7600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de grootboekrekening voorraden is alleen het totaalbedrag van de voorraad zichtb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ubadministratie wordt per artikel een voorraadkaart bijgehoud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deel = per artikel zicht op de voorra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397400" y="4437000"/>
            <a:ext cx="3956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9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5 paragraaf 1+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6:23Z</dcterms:modified>
  <cp:revision>205</cp:revision>
  <dc:subject/>
  <dc:title>Gemeente</dc:title>
</cp:coreProperties>
</file>