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1E56-3DFD-4AE2-B71C-563895757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651E-327E-4517-96F3-897B731B9D7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1A67-C3F9-4F74-88BE-AA6BD38F309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CFD0-8726-4F2A-8896-9CCF933C85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01AE-E447-45E8-B2F8-909D1DA81D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A13EA-E652-4DF5-AC56-9102379F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8A029E-891A-4937-99D2-B60D668C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1CD23-B635-4E90-825F-0C849F51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B9B741-4018-43DF-AACF-B74D9A6F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0358D8-8FF2-492F-A53D-EEA05112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14237C-309D-42CD-87CD-EFEB60AA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BCC4F6-2361-4CF9-94FF-6DBB8E33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5AEA-637E-483B-BA7E-765448D780E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E9E808-C105-45E3-8421-3CCC07EA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779EB3-2D37-46F6-BB69-E8AA50A6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616193-1A27-4C98-88CA-87B1F9B7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E70450-F993-4D76-9BC2-1118499E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B07AF-3781-4849-B05E-EC53AA5A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9C72-9ADF-4407-A5EF-6602CE79A7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6178-48B5-498E-8024-4BC8951BD1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29AE-6DF9-48C4-8A9A-091D50A48A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7500-615C-4DB8-B1D9-E1A5A04A59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65C0-E02E-4B8F-8513-1C88E6B8A7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3E9A-02E6-4FFD-B449-B3D9C217E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0412-70A8-4005-AB88-5E2D86E3E1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E431-215C-4B87-B8E9-4AF50E7485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E9EA-C736-4904-AD75-A129DA779F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A1B0-AE1F-4952-A6E3-58010DF474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854F-9CCA-443F-9ABC-8816486F6B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CF0-ABB8-4665-8EA4-B496680866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431-DA94-45BA-9E05-0D451A2513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CAD-7CA2-4976-B80E-7EAB6D7AE3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5D4-4932-4272-9249-A79163D82A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9F1-7A5C-40F4-AF5F-30DA1B365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320A-BAE9-4E33-88FE-3F5264214B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AAB-6E46-4A99-BBDA-3BE9B8BF8D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798-4E21-460A-8749-5F09D95826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ACF-D9D6-4AAB-BDB5-615A40A6B5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D87-93E8-4264-9785-1BEB17A1FC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A30-4648-4604-BC60-A1067EF367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62A-DE8B-4E08-97E1-02AB3B5022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0F2-5A23-482A-9A4D-E1E1093DE6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A1179-A0C4-4BBC-AD59-39829548A3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D1140-3255-466B-B80C-5CBBE84DF9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6B7AD-7733-4FBC-BA67-CA2935DE0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0E1F-3F5D-4C14-8C3B-17B6114711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C4F36-B83E-43FF-A4BB-7038C3D950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CD8F6-D558-41DE-9257-1ACC28F4AF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B9537-0D0C-4FAD-B87B-259D3B0C23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90B4B-E120-4AD4-9620-93213DAF62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EE035-39E9-4E10-8D04-435990B165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C6DA1-0976-4217-ADF3-87A7593497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5D1F2-6B34-4C23-AC07-D393892AA3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C4AC3-FADE-4D7C-8128-7DA3AF4BCE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110D9-ABC5-406D-8E56-68E30E77C6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E7605-A705-4855-9D42-A952A23CD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5906-2499-4FD7-82EB-4C319654147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50DC-B32C-42F2-8E7D-75665F3DB2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36766-7620-4421-AF18-AC7E668A65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0FC0D-F2B7-496F-BA32-7C301DF1B2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E6854-6140-4A0D-AD9E-25B58F7A5B6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1931D-5058-4629-82F7-DEB2423EFD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9D247-ACEB-4DD9-80E6-00C0B3E9CF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ADEE4-57CB-4CF7-BD38-D401E4F2C5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E4194-FCFB-4806-BBB8-029C130472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7DA3F-B5E4-49E6-B31A-E0C06A837C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9111B-37C0-49AF-B8C9-2104C9107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1236-3D6C-458D-992A-4679457BF7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B9AAA-268D-4D85-A28C-CC9B265272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7393F-207C-4CEC-A036-88599DAC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A6D1F-136F-4F7B-ABDB-989F6E5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515A8-B1EE-488C-966E-9F0D6F1F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E2C33-8C01-4C90-AD95-D6D4D7A9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57C75-89B5-492A-8496-04882A4D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F107B-27A7-4B78-AC6F-270A545A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824FC-CD70-458A-8E3E-7A9574CD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A54E2-5760-4C7F-9ED7-90A0B33D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9EB33-51BF-45BC-887E-7C6DF7C8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9935-6624-4EC5-8914-EFD8D93E35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2428A-E134-442A-93D1-FE5C8432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DAE3E-8B9E-43FD-ADAC-D574DCFA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9B16F-21D9-48F1-8FDD-46C8D7DF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2AED-3151-484D-BE03-883983C228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A989-0F85-4D9A-825F-E3B4C861E0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CE38-AC44-4E64-BE65-35D38BF5443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5AEE-D706-40B8-A7C5-303B53EBA9F4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BFD5-43E2-43DB-AF91-01F11644D3E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5AF-0776-4BAE-839A-1EC74E1370A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7556-B433-4561-9D6A-BEB931272D9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8730-5040-4934-AC87-9912ECF3D3A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0444-F185-48EC-992C-CBC3A16E4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11 Hdst 6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692360" y="1925640"/>
            <a:ext cx="67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tailhan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re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kelamb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veel contante ontva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dag/week een kascontrole-str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5292720" y="4479840"/>
            <a:ext cx="3460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924200" y="16282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a en kascontro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strook kassa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2.649,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estrook betaalautomaat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€  1.023,50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ankstort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1.625,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1" descr=""/>
          <p:cNvPicPr/>
          <p:nvPr/>
        </p:nvPicPr>
        <p:blipFill>
          <a:blip r:embed="rId1"/>
          <a:stretch/>
        </p:blipFill>
        <p:spPr>
          <a:xfrm>
            <a:off x="6130800" y="4437000"/>
            <a:ext cx="212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712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47280" y="148428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edere ochtend een vast bedrag aan wisselgeld in de ka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ontvangstenkolom: de omzet en te betalen btw van de contante verk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uitgavenkolom: de contante betalingen en de bedragen die onderweg zijn naar de bank (= pin- en creditcard-betal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513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2960" y="337680"/>
            <a:ext cx="7773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bankbijschrijv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Nb.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rekeningnr. 200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wege ‘geld onderwe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476360" y="1844640"/>
          <a:ext cx="6095880" cy="1484280"/>
        </p:xfrm>
        <a:graphic>
          <a:graphicData uri="http://schemas.openxmlformats.org/drawingml/2006/table">
            <a:tbl>
              <a:tblPr/>
              <a:tblGrid>
                <a:gridCol w="3311640"/>
                <a:gridCol w="1368360"/>
                <a:gridCol w="141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 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ting kasgeld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card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1780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76360" y="1125360"/>
            <a:ext cx="6478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1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584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4:22Z</dcterms:modified>
  <cp:revision>228</cp:revision>
  <dc:subject/>
  <dc:title>Gemeente</dc:title>
</cp:coreProperties>
</file>