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6F74-2FB0-4A1F-BA60-460EC5677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C15B-E73C-4070-9576-00239193C39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9139-5A6D-4058-9167-FA380E9B1FA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ED99-A85D-44D8-9A47-F06A9D4932A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DEF7-DA69-4A82-9652-7A237EC0F9F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BD4316-791E-4B4B-8D6B-7F2F53DB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6C3A8A-4E52-41A0-B12F-6AB317B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82EA1E-08E2-4D9C-A97E-D2E96166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E45B52-0410-41AC-8A1C-A8FF8F78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4D2492-0CFF-402B-8F13-5B37FDF2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1815E4-B59C-4C99-BC64-0EF563EF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AA4D1D-EB3C-48D3-8906-2ABBFC9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9C3D-8280-4D22-B66C-D47554FECC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41EEC5-37A7-4AFB-8AF4-2FE96E2A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027FE-D012-49CB-959F-80C3247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13939-FE77-4F53-8381-5C8BEF79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2E56B6-1A5F-4763-B786-93A820F1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AFF093-0693-49EF-9F28-39EE24EE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1A98D-7F59-4994-AC0B-74B465C3FA6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DDD47-F271-4C93-9F76-F14698A04BB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6322D-43E9-4DA5-81D5-545714C302B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F16F9-A376-449A-BADB-1E22EED744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E852B-DC15-44A2-8B9F-86E3B5472D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F8FB-8C49-46C6-AE42-5D9D72C9021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438B7-2834-4E59-8FFF-D6AA4594D8F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8A89C-08AC-4754-A526-D99048E2A6A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CB2E1-7B5F-436F-AA9F-D1AA72EC654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C8382-473A-45A4-8866-D6FCF76D16A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5FEA9-243C-4C5B-A7A2-AE26425B632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F173A-EB6C-44B9-B40B-118890E3696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5B317-C68E-4909-97C3-320553C7C2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63FD-F22C-4AD3-9DAF-F2F42794B0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D8A3-2ECC-4C97-9C7A-E8EEB9D0B2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B3BF-398C-4D94-8E54-441A55011F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FB78-2594-4F48-8638-AD5997C96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0002-785B-4007-9B1D-08003C4B2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8C83-F202-4EAD-AA25-8D1166FF7F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AC2D-BFE6-4E02-8C5A-30FFE8C9DC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A995-D71B-4457-B3D2-9E3170B08B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DEAD-9711-4827-A9DB-369AECD12B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B694-ED94-441D-827C-EAB632AAD2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49E-6E9C-4404-9FFC-9EFE8D675F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375-D226-4DC4-BE78-B756E0058C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098-1A54-4192-A4B4-CBF66518F4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C18-EC11-4EC8-82C4-2DF14718D8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164-9D8D-4BDA-B6C8-E93D9CB901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A658-1BA4-4D81-8FC7-93DF96AFC1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AB1-840D-44ED-9932-8585110FD0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C52-05A0-4CF8-B5CA-72ADBDD794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80E-CA81-472E-8F66-F5424947DB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232-CEB1-43E5-A653-EB13514FAE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AD5-0C01-4654-8C32-E55C913B83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ECE-7558-43E6-8455-F07A483CF7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B61-6684-4432-B8A3-B9CC06A8C5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63337-FB20-4062-8832-3DBD28E17F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BE175-89A9-42AE-B89E-244012604B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D1F77-E1AA-4DA3-82FF-8E10B5C70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2D8D-4938-4818-BDAE-8024F3BB31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87C69-530A-4F08-8243-ED962FC1D0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BD597-EE64-483C-98C7-3FAE49BB8B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8AEF9-6C79-465C-A717-74F9AB25CC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8713B-0FCB-4A4B-B782-D1742514FA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CDA31-A65E-4B5E-8842-1B3AAE5AC0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D93A6-6202-4235-8C23-EDB321B239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E9929-9A2F-489A-B793-72414045F1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C6677-7C46-49C0-8BD5-09B8AB37B9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6693B-7852-421E-A36F-3B973385D0F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25EDA-935F-45C5-B67F-39C685685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D78E-FECB-42C1-AD88-9BF112C9D5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9C38D-4480-41DA-94EC-9E687343D3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3AF5C-D38A-4CB9-BD11-B0262CE0932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4269B-4C3A-4824-A048-0A588E27CF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408D5-311F-429D-955B-C76BA3D7FF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CA502-E27D-4ED7-A720-55DFE72CB7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6CF31-6B62-4E9B-9A61-F2F5B5509E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F3679-22BF-4DF5-8F22-610A00A396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5A791-CC4D-4F2D-B549-58B25DA7055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DB120-2CED-4D8A-97C7-A4FB3695D3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3EF50-B992-4ED5-AF9B-5C65781A2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095E-8C07-4FEE-AB6B-6568CBFD40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61922-3EFD-4C22-9713-92B40F6EC6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D2C01-4DE9-4073-AE9F-595F61B1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DDBEC-4524-4783-82BE-87E429FF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22144-D2A4-4DB6-A5ED-DF6868FC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6ADA0-226F-452A-890C-FA21699B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ACF5A-F79D-4101-AEEC-FE480B4B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BC9BD-4C75-49CC-8C84-C0C52166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1F8A3-7A4C-4336-85C6-98F1364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AA69C-B22B-452E-923B-C37A8692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A46B4-9592-4800-BFD4-E0FA1FF9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E93E-8577-4FE7-86B4-676F7E25FA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8C9FE-7A24-40FC-93D7-2E98715A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740A8-C926-41FA-B0B3-07FE9B4B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3EDA5-B20D-4037-A8BB-DCDFCFC0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8C8B-0947-4677-82DA-F408E4093A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BC62-241F-4C81-8EFB-E638C71118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8FCA-D9BD-4CF3-91A9-1D0A49908BCC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5A53-CCD8-4CB7-817F-6464AF99C55C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4DB1-9A0F-400A-A02C-6C50FC3D4A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8E30-6533-4099-A258-783EC95ACC6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8210-95A4-4678-BE93-421A5EA07CE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9797-0D75-49C6-9E18-5C15595EF29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9332-8E88-4C30-835B-A47249EA5C6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FFEA-CDD1-4AEC-AC01-15C780C95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6 H4.1 – 4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6280" y="40464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making met de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619280" y="206064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0 géén Eigen Vermogen en Pr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de rekeningen: Aandelenvermogen, Winstreserve en Rekening-courant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2: Geld onderweg of kruisposten en Voorlopige boek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6012000" y="4254480"/>
            <a:ext cx="267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boeken van BTW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5640" y="1390680"/>
            <a:ext cx="71629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ntvangen BTW van afnemers/klanten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betal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aan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de fiscus (= rek. van schuld), dus credi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taalde BTW aan leveranciers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vorder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an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de fiscus (= rek. van bezit), dus debe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TW-tariev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lgemeen tarief = 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erlaagd tarief = 6% (levensmiddelen, boeken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rijgesteld tarief = geen btw plicht (onderwijs, gezondheidszorg, v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300720" y="4419720"/>
            <a:ext cx="1727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70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6438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factuur wordt betaald aan de leverancier, maar is terug te vorderen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debet   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908000" y="4460760"/>
          <a:ext cx="6323040" cy="153360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280" y="53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credit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creditfactuur vermindert de vordering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  </a:t>
            </a:r>
            <a:r>
              <a:rPr b="1" i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Inkoopcreditfactuur (=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39880" y="3638520"/>
          <a:ext cx="6394320" cy="1533600"/>
        </p:xfrm>
        <a:graphic>
          <a:graphicData uri="http://schemas.openxmlformats.org/drawingml/2006/table">
            <a:tbl>
              <a:tblPr/>
              <a:tblGrid>
                <a:gridCol w="4148280"/>
                <a:gridCol w="1157040"/>
                <a:gridCol w="10890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201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ij geld-opname of storting op de bankrekening is het bedrag niet meteen af- of bij-geschreven op de bankreke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dat het bericht van de bank (soms zelfs enkele dagen) later komt, het bedrag tijdelijk boeken op de rekening: Geld onderweg (= tussenrekening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ijv. geldopname van € 200 van de bankreke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                             debet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340000" y="4808520"/>
          <a:ext cx="5184720" cy="878040"/>
        </p:xfrm>
        <a:graphic>
          <a:graphicData uri="http://schemas.openxmlformats.org/drawingml/2006/table">
            <a:tbl>
              <a:tblPr/>
              <a:tblGrid>
                <a:gridCol w="3384360"/>
                <a:gridCol w="927360"/>
                <a:gridCol w="873000"/>
              </a:tblGrid>
              <a:tr h="434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5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241960"/>
            <a:ext cx="1325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01720" y="1341360"/>
            <a:ext cx="7270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s het bankafschrift later ontvangen wordt, het bedrag op de rekening: Geld onderweg (= tussenrekening) tegenboeken zodat de rekening: Geld onderweg weer glad loo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29000" y="4417920"/>
          <a:ext cx="4682880" cy="1036800"/>
        </p:xfrm>
        <a:graphic>
          <a:graphicData uri="http://schemas.openxmlformats.org/drawingml/2006/table">
            <a:tbl>
              <a:tblPr/>
              <a:tblGrid>
                <a:gridCol w="3057480"/>
                <a:gridCol w="836640"/>
                <a:gridCol w="7887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3"/>
          <p:cNvSpPr/>
          <p:nvPr/>
        </p:nvSpPr>
        <p:spPr>
          <a:xfrm>
            <a:off x="801720" y="1617840"/>
            <a:ext cx="7270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 ontvangst bankafschrift van de bankreke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debet 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6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1 e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14:11Z</dcterms:modified>
  <cp:revision>190</cp:revision>
  <dc:subject/>
  <dc:title>Gemeente</dc:title>
</cp:coreProperties>
</file>