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9E2B-4D44-4A71-B023-9BA25ABD4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2937-2D18-46B8-B352-BCA91D30BD7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FA2A-2719-4918-A9D9-D2B25BA54DD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E499-2176-44C1-AF80-DDBB7ACD3FE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FDCE-1BEE-467D-9826-8A140A6A1F4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7E55D4-AB2A-460D-9649-A4FB79B3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62DC90-5502-485D-9CA8-B1AD0FF6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D5D98E-3D63-4B8D-9919-3D8BF467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5C03BB-383F-4E67-9FB1-4AE2E377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7CD528-AA0E-4278-A127-217CE3FB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74A87A-99DD-4081-8D03-A3CC93F0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2907D6-6496-4367-839F-B6A7666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6C18-13F1-4084-A6B3-17D3653F918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826EFE-A2D1-4D5E-95A3-A17B74F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2F43E7-57ED-4873-ACBD-5EF24DEC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5048D0-7F9C-4712-A00F-39FA6DCB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DA6FFD-215B-45E3-849B-20407CF9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B2782F-16B4-45C6-AA50-D1167365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5FFD1-134D-4652-8AD7-FC41D3ADA33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27FF7-F44D-4BD4-A784-23838DE0FBB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879CA-25D1-409C-B14A-1086C749787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6A237-D971-49E6-B803-9C399DBEEAC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6AEA7-1301-48BA-B0D6-50BC2E5119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3DC5-E9B6-412B-B1CD-B61C56930FC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31F53-10AA-4D64-8DA4-F2FB7143565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34111-8791-4118-BF7E-D62A0DF7C43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6DE99-367C-4F73-8F7F-7EEE1D01ADD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2D4F2-7FCC-4927-B57A-852D6345E6D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C3C34-2BEC-46A6-9A93-FA5134E055F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05381-23FB-46DA-A314-1EFC74735D3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A22C1-6780-4E2D-B512-4840F8E707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1C6A-3160-4067-B38C-F4807CD53F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DEF5-2885-4937-9FD7-68E23C0CD5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B2C7-2A3F-4C6D-A49F-F0753D46FC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5C43-98F1-4CD7-84BF-1523250A93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AD1C-B17A-4573-8771-CD31EDF24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8A2D-B590-4FCD-9BDE-D1F4FCD1C4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C8BE-ACC1-4B47-8B26-40CD9C32FA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DFB9-25F6-4BC9-AA0D-08C2FC2496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4004-F0F9-4953-B7C2-CCA85478D5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0EC1-9B7A-449B-8728-30FF9E46A5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B5D-6C34-45CC-BAC2-A528D083F7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358-2527-4F95-AF02-99055F0A05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256-0E9C-480B-AFEE-ACBB164DD9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CCA-A272-4C74-B758-2479CC7A06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00C-2052-4F4D-8A6D-615A0CEBE4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BB26-2D67-4F7A-BC5B-FED4A30DA7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32B-1CDA-49CD-B4F0-60C102ECBB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61B-2F51-40D8-A16F-46E561987A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B10-8DFC-41E8-B73A-422DE7279B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F99-BBF1-4E69-9839-349080B080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67B-12EA-40F2-9892-D88CC07B75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A3B-4CDB-4CCB-BC27-8B577F5A9C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3B3-B52A-4445-9016-B954BB8942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0FE71-F889-4F0A-BF32-760DACE3E3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BBB86-A7BC-4EE2-B5B2-E789844583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8813E-A161-42A3-AE04-C07C44C19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E337-7869-48ED-908E-3AD1022F75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3CBAA-5D09-4734-B512-8D69E2572E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C14F5-E64E-4322-BE41-BBB8AAF5A4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4A722-CA38-4345-A23A-67DB28C940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E6C93-2E4C-426E-B6A0-E666E64965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7D162-5398-4E95-B94E-EA7ABBA39F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CE7D3-FCB5-4F21-85E0-4F0E3F68AF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73847-124B-4911-BBED-F080978C98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EC6D9-387A-4DEF-A531-DFC33B4A5C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C94AD-69F9-4C57-8641-CE6B724F60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5C399-CA87-4ED8-9460-6F98677DB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C489-B7BD-4D65-99A3-160E95D397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31003-D1A3-4B26-9175-6AE89688674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F39C9-32B1-446E-836E-4EBD17A92B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26143-B3C5-4D75-8501-8B1465D1FB9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FB59E-D893-477B-9089-1A38CBE1BC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DFAD8-29AC-4DA9-AFEF-BDB55020FCC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F311C-B2AE-4F5F-87E6-32C2591E186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B6969-5F8E-4EAA-998A-0317D0B5AA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DFE49-98B3-48F5-AF60-CC93EEBEB4D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B2834-89E4-4324-B5FA-7E703C72FB0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9505A-8519-4817-8E3D-4464B49EF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82DD-FFFE-407E-A2EB-D215598B1A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8AE1D-9808-4956-B6B4-BA454F47082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96025-442B-4F08-896A-CAD89C0E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013BF-FCC8-4CFB-BDC7-883F608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185DD-7C1C-4111-AD48-AD39F8D0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4C1AE-8BD9-4CDF-A7F9-393DE124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2E195-8114-47D4-96A7-1B253B73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299BA-AC78-42D0-AB91-2C5F1439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377B4-CEEE-4241-B0B0-77D2AA3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8502B-6034-4B4B-B4C1-C02723EE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A8175-CA56-46B0-93A6-8436108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E2F0-E211-4CEA-B5A6-BE1E88D4188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97B0E-238F-494D-B4AF-C3E1A22D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C2CCD-84C8-425E-9C8C-9B20CE5A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F22B6-19C1-44C9-A632-86527F5E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674D-5B31-4718-9844-31640814BCA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5B86-528D-47C7-A0C0-20C87B8149B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2A6B-8FEF-4410-9D0E-327FE02E2B4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9005-4A02-4296-AFCD-D213496053B8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55BD-9DFB-4FAC-8BEF-DFDF36E97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2485-47A8-46BB-B057-EA38B59EC1F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BAF9-FC4C-48BD-BF8D-585B69184B53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0E29-8A4C-489F-A510-5297666FFEE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A2AA-8C3C-4259-B26B-36B14D04876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3D5B-F622-43E4-AD76-1AECE8F9E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recensies.infonu.nl/financieel/123155-naar-een-financieel-onbezorgd-leven-annemarie-van-gaal.html&amp;rct=j&amp;frm=1&amp;q=&amp;esrc=s&amp;sa=U&amp;ei=oH8AVeyRMoT0PNrngfAI&amp;ved=0CCIQ9QEwBg&amp;usg=AFQjCNHrSmvCimMmhPhiyIqlVo49rHnxkQ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56000" y="1341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10 Hdst 6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4440" y="475920"/>
            <a:ext cx="7774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258920" y="1844640"/>
            <a:ext cx="67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taat = het kasboek = contante ontvangsten en uitgaven van een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veel bedrijven alleen kasgeld aanwezig voor kleine 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tailhandel en horeca wel veel contante opbre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"/>
          <p:cNvPicPr/>
          <p:nvPr/>
        </p:nvPicPr>
        <p:blipFill>
          <a:blip r:embed="rId1"/>
          <a:stretch/>
        </p:blipFill>
        <p:spPr>
          <a:xfrm>
            <a:off x="4643280" y="4307040"/>
            <a:ext cx="37357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8584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02920" y="16282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unctie kasboek/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 aanwezige kasg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inanciële feiten boeken op tegenrekening in het grootbo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5073480" y="4365720"/>
            <a:ext cx="3527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3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000"/>
            </a:br>
            <a:r>
              <a:rPr b="1" lang="nl-NL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kasstaat nr.: 3                                        Periode maart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547640" y="2060640"/>
          <a:ext cx="6840720" cy="3360600"/>
        </p:xfrm>
        <a:graphic>
          <a:graphicData uri="http://schemas.openxmlformats.org/drawingml/2006/table">
            <a:tbl>
              <a:tblPr/>
              <a:tblGrid>
                <a:gridCol w="538200"/>
                <a:gridCol w="700200"/>
                <a:gridCol w="2901960"/>
                <a:gridCol w="849240"/>
                <a:gridCol w="809640"/>
                <a:gridCol w="1041480"/>
              </a:tblGrid>
              <a:tr h="4316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6732720" y="5600880"/>
            <a:ext cx="2220840" cy="9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692360" y="1773360"/>
          <a:ext cx="6153120" cy="3606840"/>
        </p:xfrm>
        <a:graphic>
          <a:graphicData uri="http://schemas.openxmlformats.org/drawingml/2006/table">
            <a:tbl>
              <a:tblPr/>
              <a:tblGrid>
                <a:gridCol w="484200"/>
                <a:gridCol w="630000"/>
                <a:gridCol w="2610000"/>
                <a:gridCol w="765000"/>
                <a:gridCol w="727200"/>
                <a:gridCol w="936720"/>
              </a:tblGrid>
              <a:tr h="30456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n debiteur ontvangen (Vf 201501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vé-op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n crediteur betaald (If 20150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stor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ine getank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nte verk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1" name="Picture 1" descr=""/>
          <p:cNvPicPr/>
          <p:nvPr/>
        </p:nvPicPr>
        <p:blipFill>
          <a:blip r:embed="rId1"/>
          <a:stretch/>
        </p:blipFill>
        <p:spPr>
          <a:xfrm>
            <a:off x="7380360" y="5384880"/>
            <a:ext cx="137772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1280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n debiteur ontvangen (Vf 2015014)    €   6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vé-opname  €   5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230560" y="2841480"/>
          <a:ext cx="4465440" cy="669960"/>
        </p:xfrm>
        <a:graphic>
          <a:graphicData uri="http://schemas.openxmlformats.org/drawingml/2006/table">
            <a:tbl>
              <a:tblPr/>
              <a:tblGrid>
                <a:gridCol w="2449440"/>
                <a:gridCol w="1079280"/>
                <a:gridCol w="9367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euren (13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2260440" y="4653000"/>
          <a:ext cx="4537080" cy="669960"/>
        </p:xfrm>
        <a:graphic>
          <a:graphicData uri="http://schemas.openxmlformats.org/drawingml/2006/table">
            <a:tbl>
              <a:tblPr/>
              <a:tblGrid>
                <a:gridCol w="2449800"/>
                <a:gridCol w="1008000"/>
                <a:gridCol w="10792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é  (06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6" name="Picture 71" descr="ANd9GcTomivo7dKSwyv8w0Z-g5VypPOW4VROsL_wtIXe-WW1GuNbKlmeHGty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97360"/>
            <a:ext cx="16048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0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1:51Z</dcterms:modified>
  <cp:revision>214</cp:revision>
  <dc:subject/>
  <dc:title>Gemeente</dc:title>
</cp:coreProperties>
</file>