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D46A-4508-459A-83F5-901F70293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C284-79C5-4C7C-A4BD-B5F97797C61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ED6E-FDF2-4738-9A78-E61493C29B5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E8B5-EF82-40BC-A6DD-277F5C795BF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222D-2A5B-4AB0-9EC7-4CFA7A55E16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7D5372-3869-44BD-AB27-B9F5A921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5EF0E0-21F6-422F-BA60-E24FD92B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02E369-7791-4B7D-9416-A2E2D529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66E1A4-EC91-4DD0-8C1E-0B61A784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233EEB-8CC4-4044-91F8-E317F1B0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B99C3D-ED34-4ED6-B80D-174BCF0B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49ED08-1686-4CC1-AAF3-69519ED2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B1F9-E62F-46CD-89BE-16C6E772E43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42DBE5-6E1A-45EF-ADB5-D8E23D8F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6518AA-26B1-4596-8DBD-C348B506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2DB4F9-BBBD-49D7-8073-FB5413DC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177C70-059A-4D58-9BFF-CBA93DA9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2805BB-C352-4FD6-AB90-8DC9F037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6879-7ABD-4D8F-A8C4-F75E052293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EDB29-AE05-45D3-A926-E97371C073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DBD3C-2BCC-4009-AF23-6414CA93A0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EFC19-32B2-4DC2-9839-A3EEFCC4EA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E386-2408-4B68-8598-4751A61129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F60F-FC96-47F2-A862-278CA142A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A0541-A35C-4F1B-97D2-6046A23E15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984F-A0AD-4667-8207-404317E2B6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50DD-D56A-402C-81DC-CBBC3B57D3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73EC0-9621-4B6B-80C6-0C76A1D436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A5454-37E3-470D-BCF9-105060D822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500-E4E0-406B-BBA6-A55FEC928B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730-9432-4371-9BC4-6D330FC59B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FC5-BA94-4E90-BA2C-498433A4A8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F74-5E51-4938-8773-F7E219DDE6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A73-8527-44B8-B215-B1DE593ED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4633-8B4F-4B7C-AFC0-EE3794B4BC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B0B-27F9-4384-AFF2-B7820AF067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263-FF75-4D3F-88AD-B4113E49BB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3B3-94CA-4282-9EAE-5BC3DE9E92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7BC-07BB-470E-97B6-7E3E3229B7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295-F6C9-4E5F-A980-CF6CFAB813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B61-DCE3-4DE0-92EE-1D851D6C88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717-396F-4F88-9D07-75708C906B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FA0D3-BA8A-48A8-B8C2-6D002ECE17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5B810-F9FE-484F-9FF2-65C41CAC53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924E5-D29F-4F52-ABCE-28AF24EED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41F7-57DE-40E8-8B1A-80A279C0AB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84D25-4F43-4122-94AE-A059B5DDA7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A9F1C-6426-4F88-B989-28C196A071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8C548-9B28-4E7E-8134-D0C010D17A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6C903-2226-415B-A80F-9FFD9EC5E2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625D2-0A59-4EA9-A988-FCD1B83C13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B3251-DC50-415D-A874-D8BD2D3939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07F75-ADFE-4E92-B4AE-A74865BF16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0E77D-0E32-43C7-99D7-CD9A30B58D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1B055-E8FB-4021-9D50-0FB80881754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1F90B-C096-4E30-9B1F-8CCCBBDD1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CCF4-B8C5-4757-9EFC-E9D9EFBCD9E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DB8B5-02B3-42A7-8271-9BF579FDE99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F4985-F99D-469C-ABCC-477A629AE82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693FC-5E6C-4AEE-8EF9-BFF8F66DC50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53AB7-8342-45C5-82BE-D838BB55DA1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4B2BC-D80F-4FDA-9E91-0383E21241C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07AA9-2CB3-4DBA-B5BE-6505653C91E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874B2-2CB1-4FCD-B9A3-2D09CC85C0E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84766-5EDF-473D-B9A8-7CB6032F6E5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DB445-51A5-44F9-B67C-CDD01DC6F1E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79718-5D97-47F0-8A79-D18EEDA1A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C6D2-C3CF-4687-A107-97D6A770EE7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85AEA-8BC3-4791-BC2D-F32C95A6A9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020E9-4EC1-4B59-80DE-AAFC0F37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6ACF8-B981-4EA8-BF53-A1CBDB3E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E28E1-4708-4495-B917-D6959422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CFA93-C2F7-41CC-9CFA-ED95EFDB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DFEA4-20BB-4CD4-BCDF-35BF3249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0255D-351A-4509-AA1E-5CE44AAF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56024-80DC-426E-9B51-E6A26934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C2868-DCDD-4C5A-9EA6-E6F12EAF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E1116-D6E6-422D-B456-7AAD880D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6EA3-85AE-4447-AE3E-FFE3E27BAA2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65593-3507-47BB-BA89-33FF38EE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CBFA3-E0AC-43A6-B189-56145AB7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9BD44-3E55-4675-AA38-513E187D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EF4C-3F9D-434A-BA31-00EE9E696F5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0C2B-B118-4706-9A7E-DBC341B644C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E5EF-5AE2-4B25-B114-60ECDA8EB2E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9E16-1B05-439D-887D-5C984C7554B7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485D-AB60-4BDC-837C-7CA7D09728A9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0D97-5D32-48E9-BD31-A1EE4F30070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BF14-C629-492E-B0D1-18844F9F4E49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FBF6-314C-4E12-8A4D-3514B7AD47D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6BE5-7DDD-4754-AF8F-54E9043B60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9564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9 Hdst 5.1 – 5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1: Sub-administratie crediteur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1089000" y="1773360"/>
            <a:ext cx="67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rootrekening ‘crediteuren’ = totale schuld aan credit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badministratie crediteuren = grootte van de schuld van elke afzonderlijke credi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le crediteuren hebben in de subadministratie een saldo-kolom; deze wordt na elke boeking bij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6875640" y="4025880"/>
            <a:ext cx="17348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2: Sub-administratie debiteur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402920" y="1773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b-administratie debiteuren = totaal openstaande facturen per klant die nog moet be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5435640" y="391644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23640" y="367920"/>
            <a:ext cx="7774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2: Sub-administratie debiteure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47600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 de grootboekrekening voorraden is alleen het totaalbedrag van de voorraad zichtba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subadministratie wordt per artikel een voorraadkaart bijgehoud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deel = per artikel zicht op de voorra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397400" y="4437000"/>
            <a:ext cx="39560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9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5 paragraaf 1+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6:23Z</dcterms:modified>
  <cp:revision>205</cp:revision>
  <dc:subject/>
  <dc:title>Gemeente</dc:title>
</cp:coreProperties>
</file>