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8.png" ContentType="image/png"/>
  <Override PartName="/ppt/media/image11.jpeg" ContentType="image/jpeg"/>
  <Override PartName="/ppt/media/image13.png" ContentType="image/png"/>
  <Override PartName="/ppt/media/image7.jpeg" ContentType="image/jpeg"/>
  <Override PartName="/ppt/media/image6.jpeg" ContentType="image/jpeg"/>
  <Override PartName="/ppt/media/image10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7E26BF-CBCA-4E54-B3C2-EBBE4B8492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CA465D-0A66-4993-8F7B-AC60D49F3CEC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255376-A204-43AC-9B51-CB88E2904071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7AF83D-9AF7-4614-ADAE-2A529A633617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A8D8A6-6E29-4EAD-BDED-2F669890EABC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BABE0A5-AC4B-4A52-8C64-E1771C6FC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248E6BF-0ACB-444A-84F8-9C7EA5E3D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4972881-F40B-4E0C-BFB6-E1C6CCB10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83EF129-398D-4D3D-99C6-B0F97C765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066956C-BDE6-45C9-B433-97E89E593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8637E5B-EBCA-4739-A81B-A6A317192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9DCF942-5359-4AC2-9E62-3BC1BF4CD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41E61D-C2F2-434F-B95F-84BDFE64C402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D5DD9DD-F20B-48C3-9C19-ED1C776C4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A742C59-BE45-4E0C-B923-C0A4827C7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D0B0FA6-39D9-4780-AEBE-DF532CF6D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9AC4616-C734-4FB8-A393-B84D512F8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9D896C3-5B16-40B4-AACA-0D9DB7EF4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47A24AF-BC94-4877-9C23-0A1FCDFC7FA8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2DD88A3-9F0D-49E9-8062-9D61231636DE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2A49E44-3233-49C1-8175-E2987063B95A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1979FAE-1AD7-46A6-AC14-44625F6E9757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7889437-1477-4340-B4AB-2E7FD775C51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95E09F-5F70-4B6F-9A47-CCD0C0EED8D9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C123C89-475C-4F54-B2DD-BCF51435233D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9F35B22-03AA-495C-AA05-4E863991389A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21C3BDA-07A5-49B9-BC6C-2C2336D5788B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875ED54-ABBF-4030-BF06-D65237538A52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7D5C59E-25F8-45C2-AC77-302DFE4D0251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F957744-B862-437F-B90D-7854A8F28206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71C753C-0026-404F-9B87-EA53BCFF0DC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FF60AC-3C83-4682-9DAC-92739536EF0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BCBD47-7477-4F2C-AA5D-319CA48D639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54C8CF-4153-49DE-94DE-11F532E5ABD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AEAE80-9FDC-46ED-A2A9-DDB19DDBB48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BB2A75-876A-4A4D-9A7D-A9293505F4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EFC7D5-3099-410E-936A-FEA0707558D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96B0FB-AE95-4DE2-A0B0-68E6D4FCDD4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C1DD50-C713-4124-AC7A-36A10E7B3AF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9B34D7-9A05-4E1A-93FD-E27A36F4B28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3057C8-9319-414A-8FE9-FCC9B7EA03B2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1F233-EF57-42FF-9706-95C2CCD9E61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78741-87B9-4634-A5CF-1522B9D3377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0413F-E0ED-4915-98F6-EE4B0B55D38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732E3-5ACB-44B1-8214-772BC63DFA0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E232F-428E-4BC9-8C0A-D12246AEB99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77E9D4-34FB-41F9-97D5-778A72691C8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83771-70F1-4273-AA98-0511AC088B8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E90CE-EFC1-4CC1-A07C-A645251DE15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040BE-226F-478D-8FB1-BD93F72EF95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E7289-3150-472A-9025-A4D7783D215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AE066-BCA4-4FD2-B563-60A16CB27CC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FC6FE-BB3B-4444-858A-CD971B19166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13153-854B-465A-B327-EAAC72F13C45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F8800D-AA4D-43F7-9A4C-2EDCE6292E25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888A31-245A-4958-90E1-56497013936B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AB7972-3A62-469F-A6BF-5F223B6709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D8E651-FD9F-45A9-9987-F201FDD77197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44C544-4B1B-4B52-AD7A-F57C0B797AB4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3438DC-4162-4A7B-A4F1-D25CD654770C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C00538-E287-4AC2-AC69-39B2A336EC1C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8AFF15-9965-4C21-9C92-6FC0A1A14394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121D3B-AE9B-4334-BF70-DA230621BC92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884778-1E94-4E7F-94EA-97EAE5DD2C34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7328FA-5E62-4AE6-AE5C-BDE2A87CD2B3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F57B6B-8FE6-43F1-9B29-C69ED247C885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1CDA7B-C7DC-4CD7-9F12-F4E20C329E7E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87B031-D349-4D3B-8DA7-B534198721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08F5CE-E49B-454A-9240-F52E4073DDFB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5877F2-D3B5-4FE0-84EB-C1B29F4CC5B0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7C0CAA-51E0-4858-BD22-570E17A231FD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BF0F2C-F287-4436-BB09-AE9C5752F804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B0BDC7-45C4-409D-A4A6-1A6BD556C1DB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1D784E-FC65-4CA6-A6D4-98B62E5DD7D5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871B76-21DF-40DB-9F40-1FF596C87711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B6648A-5203-4A6D-BB9B-767C483B17A2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B0941F-85A3-498F-9472-F31BA045CCC2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6ECA94-B594-49D6-B313-767DB7E982B0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EDC547-3459-49B8-92E4-01D4D81D6C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61A464-AB6D-4CDF-A830-803F5C2DAAB4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204A3C-9921-47C1-956C-F66E6A8EEAAE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8AA1E2B-9646-484B-828A-9042CAF73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651E8D8-8EE5-428D-B55A-6470609F9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8ACAB50-DB39-472B-B744-F7AFBEC7A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A283B90-6BB8-4C7C-9B83-690C2B27F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90127EE-6C6B-4E1A-836E-9E5CD972E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BF655B7-3164-48DB-8766-AC63DF213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74DD692-5331-413D-B0BD-42A5598B3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F331E7A-4360-413E-82D7-38CF07C2C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B6EA350-83B6-48F5-81E8-058798818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04FE1B-A123-4DCC-9F77-A6478F3045EE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B851C0D-EBEC-4B10-9CC4-A5E74B6DE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F576873-3C06-47FE-9B9F-5E0E7C287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5600558-6A29-4D9F-B751-A389C6D89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35CABC-0391-4EE6-BE83-EF0C17B1F0CC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F55EE4-1DE1-4A9F-8273-8754A14DD6A4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tretch/>
        </p:blipFill>
        <p:spPr>
          <a:xfrm>
            <a:off x="-34920" y="-23760"/>
            <a:ext cx="9215280" cy="6912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bd100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bbd100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587640" y="727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8F2D7-2A32-4B38-8EDB-3945B10BDA99}" type="slidenum">
              <a:rPr b="1" lang="en-US" sz="1200" spc="-1" strike="noStrike">
                <a:solidFill>
                  <a:srgbClr val="80808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6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Picture 2" descr=""/>
          <p:cNvPicPr/>
          <p:nvPr/>
        </p:nvPicPr>
        <p:blipFill>
          <a:blip r:embed="rId2"/>
          <a:stretch/>
        </p:blipFill>
        <p:spPr>
          <a:xfrm>
            <a:off x="-304920" y="-22536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374" name="Text Box 4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6"/>
          <p:cNvSpPr/>
          <p:nvPr/>
        </p:nvSpPr>
        <p:spPr>
          <a:xfrm>
            <a:off x="468360" y="3500280"/>
            <a:ext cx="863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Verdana"/>
              </a:rPr>
              <a:t>Datu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8ca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00b8ca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 type="dt" idx="12"/>
          </p:nvPr>
        </p:nvSpPr>
        <p:spPr>
          <a:xfrm>
            <a:off x="1258560" y="3500280"/>
            <a:ext cx="338436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Picture 2" descr=""/>
          <p:cNvPicPr/>
          <p:nvPr/>
        </p:nvPicPr>
        <p:blipFill>
          <a:blip r:embed="rId2"/>
          <a:stretch/>
        </p:blipFill>
        <p:spPr>
          <a:xfrm>
            <a:off x="-304920" y="-22536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16" name="Text Box 4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6"/>
          <p:cNvSpPr/>
          <p:nvPr/>
        </p:nvSpPr>
        <p:spPr>
          <a:xfrm>
            <a:off x="468360" y="3500280"/>
            <a:ext cx="863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Verdana"/>
              </a:rPr>
              <a:t>Datu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751c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ff751c"/>
              </a:solidFill>
              <a:latin typeface="Verdan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 type="dt" idx="13"/>
          </p:nvPr>
        </p:nvSpPr>
        <p:spPr>
          <a:xfrm>
            <a:off x="1258560" y="3500280"/>
            <a:ext cx="338436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7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 type="dt" idx="1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 type="ftr" idx="1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 type="sldNum" idx="1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7C866-F906-493A-B307-EB86B1D42869}" type="slidenum">
              <a:rPr b="0" lang="nl-N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9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 type="sldNum" idx="1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61C7F-7369-4AEA-BBEE-C1F08B86211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2"/>
          <a:stretch/>
        </p:blipFill>
        <p:spPr>
          <a:xfrm>
            <a:off x="-34920" y="-23760"/>
            <a:ext cx="9215280" cy="6912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8ca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00b8ca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6587640" y="727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EFD36-5E6A-41E6-98EE-DF368D04C5FF}" type="slidenum">
              <a:rPr b="1" lang="en-US" sz="1200" spc="-1" strike="noStrike">
                <a:solidFill>
                  <a:srgbClr val="80808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"/>
          <p:cNvPicPr/>
          <p:nvPr/>
        </p:nvPicPr>
        <p:blipFill>
          <a:blip r:embed="rId2"/>
          <a:stretch/>
        </p:blipFill>
        <p:spPr>
          <a:xfrm>
            <a:off x="-34920" y="-23760"/>
            <a:ext cx="9215280" cy="6912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751c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ff751c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Num" idx="3"/>
          </p:nvPr>
        </p:nvSpPr>
        <p:spPr>
          <a:xfrm>
            <a:off x="6587640" y="727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21FFB-BED4-435B-B26D-4C7BC1B30A5F}" type="slidenum">
              <a:rPr b="1" lang="en-US" sz="1200" spc="-1" strike="noStrike">
                <a:solidFill>
                  <a:srgbClr val="80808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6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"/>
          <p:cNvPicPr/>
          <p:nvPr/>
        </p:nvPicPr>
        <p:blipFill>
          <a:blip r:embed="rId2"/>
          <a:stretch/>
        </p:blipFill>
        <p:spPr>
          <a:xfrm>
            <a:off x="-34920" y="-23760"/>
            <a:ext cx="9215280" cy="69120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8ca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00b8ca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4"/>
          </p:nvPr>
        </p:nvSpPr>
        <p:spPr>
          <a:xfrm>
            <a:off x="6587640" y="727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55329-F23B-4F1B-839D-6290C5193C20}" type="slidenum">
              <a:rPr b="1" lang="en-US" sz="1200" spc="-1" strike="noStrike">
                <a:solidFill>
                  <a:srgbClr val="80808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6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2" descr=""/>
          <p:cNvPicPr/>
          <p:nvPr/>
        </p:nvPicPr>
        <p:blipFill>
          <a:blip r:embed="rId2"/>
          <a:stretch/>
        </p:blipFill>
        <p:spPr>
          <a:xfrm>
            <a:off x="-34920" y="-23760"/>
            <a:ext cx="9215280" cy="691200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751c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ff751c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Num" idx="5"/>
          </p:nvPr>
        </p:nvSpPr>
        <p:spPr>
          <a:xfrm>
            <a:off x="6587640" y="727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22B45-72BC-4A72-B2DE-097A3B32C346}" type="slidenum">
              <a:rPr b="1" lang="en-US" sz="1200" spc="-1" strike="noStrike">
                <a:solidFill>
                  <a:srgbClr val="80808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6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15BB7-4F38-4AB9-B48A-DA4F096A76D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2" descr=""/>
          <p:cNvPicPr/>
          <p:nvPr/>
        </p:nvPicPr>
        <p:blipFill>
          <a:blip r:embed="rId2"/>
          <a:stretch/>
        </p:blipFill>
        <p:spPr>
          <a:xfrm>
            <a:off x="-304920" y="-22536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48" name="Text Box 4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6"/>
          <p:cNvSpPr/>
          <p:nvPr/>
        </p:nvSpPr>
        <p:spPr>
          <a:xfrm>
            <a:off x="468360" y="3500280"/>
            <a:ext cx="863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Verdana"/>
              </a:rPr>
              <a:t>Datu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bd100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bbd100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 type="dt" idx="9"/>
          </p:nvPr>
        </p:nvSpPr>
        <p:spPr>
          <a:xfrm>
            <a:off x="1258560" y="3500280"/>
            <a:ext cx="338436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Picture 2" descr=""/>
          <p:cNvPicPr/>
          <p:nvPr/>
        </p:nvPicPr>
        <p:blipFill>
          <a:blip r:embed="rId2"/>
          <a:stretch/>
        </p:blipFill>
        <p:spPr>
          <a:xfrm>
            <a:off x="-304920" y="-22536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90" name="Text Box 4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6"/>
          <p:cNvSpPr/>
          <p:nvPr/>
        </p:nvSpPr>
        <p:spPr>
          <a:xfrm>
            <a:off x="468360" y="3500280"/>
            <a:ext cx="863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Verdana"/>
              </a:rPr>
              <a:t>Datu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8ca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00b8ca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 type="dt" idx="10"/>
          </p:nvPr>
        </p:nvSpPr>
        <p:spPr>
          <a:xfrm>
            <a:off x="1258560" y="3500280"/>
            <a:ext cx="338436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Picture 2" descr=""/>
          <p:cNvPicPr/>
          <p:nvPr/>
        </p:nvPicPr>
        <p:blipFill>
          <a:blip r:embed="rId2"/>
          <a:stretch/>
        </p:blipFill>
        <p:spPr>
          <a:xfrm>
            <a:off x="-304920" y="-22536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332" name="Text Box 4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6"/>
          <p:cNvSpPr/>
          <p:nvPr/>
        </p:nvSpPr>
        <p:spPr>
          <a:xfrm>
            <a:off x="468360" y="3500280"/>
            <a:ext cx="863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Verdana"/>
              </a:rPr>
              <a:t>Datu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751c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ff751c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dt" idx="11"/>
          </p:nvPr>
        </p:nvSpPr>
        <p:spPr>
          <a:xfrm>
            <a:off x="1258560" y="3500280"/>
            <a:ext cx="338436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4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google.nl/url?url=http://payned.nl/nieuws/loonbeslag-wat-nu/&amp;rct=j&amp;frm=1&amp;q=&amp;esrc=s&amp;sa=U&amp;ei=9qSEVJqtNsW_PITvgYgP&amp;ved=0CCYQ9QEwCA&amp;usg=AFQjCNHvqkYd78LKxoBiyQRkfQOjCfYwNw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4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2195640" y="1125000"/>
            <a:ext cx="4186080" cy="230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Bedrijfs-administratie</a:t>
            </a:r>
            <a:br>
              <a:rPr sz="2800"/>
            </a:br>
            <a:br>
              <a:rPr sz="2800"/>
            </a:b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les 7 Hdst 4.3 – 4.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68360" y="907920"/>
            <a:ext cx="7773840" cy="64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Grootboekrekeningen van een BV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Rectangle 19"/>
          <p:cNvSpPr/>
          <p:nvPr/>
        </p:nvSpPr>
        <p:spPr>
          <a:xfrm>
            <a:off x="1473120" y="2060640"/>
            <a:ext cx="67690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Wielands Bandencentrum BV: Alle aandelen van de directeur (= directeur en eigenaar van de BV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De rekeningen: </a:t>
            </a:r>
            <a:r>
              <a:rPr b="1" i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Aandelenvermogen 060, Winstreserve 061 en te betalen vennootschapsbelasting 18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In rubr. 1 op </a:t>
            </a:r>
            <a:r>
              <a:rPr b="1" i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Rekening courant directeur 180 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privé-opnamen en –storti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Op rekening </a:t>
            </a:r>
            <a:r>
              <a:rPr b="1" i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Personeelskosten 400 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ook salaris van de directe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Afbeelding 1" descr=""/>
          <p:cNvPicPr/>
          <p:nvPr/>
        </p:nvPicPr>
        <p:blipFill>
          <a:blip r:embed="rId1"/>
          <a:stretch/>
        </p:blipFill>
        <p:spPr>
          <a:xfrm>
            <a:off x="6948360" y="4641840"/>
            <a:ext cx="1854360" cy="185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4360" y="10764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Inkopen en vaste verrekenprij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39280" y="1260360"/>
            <a:ext cx="764388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Geschatte inkoopprijzen wat  men denkt te moeten betalen = vaste verrekenprijs (vvp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Voorraadrekeningen bijwerken tegen vvp’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Verschil tussen werkelijke inkoopprijs en vvp op rekening </a:t>
            </a:r>
            <a:r>
              <a:rPr b="1" i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Prijsverschillen 71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Indien werkelijke inkoopprijs hoger = debet op rekening prijsverschill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i="1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Inkoopfactuur (= If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omschrijving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debet         credi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45" name=""/>
          <p:cNvGraphicFramePr/>
          <p:nvPr/>
        </p:nvGraphicFramePr>
        <p:xfrm>
          <a:off x="1714680" y="4940280"/>
          <a:ext cx="6467400" cy="1881360"/>
        </p:xfrm>
        <a:graphic>
          <a:graphicData uri="http://schemas.openxmlformats.org/drawingml/2006/table">
            <a:tbl>
              <a:tblPr/>
              <a:tblGrid>
                <a:gridCol w="4221000"/>
                <a:gridCol w="1157400"/>
                <a:gridCol w="1089000"/>
              </a:tblGrid>
              <a:tr h="562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oorraad goederen (=vvp-waard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= excl. BTW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</a:t>
                      </a: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ijsverschill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</a:t>
                      </a: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X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X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5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 vorderen BTW (6 of 21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</a:t>
                      </a: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8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rediteuren (= incl. BTW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</a:t>
                      </a: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46" name="Afbeelding 1" descr=""/>
          <p:cNvPicPr/>
          <p:nvPr/>
        </p:nvPicPr>
        <p:blipFill>
          <a:blip r:embed="rId1"/>
          <a:stretch/>
        </p:blipFill>
        <p:spPr>
          <a:xfrm>
            <a:off x="7777080" y="2773440"/>
            <a:ext cx="1440000" cy="14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826560" y="188640"/>
            <a:ext cx="7774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Verkopen en vaste verrekenprijze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"/>
          <p:cNvSpPr txBox="1"/>
          <p:nvPr/>
        </p:nvSpPr>
        <p:spPr>
          <a:xfrm>
            <a:off x="468360" y="1844640"/>
            <a:ext cx="777384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Verkoopfactuur is identiek aan voorgaand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Verzendbon: De rekening </a:t>
            </a:r>
            <a:r>
              <a:rPr b="1" i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inkoopprijs verkopen 800 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en </a:t>
            </a:r>
            <a:r>
              <a:rPr b="1" i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voorraad goederen 700 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tegen vvp-waarde coder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9" name="Afbeelding 2" descr=""/>
          <p:cNvPicPr/>
          <p:nvPr/>
        </p:nvPicPr>
        <p:blipFill>
          <a:blip r:embed="rId1"/>
          <a:stretch/>
        </p:blipFill>
        <p:spPr>
          <a:xfrm>
            <a:off x="5796000" y="4221000"/>
            <a:ext cx="200988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4360" y="29160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Het Jaarwerk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nl-NL" sz="1400" spc="-1" strike="noStrike">
                <a:solidFill>
                  <a:srgbClr val="000000"/>
                </a:solidFill>
                <a:latin typeface="Calibri"/>
              </a:rPr>
              <a:t>(1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71040" y="1628640"/>
            <a:ext cx="764388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Saldo van de rekening prijsverschillen overboeken naar rekening </a:t>
            </a:r>
            <a:r>
              <a:rPr b="1" i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Inkoopprijs verkopen 80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Bijv. debetsaldo van € 200 op de rekening prijsverschillen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omschrijving                                    debet          credi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52" name=""/>
          <p:cNvGraphicFramePr/>
          <p:nvPr/>
        </p:nvGraphicFramePr>
        <p:xfrm>
          <a:off x="1547640" y="4608360"/>
          <a:ext cx="6323040" cy="878040"/>
        </p:xfrm>
        <a:graphic>
          <a:graphicData uri="http://schemas.openxmlformats.org/drawingml/2006/table">
            <a:tbl>
              <a:tblPr/>
              <a:tblGrid>
                <a:gridCol w="4127760"/>
                <a:gridCol w="1130040"/>
                <a:gridCol w="1065240"/>
              </a:tblGrid>
              <a:tr h="43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koopprijs verkop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€  </a:t>
                      </a: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ijsverschill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€  </a:t>
                      </a: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53" name="Picture 25" descr="ANd9GcQTA42zAhOzJn_iYAO60Lo0uSwAnZC2t8tY0cSoIuQI9zXtNhj3IptbLA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653240" y="5592600"/>
            <a:ext cx="1325520" cy="126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1547640" y="321840"/>
            <a:ext cx="6645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Het Jaarwerk </a:t>
            </a:r>
            <a:r>
              <a:rPr b="1" lang="nl-NL" sz="1400" spc="-1" strike="noStrike">
                <a:solidFill>
                  <a:srgbClr val="000000"/>
                </a:solidFill>
                <a:latin typeface="Arial"/>
                <a:ea typeface="Arial"/>
              </a:rPr>
              <a:t>(2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1042560" y="1484280"/>
            <a:ext cx="727092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  <a:ea typeface="Arial"/>
              </a:rPr>
              <a:t>Rekening </a:t>
            </a:r>
            <a:r>
              <a:rPr b="1" i="1" lang="nl-NL" sz="1600" spc="-1" strike="noStrike">
                <a:solidFill>
                  <a:srgbClr val="000000"/>
                </a:solidFill>
                <a:latin typeface="Arial"/>
                <a:ea typeface="Arial"/>
              </a:rPr>
              <a:t>171 Nog te betalen bedragen </a:t>
            </a:r>
            <a:r>
              <a:rPr b="1" lang="nl-NL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credit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  <a:ea typeface="Arial"/>
              </a:rPr>
              <a:t> noteren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  <a:ea typeface="Arial"/>
              </a:rPr>
              <a:t>(= schuld van het huidige jaar!!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  <a:ea typeface="Arial"/>
              </a:rPr>
              <a:t>Rekening </a:t>
            </a:r>
            <a:r>
              <a:rPr b="1" i="1" lang="nl-NL" sz="1600" spc="-1" strike="noStrike">
                <a:solidFill>
                  <a:srgbClr val="000000"/>
                </a:solidFill>
                <a:latin typeface="Arial"/>
                <a:ea typeface="Arial"/>
              </a:rPr>
              <a:t>170 Vooruit betaalde bedragen </a:t>
            </a:r>
            <a:r>
              <a:rPr b="1" lang="nl-NL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debet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  <a:ea typeface="Arial"/>
              </a:rPr>
              <a:t> notere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3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  <a:ea typeface="Arial"/>
              </a:rPr>
              <a:t>(= bezitting van het huidige jaar!!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56" name=""/>
          <p:cNvGraphicFramePr/>
          <p:nvPr/>
        </p:nvGraphicFramePr>
        <p:xfrm>
          <a:off x="1951200" y="4035600"/>
          <a:ext cx="6149880" cy="877680"/>
        </p:xfrm>
        <a:graphic>
          <a:graphicData uri="http://schemas.openxmlformats.org/drawingml/2006/table">
            <a:tbl>
              <a:tblPr/>
              <a:tblGrid>
                <a:gridCol w="4014720"/>
                <a:gridCol w="1098360"/>
                <a:gridCol w="1036800"/>
              </a:tblGrid>
              <a:tr h="43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ntekoste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€  </a:t>
                      </a: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g te betalen bedrage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€  </a:t>
                      </a: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57" name=""/>
          <p:cNvGraphicFramePr/>
          <p:nvPr/>
        </p:nvGraphicFramePr>
        <p:xfrm>
          <a:off x="1990800" y="5743440"/>
          <a:ext cx="6110280" cy="878040"/>
        </p:xfrm>
        <a:graphic>
          <a:graphicData uri="http://schemas.openxmlformats.org/drawingml/2006/table">
            <a:tbl>
              <a:tblPr/>
              <a:tblGrid>
                <a:gridCol w="3987720"/>
                <a:gridCol w="1092240"/>
                <a:gridCol w="1030320"/>
              </a:tblGrid>
              <a:tr h="43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ooruitbetaalde bedrage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€  </a:t>
                      </a: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an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€  </a:t>
                      </a: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8" name="Rectangle 3"/>
          <p:cNvSpPr/>
          <p:nvPr/>
        </p:nvSpPr>
        <p:spPr>
          <a:xfrm>
            <a:off x="539640" y="1484280"/>
            <a:ext cx="741384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  <a:ea typeface="Arial"/>
              </a:rPr>
              <a:t>     </a:t>
            </a:r>
            <a:r>
              <a:rPr b="0" lang="nl-NL" sz="1600" spc="-1" strike="noStrike" u="sng">
                <a:solidFill>
                  <a:srgbClr val="000000"/>
                </a:solidFill>
                <a:uFillTx/>
                <a:latin typeface="Verdana"/>
                <a:ea typeface="Arial"/>
              </a:rPr>
              <a:t>Bijv.  te betalen rente-kosten € 2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Verdana"/>
                <a:ea typeface="Arial"/>
              </a:rPr>
              <a:t>                          </a:t>
            </a:r>
            <a:r>
              <a:rPr b="1" lang="nl-NL" sz="1600" spc="-1" strike="noStrike">
                <a:solidFill>
                  <a:srgbClr val="000000"/>
                </a:solidFill>
                <a:latin typeface="Verdana"/>
                <a:ea typeface="Arial"/>
              </a:rPr>
              <a:t>omschrijving                                debet     cred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0" lang="nl-NL" sz="1600" spc="-1" strike="noStrike" u="sng">
                <a:solidFill>
                  <a:srgbClr val="000000"/>
                </a:solidFill>
                <a:uFillTx/>
                <a:latin typeface="Verdana"/>
                <a:ea typeface="Arial"/>
              </a:rPr>
              <a:t>Bijv. vooruitbetaalde premie verzekeringen € 65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1" lang="nl-NL" sz="1600" spc="-1" strike="noStrike">
                <a:solidFill>
                  <a:srgbClr val="000000"/>
                </a:solidFill>
                <a:latin typeface="Verdana"/>
                <a:ea typeface="Arial"/>
              </a:rPr>
              <a:t>                    </a:t>
            </a:r>
            <a:r>
              <a:rPr b="1" lang="nl-NL" sz="1600" spc="-1" strike="noStrike">
                <a:solidFill>
                  <a:srgbClr val="000000"/>
                </a:solidFill>
                <a:latin typeface="Verdana"/>
                <a:ea typeface="Arial"/>
              </a:rPr>
              <a:t>omschrijving                                 debet     cred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9" name="Afbeelding 1" descr=""/>
          <p:cNvPicPr/>
          <p:nvPr/>
        </p:nvPicPr>
        <p:blipFill>
          <a:blip r:embed="rId1"/>
          <a:stretch/>
        </p:blipFill>
        <p:spPr>
          <a:xfrm>
            <a:off x="6372360" y="455760"/>
            <a:ext cx="2327040" cy="13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1979280" y="333000"/>
            <a:ext cx="6645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Kolommenbalans van een BV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"/>
          <p:cNvSpPr txBox="1"/>
          <p:nvPr/>
        </p:nvSpPr>
        <p:spPr>
          <a:xfrm>
            <a:off x="2050560" y="1197000"/>
            <a:ext cx="66358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4 rekeningen specifiek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Aandelenvermog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Winstreserv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Rekening-courant directeur (=privé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Te betalen vennootschapsbelasting (VpB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2" name="Afbeelding 3" descr=""/>
          <p:cNvPicPr/>
          <p:nvPr/>
        </p:nvPicPr>
        <p:blipFill>
          <a:blip r:embed="rId1"/>
          <a:stretch/>
        </p:blipFill>
        <p:spPr>
          <a:xfrm>
            <a:off x="5940360" y="4292640"/>
            <a:ext cx="246708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1979280" y="333000"/>
            <a:ext cx="6645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Huiswerk……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"/>
          <p:cNvSpPr txBox="1"/>
          <p:nvPr/>
        </p:nvSpPr>
        <p:spPr>
          <a:xfrm>
            <a:off x="2050560" y="1197000"/>
            <a:ext cx="66358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Huiswerk les 7 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Maken de opdrachten van Hdst. 4 paragraaf 3 t/m 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van het boek: Administratie voor het MK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Dit wordt nabesproken in de volgende l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Succ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AutoShape 2"/>
          <p:cNvSpPr/>
          <p:nvPr/>
        </p:nvSpPr>
        <p:spPr>
          <a:xfrm>
            <a:off x="117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6" name="Picture 3" descr=""/>
          <p:cNvPicPr/>
          <p:nvPr/>
        </p:nvPicPr>
        <p:blipFill>
          <a:blip r:embed="rId1"/>
          <a:stretch/>
        </p:blipFill>
        <p:spPr>
          <a:xfrm>
            <a:off x="6084720" y="4724280"/>
            <a:ext cx="2581560" cy="17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10T10:15:35Z</dcterms:created>
  <dc:creator>Amber Ancion</dc:creator>
  <dc:description/>
  <dc:language>en-US</dc:language>
  <cp:lastModifiedBy>Jo van den Broek</cp:lastModifiedBy>
  <dcterms:modified xsi:type="dcterms:W3CDTF">2015-09-07T11:21:57Z</dcterms:modified>
  <cp:revision>198</cp:revision>
  <dc:subject/>
  <dc:title>Gemeente</dc:title>
</cp:coreProperties>
</file>