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27D4E-F809-47E9-AF3D-92F476F5ED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42855-F829-4845-A097-EF1DEFE1756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3C8B-9CD6-487B-A3A1-905E9CF3D90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D504A-B1AD-4005-8BEC-0D4737250E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9B868-AC80-4BA9-9A1B-5A7EE07B15C8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4F02BC5-F5F2-453D-A171-D0D4A2AE8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046F6-2AAE-448E-8FC9-11572D8B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79B3F3-B6F8-47D7-BF32-489FB1F9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0E2965-A80A-4961-965D-791B77D1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6DD9E2-AE97-4957-B6EF-A6E70354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4C857D-C182-49FF-A455-FE76F805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C9CBC8-F25A-4BAF-B485-E4D000F2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6BE0E-ADA8-409A-B70E-376D16E0FC91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87DE674-1ADE-4EEB-B8E8-EA4BD570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31B223-4E28-4869-B49B-FBCABD69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86059E-F862-49DE-837C-512B756D5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4F6FF-D60F-44AF-A17A-60CE1A66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852F4-CBFA-400A-AC44-99A1074F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E92982-0335-40B2-B39F-D1EB675A6CBD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DA2B44-DBCF-4475-BB4F-09E3B1BC77F7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9BD11-3E08-4D2C-87F6-71DFA4AB7D6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F3511E-7CE1-4958-954F-5A9F54E813D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48FEF-78FD-461A-B73F-9A0E41D5BD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18C56-BC7E-445B-8002-A37A55EBB8A5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AF3E0A-339C-4E10-8A32-F02B4C7182C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679B6-5FD8-466A-B7D7-B954114B2B2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1371C8-F261-4F7C-BF27-309FCF95F31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3CF16E-46AB-4B6F-ADB8-A41E776AAAA3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BB4E73-768B-4E41-854C-22A12ABB2F81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23754F-2E03-4C95-BB21-F11703779A8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60A615-A3BC-43C4-BCFC-7046929D6FA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C9907-519E-477C-8330-5D9D0F83BC6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1AA90-8D38-4052-9F90-518BE31CCD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46E2F-2CF1-4D00-A078-3FED82BC98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A7EB9-1A45-4329-BA0D-6D0ED3BD9A9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9F5C-B04B-4ABC-B911-E9F5789973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5408F-B0D8-4F6B-9CD8-E331BF5287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484A3-C23C-4CB9-91DD-812E47BCF89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CCB23-F526-49C1-B177-7099ADBD45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E9876-F059-4B54-A38D-32A4677F10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43E86-D234-4CCC-A8D3-4ECEB09F83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2F1-3DED-489B-B1CC-ED4E26C147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5261-9A34-4A19-81C4-BA8DC101E19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5ACF-F6EE-4DA5-B5C1-0133EF2C20A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04D8-4E70-418E-AB41-38C982035AD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CC5-E731-410B-8305-1E22E95E63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0A32C-F75A-4FE9-914F-A77F4BBD984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1F2-C95D-4BF2-8D17-429564E422F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E28C-0742-43EC-BC33-79D7FD8742D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971A-6091-4466-9547-7C4DF78258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3F6D-C84D-4E27-9AA5-9CA3CB1407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1F5-8DF5-43B4-A0DC-E8224E07AE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1F1C-40F1-4166-A5AA-670C3E88F5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FDF8-A423-41E9-984A-63C8CFF809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76157-EF6E-469E-BDE3-C6E92C32F79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6F950-E616-49C9-9963-2B945522D81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0318EF-1E0F-48EE-884F-7535DC69F4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B3B1-D614-4586-BAA3-ED68F5718F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272FE3-85B2-46AF-B8B4-4526F15A0C9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2B4F90-BFA1-44D5-97B1-4F71F06AC6E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B80FFC-B7BB-4122-80B4-AA0D2C5E2E7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85D2D-EF6F-4C39-8614-8EBC08DDAE5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B3E2C7-FF34-4337-A096-5139774601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73D4B7-E8E0-4D71-B6C9-556AF4B6C17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B85506-69A2-4A9D-8B72-5250F083BA5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876E8F-7CE3-4C68-8F7E-EBBDB328BE8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88B48-0D4B-40FA-A34E-35D1C4EAA8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0F7D32-D669-4AA5-82F7-643D5243CC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5935-AB91-4025-84C6-D5CF84458B8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39D22E-0FA3-42B7-9327-14144D9B2BD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0F30D-9441-4B4F-AF63-95BDBD85893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9794D-02C3-431B-9047-B2DA0B89E4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14861-D3CC-4083-988B-FF101A339D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CEADF-EC0B-4FD0-B1EE-109912BB457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94F875-8153-42ED-8477-BBF3E755BC6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F42674-85C4-47FE-9D3A-FD7155C3D23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85E1AD-C4F9-4959-B2DC-04C4F588AE8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B8FF3-1739-4EA8-979B-6C5C46AA00A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02108-DBAB-43F1-88F9-426A73703A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BB29-DD44-427F-BF28-7D81F616666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CA445-623F-40FF-8A0F-10BAAF52703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26389-21D8-4F75-A30B-330451A2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D0FA90-284F-489E-BC04-B5373DD7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F0F112-4EC2-4C33-B804-33C54C6F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C995C-18EA-46F3-86BF-AB6CBD8E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5619B0-7AF1-4EF5-A2AE-E2BC07F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B967C4-2A73-4557-BD67-8CD53F2E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EDBE86-3C11-46B5-90D6-A544C1F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BD2C06-2EBB-44C3-8E72-E15B378F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B214BA-84C2-4D2D-B045-0F6128315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4CC34-5505-4770-AE0D-E1EED39A6E6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66856F-80A5-493D-A941-622C3B92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0BB0E-00CC-4A14-950C-73158715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D3518A-C91F-4583-B46B-CFCC2B91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D4D84-7096-485F-977D-2A56F6F5D35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C3D6-D057-481F-AF8C-A8E45EA237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D47DA-33B9-412E-905C-DB16B22FFAE1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CFB9-7D00-4F7E-9927-82B26294F15A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F735-EB12-4582-887A-CB60FC979D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D082-A2D0-48BA-934E-C7F941A23CAD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9C53-7147-4120-9AC9-1EA46F844E1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5951-40D1-4A0F-A557-C527612CB68C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56D7-AB3D-443F-819D-E3A1C28EA0FA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658E-7E7B-4530-BC96-55201261E9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payned.nl/nieuws/loonbeslag-wat-nu/&amp;rct=j&amp;frm=1&amp;q=&amp;esrc=s&amp;sa=U&amp;ei=9qSEVJqtNsW_PITvgYgP&amp;ved=0CCYQ9QEwCA&amp;usg=AFQjCNHvqkYd78LKxoBiyQRkfQOjCfYwNw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19564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8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6 H4.1 – 4.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46280" y="40464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nnismaking met de BV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619280" y="2060640"/>
            <a:ext cx="67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0 géén Eigen Vermogen en Pri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de rekeningen: Aandelenvermogen, Winstreserve en Rekening-courant dir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rubr. 2: Geld onderweg of kruisposten en Voorlopige boeki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"/>
          <p:cNvPicPr/>
          <p:nvPr/>
        </p:nvPicPr>
        <p:blipFill>
          <a:blip r:embed="rId1"/>
          <a:stretch/>
        </p:blipFill>
        <p:spPr>
          <a:xfrm>
            <a:off x="6012000" y="4254480"/>
            <a:ext cx="267624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et boeken van BTW</a:t>
            </a:r>
            <a:r>
              <a:rPr b="0" lang="nl-NL" sz="1400" spc="-1" strike="noStrike">
                <a:solidFill>
                  <a:srgbClr val="000000"/>
                </a:solidFill>
                <a:latin typeface="Calibri"/>
              </a:rPr>
              <a:t>(1)</a:t>
            </a:r>
            <a:br>
              <a:rPr sz="4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115640" y="1390680"/>
            <a:ext cx="71629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ntvangen BTW van afnemers/klanten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betal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aan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de fiscus (= rek. van schuld), dus credi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etaalde BTW aan leveranciers = </a:t>
            </a:r>
            <a:r>
              <a:rPr b="1" i="1" lang="nl-NL" sz="2000" spc="-1" strike="noStrike">
                <a:solidFill>
                  <a:srgbClr val="000000"/>
                </a:solidFill>
                <a:latin typeface="Calibri"/>
              </a:rPr>
              <a:t>te vorderen BTW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van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de fiscus (= rek. van bezit), dus debet boek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TW-tarieve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Algemeen tarief = 21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erlaagd tarief = 6% (levensmiddelen, boeken, et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Vrijgesteld tarief = geen btw plicht (onderwijs, gezondheidszorg, verzeker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2" descr=""/>
          <p:cNvPicPr/>
          <p:nvPr/>
        </p:nvPicPr>
        <p:blipFill>
          <a:blip r:embed="rId1"/>
          <a:stretch/>
        </p:blipFill>
        <p:spPr>
          <a:xfrm>
            <a:off x="6300720" y="4419720"/>
            <a:ext cx="172728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4360" y="7092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915920"/>
            <a:ext cx="7643880" cy="41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factuur wordt betaald aan de leverancier, maar is terug te vorderen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                   debet   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908000" y="4460760"/>
          <a:ext cx="6323040" cy="1533600"/>
        </p:xfrm>
        <a:graphic>
          <a:graphicData uri="http://schemas.openxmlformats.org/drawingml/2006/table">
            <a:tbl>
              <a:tblPr/>
              <a:tblGrid>
                <a:gridCol w="4127760"/>
                <a:gridCol w="1130040"/>
                <a:gridCol w="106524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280" y="5364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TW in de inkoopcreditfactu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1187280" y="1197000"/>
            <a:ext cx="7499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 BTW op de inkoopcreditfactuur vermindert de vordering van de fiscus (= belastingdien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koopfactuur (= If)  </a:t>
            </a:r>
            <a:r>
              <a:rPr b="1" i="1" lang="nl-NL" sz="2000" spc="-1" strike="noStrike">
                <a:solidFill>
                  <a:srgbClr val="ff0000"/>
                </a:solidFill>
                <a:latin typeface="Arial"/>
                <a:ea typeface="Arial"/>
              </a:rPr>
              <a:t>Inkoopcreditfactuur (=I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mschrijving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debet         cred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1739880" y="3638520"/>
          <a:ext cx="6394320" cy="1533600"/>
        </p:xfrm>
        <a:graphic>
          <a:graphicData uri="http://schemas.openxmlformats.org/drawingml/2006/table">
            <a:tbl>
              <a:tblPr/>
              <a:tblGrid>
                <a:gridCol w="4148280"/>
                <a:gridCol w="1157040"/>
                <a:gridCol w="108900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orraad goederen, …kosten, inventaris, machines, … (= ex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 vorderen BTW (6 of 21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 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editeuren (= incl. BT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 </a:t>
                      </a:r>
                      <a:r>
                        <a:rPr b="1" lang="nl-NL" sz="1400" spc="-1" strike="noStrike">
                          <a:solidFill>
                            <a:srgbClr val="cc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2016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764388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Bij geld-opname of storting op de bankrekening is het bedrag niet meteen af- of bij-geschreven op de bankrekening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dat het bericht van de bank (soms zelfs enkele dagen) later komt, het bedrag tijdelijk boeken op de rekening: Geld onderweg (= tussenrekening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nl-NL" sz="2000" spc="-1" strike="noStrike" u="sng">
                <a:solidFill>
                  <a:srgbClr val="000000"/>
                </a:solidFill>
                <a:uFillTx/>
                <a:latin typeface="Calibri"/>
              </a:rPr>
              <a:t>Bijv. geldopname van € 200 van de bankreke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omschrijving                             debet      credi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340000" y="4808520"/>
          <a:ext cx="5184720" cy="878040"/>
        </p:xfrm>
        <a:graphic>
          <a:graphicData uri="http://schemas.openxmlformats.org/drawingml/2006/table">
            <a:tbl>
              <a:tblPr/>
              <a:tblGrid>
                <a:gridCol w="3384360"/>
                <a:gridCol w="927360"/>
                <a:gridCol w="873000"/>
              </a:tblGrid>
              <a:tr h="4348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5" name="Picture 25" descr="ANd9GcQTA42zAhOzJn_iYAO60Lo0uSwAnZC2t8tY0cSoIuQI9zXtNhj3IptbL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24720" y="5241960"/>
            <a:ext cx="1325520" cy="12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547640" y="333000"/>
            <a:ext cx="6645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ld onderweg 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of kruisposten </a:t>
            </a:r>
            <a:r>
              <a:rPr b="1" lang="nl-NL" sz="12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801720" y="1341360"/>
            <a:ext cx="7270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ls het bankafschrift later ontvangen wordt, het bedrag op de rekening: Geld onderweg (= tussenrekening) tegenboeken zodat de rekening: Geld onderweg weer glad loop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8" name=""/>
          <p:cNvGraphicFramePr/>
          <p:nvPr/>
        </p:nvGraphicFramePr>
        <p:xfrm>
          <a:off x="2529000" y="4417920"/>
          <a:ext cx="4682880" cy="1036800"/>
        </p:xfrm>
        <a:graphic>
          <a:graphicData uri="http://schemas.openxmlformats.org/drawingml/2006/table">
            <a:tbl>
              <a:tblPr/>
              <a:tblGrid>
                <a:gridCol w="3057480"/>
                <a:gridCol w="836640"/>
                <a:gridCol w="7887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ld onderwe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a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€  </a:t>
                      </a:r>
                      <a:r>
                        <a:rPr b="1" lang="nl-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9" name="Rectangle 3"/>
          <p:cNvSpPr/>
          <p:nvPr/>
        </p:nvSpPr>
        <p:spPr>
          <a:xfrm>
            <a:off x="801720" y="1617840"/>
            <a:ext cx="727056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nl-NL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ij ontvangst bankafschrift van de bankrekening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mschrijving                     debet      cred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6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4 paragraaf 1 en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14:11Z</dcterms:modified>
  <cp:revision>190</cp:revision>
  <dc:subject/>
  <dc:title>Gemeente</dc:title>
</cp:coreProperties>
</file>