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B919-307B-4DF0-8F16-FA511AF41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2B2C-173B-430C-9E3B-87ED6BDB26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EA7F-1DE9-4D37-9591-F5F372E0F29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8D3C-A08A-4198-A9D9-87B39477B07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DB83-F45A-483B-A4C1-100353AEE6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52782F-020F-4A82-BD0A-7C769692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98E11A-ADB1-404F-AC74-661F7334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33CCD4-56F4-444F-8946-7B8A8EE0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3460CF-F3D4-48C1-9CEA-7BC92114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90B57-F5BD-489A-9674-1923222A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1C9BFC-876F-4096-9600-D600B4A9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ADF8B-80BE-49A3-B43E-C307FD7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DADE-8B51-4641-865F-E454859F53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9911B-5C20-41F9-A950-5E20DD1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6CE70E-0CCF-485D-A20C-65BDD9E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F1105C-3A5F-49DD-B1B6-BD27A40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B1AED-D798-42C8-A7BE-7FA62E9E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1891F-A3D4-4E18-9459-8BFFA802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338D-6D1A-410F-8F13-2463CF5B7C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7255-6450-4FB5-906A-00CA986998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8332-C0C6-4C40-8E1B-668AD9B8DF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47CC-0FD0-484F-9D92-B3A6B1E2E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1E72-8A82-4B8F-9048-F49989F6A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6ED9-7D22-48FE-90F4-B030DB092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11E0-EB09-4AEF-994D-16A69B53C2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95AE-888A-4B01-BA1B-FE2AB7CA4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08F7-D934-4CFD-AA7E-D7028CE5F8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EFFA-A81C-4B7F-B9AD-80144A2838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2E14-1403-49F1-82C3-09FF21264C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5A0-2BE3-4154-890D-6266FA6EBA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D03-F8EA-4310-AF2E-7799C662BC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35A-2930-4158-AC5B-F79C501959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D07-51C2-4E80-81DD-B49C25F1A8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36C-6C52-4F23-A8C9-3F8E0B461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835F-C765-41D1-BC61-A8DAC66ECE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D4A-97EB-468A-AB1F-D77CE23852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E94-D5B3-4423-9A62-117190D060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55B-3A76-4D23-9889-20872B6247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278-FDAE-4766-9C06-B76F5A66BD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C6E-12F2-4701-93FB-03DE2C5263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2C8-A2EC-40BE-9967-F5EE0C8C06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773-8B57-4F94-9CF0-AF90A7AB87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7E486-1B05-4380-9A72-6EC5732953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4600F-DF10-4A53-99F5-98B329821C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F68B7-96CC-4D3E-9286-1FD2C9C59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C707-2C57-47E0-BB9A-EDA3CCBCC6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D65ED-3A0A-4E84-BD6A-17128EFCFE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110B-83FA-4AEC-B476-79DB44E75C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FA084-0BB2-4019-822F-0C22783D77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6401A-DD27-4931-8BDB-82288A3726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3D26C-CCD0-4AAC-82FA-03E89F9DCF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5D6BA-444D-4E10-971F-35288E10B1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119E2-6EFB-4A22-85CF-D5E430668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04E1-5846-4C08-B4C5-627A62428C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8FE9D-4D5A-4D17-9EEF-0D0BC11088E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01CEF-7A0B-4EF0-A1FD-55A5CF9CC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5197-58D9-42AD-B9BD-4DD2FCA217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3C763-97BD-4597-8226-D272F9A7C1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8566A-A6C1-4D3D-83CD-4F03F2F89F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514F1-BE88-4C88-88D3-D8AE487925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A91E9-76D8-420C-BC6B-41DE4557C1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C332-DD22-4B17-B93C-3DD8052569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18690-83C0-46AC-9F59-1140CD71C8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DCEFF-56D3-4F53-9B8B-C3E2E47C5F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EF2EA-D527-4349-A1F1-482458138B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F70B5-E14E-439A-B77C-6020B35E296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5C101-3955-4750-A827-0244CA994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ED00-2671-4C4F-A59A-C7A4ADD051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2CFCC-6AE8-4025-A096-F2A7AC039A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D1B39-6908-4D58-85BA-99B81EA3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D98A9-7D57-4656-A39E-9FF82AC6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50741-A22D-4D70-991F-C8DA91AF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5A828-809D-47B8-9AB9-9BD619B0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BBFD0-09CB-40CB-A037-30D8547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BBA42-8B87-4029-868C-881A655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9121A-EED6-4290-80AE-A8865A8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47759-0D8E-47EA-BB65-D8F2216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BCC48-820E-40B9-98E0-19DEFEA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EB4C-EC16-4E31-9B8D-7E1498E5B6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BBA43-800D-41A0-8F0C-8DD9134D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77661-E6AD-4451-9979-1FE7ED72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E0718-68D5-4B7D-AB8C-094935F1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0B0A-7136-4CA6-97E7-9FB217F851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1BCF-CAD7-406D-8658-123512F513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2460-64D7-46B1-BBD3-DEEA8486A6B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9539-9AD7-4D9A-AA98-0D63DC55DDDC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EF2-887D-4146-AEA9-4A4AFEFBEF9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661-FA6D-4186-B4BF-3C57C569C24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BFE-A0BF-4B30-B370-B85A2A88B0F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C88E-43E5-4AC9-8CAB-14FE673FE6B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3F83-8D60-417E-A432-4790CF109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11 Hdst 6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692360" y="1925640"/>
            <a:ext cx="67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tailhan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re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kelamb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veel contante ontva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dag/week een kascontrole-st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5292720" y="4479840"/>
            <a:ext cx="3460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924200" y="16282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a en kascontro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strook kassa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2.649,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estrook betaalautomaat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€  1.023,50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ankstort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1.625,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1" descr=""/>
          <p:cNvPicPr/>
          <p:nvPr/>
        </p:nvPicPr>
        <p:blipFill>
          <a:blip r:embed="rId1"/>
          <a:stretch/>
        </p:blipFill>
        <p:spPr>
          <a:xfrm>
            <a:off x="6130800" y="4437000"/>
            <a:ext cx="212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12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280" y="148428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edere ochtend een vast bedrag aan wisselgeld in de ka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ontvangstenkolom: de omzet en te betalen btw van de contante verk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uitgavenkolom: de contante betalingen en de bedragen die onderweg zijn naar de bank (= pin- en creditcard-betal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51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2960" y="337680"/>
            <a:ext cx="777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bankbijschrijv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Nb.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rekeningnr. 200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wege ‘geld onderwe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476360" y="1844640"/>
          <a:ext cx="6095880" cy="1484280"/>
        </p:xfrm>
        <a:graphic>
          <a:graphicData uri="http://schemas.openxmlformats.org/drawingml/2006/table">
            <a:tbl>
              <a:tblPr/>
              <a:tblGrid>
                <a:gridCol w="3311640"/>
                <a:gridCol w="1368360"/>
                <a:gridCol w="141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 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ting kasgeld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card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1780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76360" y="1125360"/>
            <a:ext cx="6478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1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584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4:22Z</dcterms:modified>
  <cp:revision>228</cp:revision>
  <dc:subject/>
  <dc:title>Gemeente</dc:title>
</cp:coreProperties>
</file>