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340AC-AAE2-4759-9877-F9905475E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70651-FF0C-4735-8828-54B96BCF7ED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CF314-F7F9-4C0B-9AAD-96B2053E40B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89FF5-B145-4815-950F-F62EBA63DC8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67710-1A8F-462B-B38E-3A94152294C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8D73DB-3540-4B1F-BF93-F80780A29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2A2615-625B-4CF1-BCA2-862F8066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4D02FF-5101-4766-B58D-261EF1E9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6C56E8-6C9C-4FCC-9BBC-1501F78F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B7E86E-332D-497D-A667-DFF0A9532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193932-CE87-4D24-838D-E90681A79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7433DF-7850-46E8-95E2-54E3C160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B959A-33F1-4E08-80B7-E4E81DEF44C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C699B7-5042-412A-9DFF-4EFA74259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F45088-9B93-4B08-B821-9C1A7395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76890F-04E3-4E74-B2B6-A048F5E8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041793-887F-4E16-A9B4-3D431F13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68157A-827D-4FD3-B3DF-396D4FB18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F3D00-8583-4DA7-962D-F5652C23FA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DFC6F-F0C0-428C-AC33-646BE2D3096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CF064-3B7A-4FF9-B6CC-DC1ED0BBF21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E765D-10FA-4C69-ACAF-12651DEC7E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49464-7889-4782-884F-2E7E5976AC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B67B5-6371-4C2C-A295-032BB13CA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C90B6-ECDF-445E-8D61-BA024E2E49E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29186-1EDF-4371-A9D3-42346331E0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1C26A-D083-4678-B093-D915AD66C4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4334D-6587-4086-BDEC-91C4DB2E226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032AF-1920-4812-90B4-3603AA9802D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F18B-BE46-45D7-B8DA-BC4E5D4239C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0D80-A30A-406C-9C1B-F43C213C1A7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99AC-C5AE-4F87-AE84-870DD86234A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AD06-9E18-4997-8FDE-FC4379D4878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141E-FCF2-4540-BF63-551AB17221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D88C0-6A3F-41AA-A78E-73EF3BBABE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8DAC-96E3-4B39-BC10-4F3E73D5F67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9B9C-A3AA-47E1-AA7C-AB867510634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1DF5-A59F-444D-8F52-1D5B7D93D3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C8FB1-7C9F-4E26-9D3D-20C85C4850F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86F8-9ECA-429A-B094-D8FAC9AA8CF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80B0-32A5-4AB4-A1CB-AE709BC82C3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CDB5-B73A-4C3C-894B-18B74CF53AA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E8958-E31A-4390-B292-579A19265E3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C714D8-8A60-4326-B874-1571A49DA67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0F1DDE-0F41-4983-95C0-CEDFCB201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BD9CD-17CA-4E03-A408-A104335C66B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32187-53B6-4220-B6FD-2F056652749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7D82D-C09C-4EC1-B78E-1C1957ED96E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B88DD-2F1C-43D8-B997-C8D5FBD5E0B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6CF917-3186-4E52-8E8D-B70248401B9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B9EE7-1B78-4ABE-88F0-8E1BC238D59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8FF0F9-0DF5-4888-95AF-3A38B974AB8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77AD7-60C4-439D-B2E5-CD3265308B2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BDF15-A3AE-4FDC-8F72-20DC2962BEA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D1E01-4720-4DEF-B72D-BECE0F2B801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80572-E0CF-46E5-8C10-C44F52CD5D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9229-DEF7-4F86-8834-D3689B68FDD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84EFE6-06A3-4810-BF1A-0F1299EF0AA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AB2B1-9552-4CF3-BDC6-A086FF0DE91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2B3E50-B1F6-4EF8-9A6E-FE991E6894C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F6755-592C-44B9-9010-0B274F7D3CF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93967-72A2-45F9-A477-4D51BA2549A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1BBAB-EE59-4C86-B003-AA90E50474C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144F84-4177-4B44-8802-3CDE1A5CBDA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D94CE-9F5D-4AA4-BBB5-2CCE2707174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E12E8-AF49-434E-BD64-D53A36C9941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F1F720-BD73-4C5D-9750-A31D868D5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D96BD-D06F-4EE4-9338-8500B41DD88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81FAF-F5EA-4C5E-B4A3-7681E22B7C5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63BEE4-73D0-4E9C-80D9-258BC16D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4EBCD6-6702-457A-AFC4-731AFBAF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E577D8-E760-49B2-AF4D-9C378B8AB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87397E-457B-4AB6-A765-4D065B27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D273D2-CA07-42D3-9FDD-D073C75EA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F3C11B-FB0F-41CA-A800-5E87FF4C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C159E7-02AE-4F5A-826C-B934DD9D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77D42-E426-4926-8713-736C55DC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28FCA8-5C2A-426D-9075-2BD06480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81B8-20ED-4B0C-BF5B-F15F80C60AD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71E884-0677-4DAD-B567-32265B02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FD3A71-98EC-4E3D-B0ED-961E2AE3C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621CBE-3EBD-4015-962B-2F9C0AF90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841AB-C3DC-46AD-923E-3446D9E816B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446AA-00FC-495A-8BAA-8733523FF35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95021-2806-4811-8B47-75F3279C5287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471D-C0BE-49EE-87A6-91D221C3046E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6B99-3658-4A4C-9933-86879B9B7341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9FBDB-45C2-488E-83BF-30EA4C898E6A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2A93-3948-465E-B0D3-E2B9C773903C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D0603-9DFB-47C1-B2D6-267E550F90EC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D9950-3D56-4A37-88B7-BA43173668D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9564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9 Hdst 5.1 – 5.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16000" y="549000"/>
            <a:ext cx="7773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5.1: Sub-administratie crediteur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9"/>
          <p:cNvSpPr/>
          <p:nvPr/>
        </p:nvSpPr>
        <p:spPr>
          <a:xfrm>
            <a:off x="1089000" y="1773360"/>
            <a:ext cx="676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rootrekening ‘crediteuren’ = totale schuld aan crediteu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badministratie crediteuren = grootte van de schuld van elke afzonderlijke credi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lle crediteuren hebben in de subadministratie een saldo-kolom; deze wordt na elke boeking bijgewe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6875640" y="4025880"/>
            <a:ext cx="173484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5.2: Sub-administratie debiteur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402920" y="177336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b-administratie debiteuren = totaal openstaande facturen per klant die nog moet beta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Picture 4" descr=""/>
          <p:cNvPicPr/>
          <p:nvPr/>
        </p:nvPicPr>
        <p:blipFill>
          <a:blip r:embed="rId1"/>
          <a:stretch/>
        </p:blipFill>
        <p:spPr>
          <a:xfrm>
            <a:off x="5435640" y="3916440"/>
            <a:ext cx="2857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23640" y="367920"/>
            <a:ext cx="77742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5.2: Sub-administratie debiteuren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476000" y="155736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 de grootboekrekening voorraden is alleen het totaalbedrag van de voorraad zichtba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subadministratie wordt per artikel een voorraadkaart bijgehoude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ordeel = per artikel zicht op de voorra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2" descr=""/>
          <p:cNvPicPr/>
          <p:nvPr/>
        </p:nvPicPr>
        <p:blipFill>
          <a:blip r:embed="rId1"/>
          <a:stretch/>
        </p:blipFill>
        <p:spPr>
          <a:xfrm>
            <a:off x="4397400" y="4437000"/>
            <a:ext cx="3956040" cy="16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9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5 paragraaf 1+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26:23Z</dcterms:modified>
  <cp:revision>205</cp:revision>
  <dc:subject/>
  <dc:title>Gemeente</dc:title>
</cp:coreProperties>
</file>