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9581-433E-4D97-8D93-A1CD5F4BC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AE19-5D32-4AB3-8A05-917A38D7E05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5BA9-0F05-4742-889E-EEAA8A86A23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AF4E-0B69-4565-B7D1-4185DE13EAD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7111-6AA7-4805-92E6-01507677920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F02E11-3565-449A-9730-1938A838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E8E8A8-180B-4083-8524-A82A29CB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A755EC-A623-4303-9CB6-DE29E7C3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1E682F-6CBF-42F1-8C94-9F2209BB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7CD76A-001E-458C-85C8-69E834DF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733599-47AF-4B3A-840A-1A9708BA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432D03-EBC9-4A12-A7DE-852863C3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6250-73CE-4287-9B67-22E725175F8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03F786-ECC1-4B54-BDD4-834C0E1D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0C674A-38E8-4162-9DFD-AEC425C9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7E7685-F13C-461F-A59F-DBCAD607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0F94A0-8C98-423A-84E4-CF9A77A6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ED9119-B37C-4B8D-9267-512FFB88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BC547-3C94-437F-B642-98ECE0AD520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1F72D3-0F0C-47EE-ADF1-24504E91B6D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3918B-ED4B-4776-AB83-816C80949A3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2A46D4-DA18-4E16-95EB-6CB1491E4A0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5C3998-7C54-4BE8-A14D-F5757D4B33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18649-2CA5-4925-BC00-82F8DF62AB5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1A580A-5695-4B1A-BCE0-068ACFE26F1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2B4D0F-F99D-4D0A-8294-DCD0D5B388E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37C61-F162-4D44-BC3C-36E2EDD9391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1D5C35-811F-4DDF-BD0F-5E4251E3E31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B7F83-A668-43C1-A39B-46D8D3E03B3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F57AD-7A21-41F0-9EFA-461030BC0CE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94D59-9435-4557-84F2-6D946FD8C4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7079E-9848-46E5-A072-7A318ADF53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B53BC-746B-4B51-8E5C-312DF4596D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8F2E0-0FBE-44C9-A789-EFBEB43EF3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3DC6D-02C8-47D2-AC17-3F7449FEE3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FE4F-62E6-45DD-A800-431AF47D1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0A7A-70A9-48A9-9464-78EA2DF7BE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612A-C75A-476F-9BB5-A965F5D001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61A5C-EDD0-4641-A9A2-9B525D33A8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FE87-792C-460F-B71B-821207DC49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8F22-6E7D-46B4-94F9-8FFC26A035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845-5709-4830-9559-C3993A56CA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B139-0F1E-4DE6-AAFA-C267FB0435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29F-D712-45D3-A30E-8BF4ED99BD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FAE-40C7-4713-85C5-DCA356A8E0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831-65D2-42A1-8142-161ECE7A58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98D2-421B-4CFF-998C-1AD9486358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989-E901-403E-87EB-464784F346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3C9-8BD9-49D2-BD8F-4BD81F5149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8B8-575F-483C-93A1-9785D233F3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83E-3792-44D8-AFB1-436DF43DCD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F39-89B9-4BD2-BE49-83F4BFA0A9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4F4-7ED6-447A-A3EA-64DD8B8A34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E6C-4A7B-4AC9-A05F-50737FBAC9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4E439-684C-4C10-846F-B943D08F4B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DF4BF-B885-494A-8D12-4B211F23A9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E71AD-2B32-4365-AFA9-C99D3AC6F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B3B9-E823-4633-AC73-44F2A59C443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A3E2F-0B9F-4FD8-A457-078C44D463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39BDB-4202-4745-AC59-A5ADCD427C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87036-290A-40B3-8424-0D94764E3D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AA258-1D5A-412D-A9E2-6F666B36C8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956FC-D91A-470B-9699-64806E44A1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626D9-C24D-407D-9F85-303EDF2EBC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40EF8-1B72-4919-AE50-226DD0BF7A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5942B-3225-4067-9B03-497856F91B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26D1F-93F3-4AC0-9F13-790F3649577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D0EFA-C010-4D2C-AB2E-F863E547C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C266-4F00-45A2-BB0E-28D742668C6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734A5-3AA8-4556-95E4-B4B1AB169CB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EAA3B-4C88-4105-872D-11A592C3B45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00F52-103D-461A-8D63-0A0795F1D22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8E137-B3D3-410B-81FF-AD87AA70F02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B8C4B-745B-47B5-8E63-89BD0924090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83B15-7DE3-44C2-8B0D-6B11C0DD0D6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69B29-7336-4661-AE3B-DF8C18E8E18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8E455-5A99-4FA9-9D82-4D57078DC03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6B1BC-3D99-463A-891E-3B2C2B4CAC0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90C8B-B2FD-4112-8E72-82923CE71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4578-185D-4960-96FD-F043DF22577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ABA3C-9DBA-4576-8BB0-4538E788143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4C984-18E8-4A4E-A3E9-E964A8D8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1088F-A3DB-4BBD-8C05-63EE91D8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FF558-6573-4ABD-905A-CBB9C9DE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63C80-BD6F-4D91-807C-068D9BAA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D0C7A-5D84-40C0-9F29-C5F55760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CA51B-A484-4633-BC5E-4AFD5D0C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49D91-0C9F-4146-B7D0-AF2C996E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4E222-4587-4202-B0D9-683D322E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8238D-0A89-4F1E-B236-3D151CB0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E522-67F6-456C-85CF-C0DCEEAAA3F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070F3-A5D0-4A3A-BFA1-40F207D0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07401-4851-4105-AB5F-69892657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51B58-238F-4DEF-B80F-3F8EFB68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D39F-8782-43B5-BEC6-8648FF25CBF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1C15-101B-4373-93A5-EDC8410C5A5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9334-735F-421D-B2D9-33F72155AFE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99A0-7286-4FCB-A43F-95E8C328C75F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EB4B-8B2C-43A2-AF19-4B87EB0607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95A4-0BF6-4863-9BDF-AF0F56B18442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BAE5-5484-47A2-9B3A-9B0FA90BD08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2B72-5B1B-4F58-81E1-9AC86AE6CF3E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9F0F-9BD2-4777-A6FE-C2E64D54426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9F6E-86BE-4DBE-B2E3-984EC04F5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recensies.infonu.nl/financieel/123155-naar-een-financieel-onbezorgd-leven-annemarie-van-gaal.html&amp;rct=j&amp;frm=1&amp;q=&amp;esrc=s&amp;sa=U&amp;ei=oH8AVeyRMoT0PNrngfAI&amp;ved=0CCIQ9QEwBg&amp;usg=AFQjCNHrSmvCimMmhPhiyIqlVo49rHnxkQ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56000" y="134100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10 Hdst 6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4440" y="475920"/>
            <a:ext cx="77742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258920" y="1844640"/>
            <a:ext cx="67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sstaat = het kasboek = contante ontvangsten en uitgaven van een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veel bedrijven alleen kasgeld aanwezig voor kleine uitg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tailhandel en horeca wel veel contante opbreng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"/>
          <p:cNvPicPr/>
          <p:nvPr/>
        </p:nvPicPr>
        <p:blipFill>
          <a:blip r:embed="rId1"/>
          <a:stretch/>
        </p:blipFill>
        <p:spPr>
          <a:xfrm>
            <a:off x="4643280" y="4307040"/>
            <a:ext cx="37357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85840" y="3330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402920" y="162828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Functie kasboek/kassta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ntrole aanwezige kasg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Financiële feiten boeken op tegenrekening in het grootbo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5" descr=""/>
          <p:cNvPicPr/>
          <p:nvPr/>
        </p:nvPicPr>
        <p:blipFill>
          <a:blip r:embed="rId1"/>
          <a:stretch/>
        </p:blipFill>
        <p:spPr>
          <a:xfrm>
            <a:off x="5073480" y="4365720"/>
            <a:ext cx="3527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38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000"/>
            </a:br>
            <a:r>
              <a:rPr b="1" lang="nl-NL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kasstaat nr.: 3                                        Periode maart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547640" y="2060640"/>
          <a:ext cx="6840720" cy="3360600"/>
        </p:xfrm>
        <a:graphic>
          <a:graphicData uri="http://schemas.openxmlformats.org/drawingml/2006/table">
            <a:tbl>
              <a:tblPr/>
              <a:tblGrid>
                <a:gridCol w="538200"/>
                <a:gridCol w="700200"/>
                <a:gridCol w="2901960"/>
                <a:gridCol w="849240"/>
                <a:gridCol w="809640"/>
                <a:gridCol w="1041480"/>
              </a:tblGrid>
              <a:tr h="4316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ekst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schrij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vang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itga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genrekening D/C +code n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steveel/kastek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6732720" y="5600880"/>
            <a:ext cx="2220840" cy="9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br>
              <a:rPr sz="1600"/>
            </a:b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692360" y="1773360"/>
          <a:ext cx="6153120" cy="3606840"/>
        </p:xfrm>
        <a:graphic>
          <a:graphicData uri="http://schemas.openxmlformats.org/drawingml/2006/table">
            <a:tbl>
              <a:tblPr/>
              <a:tblGrid>
                <a:gridCol w="484200"/>
                <a:gridCol w="630000"/>
                <a:gridCol w="2610000"/>
                <a:gridCol w="765000"/>
                <a:gridCol w="727200"/>
                <a:gridCol w="936720"/>
              </a:tblGrid>
              <a:tr h="30456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ekst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schrij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vang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itga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genrekening D/C +code n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n debiteur ontvangen (Vf 201501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1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vé-op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n crediteur betaald (If 20150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kstor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ine getank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tw 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nte verk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tw 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steveel/kastek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1" name="Picture 1" descr=""/>
          <p:cNvPicPr/>
          <p:nvPr/>
        </p:nvPicPr>
        <p:blipFill>
          <a:blip r:embed="rId1"/>
          <a:stretch/>
        </p:blipFill>
        <p:spPr>
          <a:xfrm>
            <a:off x="7380360" y="5384880"/>
            <a:ext cx="137772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(5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1280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n debiteur ontvangen (Vf 2015014)    €   64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vé-opname  €   5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230560" y="2841480"/>
          <a:ext cx="4465440" cy="669960"/>
        </p:xfrm>
        <a:graphic>
          <a:graphicData uri="http://schemas.openxmlformats.org/drawingml/2006/table">
            <a:tbl>
              <a:tblPr/>
              <a:tblGrid>
                <a:gridCol w="2449440"/>
                <a:gridCol w="1079280"/>
                <a:gridCol w="9367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 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iteuren (13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2260440" y="4653000"/>
          <a:ext cx="4537080" cy="669960"/>
        </p:xfrm>
        <a:graphic>
          <a:graphicData uri="http://schemas.openxmlformats.org/drawingml/2006/table">
            <a:tbl>
              <a:tblPr/>
              <a:tblGrid>
                <a:gridCol w="2449800"/>
                <a:gridCol w="1008000"/>
                <a:gridCol w="10792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é  (06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6" name="Picture 71" descr="ANd9GcTomivo7dKSwyv8w0Z-g5VypPOW4VROsL_wtIXe-WW1GuNbKlmeHGty2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797360"/>
            <a:ext cx="16048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10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6 paragraaf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31:51Z</dcterms:modified>
  <cp:revision>214</cp:revision>
  <dc:subject/>
  <dc:title>Gemeente</dc:title>
</cp:coreProperties>
</file>