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7D80-43AA-4AA0-8D89-F103FDFE0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B597-8091-4BC5-95C6-C044119359D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EE91-B764-4F8F-8E47-12C75FB6F5F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4574-7987-4770-9988-F7D971CCF66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A7BC0-02EA-440E-91BE-BAB992EC794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2FBA97-8DEE-42E3-9B5B-75023E11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AF5514-932B-4C62-9E85-9E30EDB8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E44BE3-CD5D-4784-A707-B2E3A0AA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C01BEA-F508-45B8-B506-4EF8CE62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C02B99-A00B-45AD-B7AF-FBEE7B95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5D74BC-7CAC-4DC4-AE9F-853FCFDF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CD0316-0227-41A1-B02A-0A7FCE7B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4648B-A38D-4EFC-9EE7-F4A23FF1C81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A5FB1A-BD5C-403C-8CD0-35148F89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8650CA-645B-4D4F-B3EC-B0E9DDDC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0AE09A-1112-4559-9F67-D5B24140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ACC5A6-2E6C-4525-ABB2-8F756013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272F3A-ABBE-4E9F-BE39-1218B103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6D5DD9-5C65-4352-9D4F-D8651E3E302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FC4D8-53E6-42DB-BFA1-6D1ECF2C128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4FF1CD-8840-40A4-A57C-DE7EB960FEC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FBCE19-AD57-4DFA-BEDC-BB7FF7EDC6E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F95A84-61E1-4A22-B294-6A1383ACEF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B75E5-59F4-48DF-BD33-42AC16F6209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CA5900-F537-461F-A60A-B989AD25DB6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AFBDE-9A72-4125-B816-6EC02D367AB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57B83D-45E8-43A0-8341-6075D921D1F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A98684-EEB1-442C-BDD0-D219D388731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6D41CD-E7B9-4FA6-A076-EA9366416CE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A6B0D7-B8BE-4769-BE8D-7C002D947BF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A527F-5C15-4015-841C-89DB741327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FC4A-082D-4617-84DA-90079E9BEF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C7078-8DA3-4F7F-BC8F-2A3AE93D48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A982-0CB9-4E7A-A602-6A91E58F11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DFD8-F60D-4C87-B3CF-C43C4E2E72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71D6-668C-4D76-8F9B-F9FCF89AD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ACF23-8083-4646-AD6E-E6D3103D4E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EE975-FB82-4358-8CEF-B40EC63931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C77D-DEB8-45F5-8E09-1933056C27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350E7-C00D-4DA1-A527-22DDA768E5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05FCD-6F69-460D-9D45-3B7098BFD2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705-54A5-459B-A4C2-C9AEFF1CC5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222-75E4-4FB9-A4CA-2A0F157959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B6A-1DF6-4EE8-BDD1-150A48921D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F08E-583B-4AD9-BFF6-D0ECE88718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663-58DA-48FC-9860-6E02293198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6F38-C2B8-4BC1-AF79-87F9256071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E2ED-7F5D-4DC8-9A1A-FA4F2C20AD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15F4-7E0A-4170-86A6-51390053E5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2CE5-92BE-44F2-A6F1-9D71E1AB52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643-FD2F-46E9-BB96-A873C1285C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E7A-1907-46E6-B3BC-10D14A6BFD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AE5-1E30-4383-AD9E-55486A6882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3656-67B8-4D3B-A764-92E83BC5A6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51F0F-88D5-4E8D-8DC1-CE6A9E66A5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9CBAE-1A06-4292-A935-57E9117F92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BBD18-14C3-4E73-98AE-524357139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2BA7-E21C-4ECC-9084-35C652708C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D41C0-E897-4160-AE5E-D25A24668C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25481-9B05-4D9C-A11E-148A71F405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3BAC0-F74D-4CBE-A1DF-F813096195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DFE7D-C66E-49D2-B6AE-E5F59C9B008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57255-6137-48FF-A424-86EB4EA3FB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18895-752D-4051-A5B4-2FA61DDB2C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30EA7-5372-48EF-B340-153192D42B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4DA11-61BD-41F7-A542-7BDE422195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914F9-5462-434F-AF4F-B2EE27B6534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31809-E181-4009-A063-675A54E72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11E9-D418-4038-8ADA-3C10D177635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A903A-DC9F-427E-9B29-C4ACA40B112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6D9AC-9BCE-4795-A4C4-51F651F4579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65C77-50F1-40F0-9160-7502B0BB91E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B3B29-F0DD-4302-BBCC-D00489EAC1A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9CA0B-212F-42CE-AFC9-ED47E1A4B0C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32FA0-D7FB-486E-858E-B6D95BE539F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14DA2-51A6-4905-B8C5-D6CA18E4CBD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8EE63-DC83-4E2D-A48F-940703C5ACA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CCDED-1292-424F-85BB-708A28D0EED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43202-061E-461C-97B9-A56DE1737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4BB3-A43A-4BE5-8020-8CD3D29F3FC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D90F6-095E-4F5F-813D-462A3D2FB37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5F13A-0F78-4993-ACE9-84F9DC0C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99F46-3F90-470D-9A74-721BCC64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E821D-D061-4039-9577-EAF526C7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1EE24-376A-4FA7-BFF5-5AAC8E28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9B28C-D13F-47E5-B2E5-E2508793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EBF567-902D-4734-AF6E-D2792C1B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B5046-9C28-4FCD-AFFE-BD4C03AF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6A5D6-2FE3-40A1-B8A9-1D75F54B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8A7F4-65F4-4D8B-8824-7D3F3A86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5FCF-8766-4BA2-A3D8-7E790E99DA4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5604F-A5C7-4846-B97A-F12BDD6F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A5D7E7-1EFA-4EE6-BCE2-2F62C444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2DEF3-4FE6-4F7B-A010-1C5A1B9A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5618-3432-425E-89EB-16A52A9841D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E508-CC55-4886-8FAC-7277C76EA09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A525-8F1A-4DE1-B88B-9293689DB92F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7647-8EC1-40D6-A1AD-5E29183577D1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47F2-35AD-40F0-A799-CA437340A8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4F5E-207C-45A3-A7D3-6EC7CE6082B1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D55F-A840-457C-B904-09C6CC228F66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BD23-59FA-452C-98B4-9305D692F6F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FA5C-E382-414C-881E-E1FA9EAE039D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BB75-9F40-4660-92E2-D5BF41D3C9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payned.nl/nieuws/loonbeslag-wat-nu/&amp;rct=j&amp;frm=1&amp;q=&amp;esrc=s&amp;sa=U&amp;ei=9qSEVJqtNsW_PITvgYgP&amp;ved=0CCYQ9QEwCA&amp;usg=AFQjCNHvqkYd78LKxoBiyQRkfQOjCfYwNw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9564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8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6 H4.1 – 4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46280" y="40464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nnismaking met de BV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619280" y="2060640"/>
            <a:ext cx="67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0 géén Eigen Vermogen en Pri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l de rekeningen: Aandelenvermogen, Winstreserve en Rekening-courant 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2: Geld onderweg of kruisposten en Voorlopige boek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6012000" y="4254480"/>
            <a:ext cx="26762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boeken van BTW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1)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15640" y="1390680"/>
            <a:ext cx="71629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ntvangen BTW van afnemers/klanten = </a:t>
            </a: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te betalen BTW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aan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de fiscus (= rek. van schuld), dus credit boe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taalde BTW aan leveranciers = </a:t>
            </a: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te vorderen BTW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van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de fiscus (= rek. van bezit), dus debet boe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BTW-tariev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Algemeen tarief = 2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Verlaagd tarief = 6% (levensmiddelen, boeken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Vrijgesteld tarief = geen btw plicht (onderwijs, gezondheidszorg, verzekeri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6300720" y="4419720"/>
            <a:ext cx="1727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360" y="70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TW in de inkoopfac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764388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TW op de inkoopfactuur wordt betaald aan de leverancier, maar is terug te vorderen van de fiscus (= belastingdien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schrijving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                  debet         cred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908000" y="4460760"/>
          <a:ext cx="6323040" cy="1533600"/>
        </p:xfrm>
        <a:graphic>
          <a:graphicData uri="http://schemas.openxmlformats.org/drawingml/2006/table">
            <a:tbl>
              <a:tblPr/>
              <a:tblGrid>
                <a:gridCol w="4127760"/>
                <a:gridCol w="1130040"/>
                <a:gridCol w="106524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, …kosten, inventaris, machines, … 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280" y="53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TW in de inkoopcreditfac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187280" y="1197000"/>
            <a:ext cx="7499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TW op de inkoopcreditfactuur vermindert de vordering van de fiscus (= belastingdien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  </a:t>
            </a:r>
            <a:r>
              <a:rPr b="1" i="1" lang="nl-NL" sz="2000" spc="-1" strike="noStrike">
                <a:solidFill>
                  <a:srgbClr val="ff0000"/>
                </a:solidFill>
                <a:latin typeface="Arial"/>
                <a:ea typeface="Arial"/>
              </a:rPr>
              <a:t>Inkoopcreditfactuur (=I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debet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739880" y="3638520"/>
          <a:ext cx="6394320" cy="1533600"/>
        </p:xfrm>
        <a:graphic>
          <a:graphicData uri="http://schemas.openxmlformats.org/drawingml/2006/table">
            <a:tbl>
              <a:tblPr/>
              <a:tblGrid>
                <a:gridCol w="4148280"/>
                <a:gridCol w="1157040"/>
                <a:gridCol w="108900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, …kosten, inventaris, machines, … 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640" y="201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ld onderweg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f kruisposten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ij geld-opname of storting op de bankrekening is het bedrag niet meteen af- of bij-geschreven op de bankrekenin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dat het bericht van de bank (soms zelfs enkele dagen) later komt, het bedrag tijdelijk boeken op de rekening: Geld onderweg (= tussenrekening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Bijv. geldopname van € 200 van de bankreken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schrijving                             debet      cred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2340000" y="4808520"/>
          <a:ext cx="5184720" cy="878040"/>
        </p:xfrm>
        <a:graphic>
          <a:graphicData uri="http://schemas.openxmlformats.org/drawingml/2006/table">
            <a:tbl>
              <a:tblPr/>
              <a:tblGrid>
                <a:gridCol w="3384360"/>
                <a:gridCol w="927360"/>
                <a:gridCol w="873000"/>
              </a:tblGrid>
              <a:tr h="434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ld onderw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5" name="Picture 25" descr="ANd9GcQTA42zAhOzJn_iYAO60Lo0uSwAnZC2t8tY0cSoIuQI9zXtNhj3Iptb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5241960"/>
            <a:ext cx="132552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645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ld onderweg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f kruisposten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801720" y="1341360"/>
            <a:ext cx="72705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s het bankafschrift later ontvangen wordt, het bedrag op de rekening: Geld onderweg (= tussenrekening) tegenboeken zodat de rekening: Geld onderweg weer glad loop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2529000" y="4417920"/>
          <a:ext cx="4682880" cy="1036800"/>
        </p:xfrm>
        <a:graphic>
          <a:graphicData uri="http://schemas.openxmlformats.org/drawingml/2006/table">
            <a:tbl>
              <a:tblPr/>
              <a:tblGrid>
                <a:gridCol w="3057480"/>
                <a:gridCol w="836640"/>
                <a:gridCol w="78876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ld onderw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Rectangle 3"/>
          <p:cNvSpPr/>
          <p:nvPr/>
        </p:nvSpPr>
        <p:spPr>
          <a:xfrm>
            <a:off x="801720" y="1617840"/>
            <a:ext cx="72705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j ontvangst bankafschrift van de bankreke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mschrijving                     debet 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6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1 en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14:11Z</dcterms:modified>
  <cp:revision>190</cp:revision>
  <dc:subject/>
  <dc:title>Gemeente</dc:title>
</cp:coreProperties>
</file>