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66E2-3A22-4501-9034-F10474286F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02016-253C-4748-B577-E92A0963A4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6BCD0-27C6-4EE6-AE3C-1C2F2C12766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9BE9E-B5B7-4CBE-A20E-0D2D1A1505F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0BD5-94A8-490F-AB6B-6CAE457A8E0F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8492A8-04C7-408A-91EF-544D244CF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B76BFB-C877-4DF6-A607-B2874CB0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776537-D7A8-4F60-B79F-8EAFEA7D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C27BA-0236-449C-9862-1633D198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DB72A2-A65D-46BA-B353-8B89C822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D14026-0BAD-41ED-8CA0-84C7E881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675476-DB5B-4DBD-8299-5D8E674C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442983-B8C5-4165-AD37-217510BB9AA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B814D-B7C3-4869-B33A-8F6D9419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AA1E6D5-8498-4B45-921B-B8E46D2BD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8FC7D7-6574-46CC-BE2A-7A001DB5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240C25-4407-49BC-948C-C25604CA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7ED5FA-3FCE-45CE-AD55-5CA85E8A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26DA7-3694-4ADF-9C08-AEDF9D0B19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CA305-EF79-4096-9B03-C89078374D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69736-F29F-47BE-9149-6230AD60E50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A5BEF-760D-4BE8-9F88-CDA27E50F96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63D72-06E9-4C30-A16F-5E37C24135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EA7C1-3797-4B4E-AE16-F0E3729F4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FAFCE-44D2-4C71-BD91-A6A93228ED3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BA384-B26E-4FE4-8AD5-62FC404143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DFEE0-7144-481A-BC8C-E2169E884A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4DA6F-4B7F-4D8A-98A0-6223F235893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1FC6D-DD74-4A05-A2A5-16691F0757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F06-966E-47D4-B614-78DA1F704E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CAC-D43C-4E79-8424-CC6E4657E6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D4F4-75CC-4315-ADCE-1D37A99C7C0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432D-BFC2-4CD8-91BD-5A4B2B47E5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FBDE-1A11-4683-8929-92C7A7452E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B8D44-86EE-42DF-8F01-64C0F99B0FC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52A-315B-486A-BCE7-2DAD87BD247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21EA-29C4-4EE3-A8A3-C638726EFC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3BE-BD17-4C6A-9F48-C9C22063BA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D31-F4E8-436F-B5F4-B639D76C1C8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BFC-F5F2-4228-AF1A-5A9C863467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3FFE-7D20-4EB1-9FF6-371730D73A3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CAC-2F4F-4085-98FD-0CC56051A9B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404ED-6F6E-422F-83ED-45357830238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0AE2F-45A7-4C41-AA7D-1E21E693934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419CD-0360-4D6B-8072-66755BC737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C23B2-6851-484D-86B2-7A0092A5BED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49B6E-F762-4D5F-9B82-8C9B454E819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C6AB2-BD6E-445F-9F88-D1C9536DEE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7C3E7F-F400-4C6A-879C-ABEAC25923B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E4F0D8-9D45-49ED-9884-ED121F80CA6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8C3C5D-3F29-4D75-83D5-F5BB64D8830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83C0BA-C726-417F-B8A3-8842B27DAB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095B0F-03B9-48E6-94C4-312C497CC97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812F61-1653-431D-92DF-1831E4B1AD1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1EE68E-15EC-4F4B-96FC-CC8D522ADD3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8079B-B995-4DEF-862C-962AB48AB9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7EA53-0A28-4702-B457-19F7F83DD49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218CC-4FCB-47AA-A848-767EF41E008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392C9F-CB1A-4156-A6CA-6DE81724760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5F235-DE85-4D84-A639-F35D5E36E70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26315E-20D6-4860-93FF-A9FAE45F60D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14B78-3D06-4FE6-826D-2D99EC267C0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B07F9E-E5FC-4DAF-AEA5-156575EA849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515A3-9322-43CE-921D-2FAF0CD3BD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BE90C0-CF18-4486-B4C5-9BAAFC0F8AC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C4E17-8E62-4CCB-BA96-FC65603466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1454E0-1E1C-4822-8094-0CB3EAF399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7F246-17FB-45B4-A614-A3C1602D90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20B87-FBFB-40F4-9836-53515D34B1F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4A529F-0762-4FEC-A231-2A2694C58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2BEB6-F542-44D8-8B18-452BBBD44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14E94-3366-4AE4-A65E-FDE05C0F2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CC5271-10C8-471D-AF6B-9D6ED8B2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5328FF-7B94-4443-9C82-6C32282B4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F4E9D8-E8BC-48DD-80A1-E11D73E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58D987-8718-4B3C-9335-2BC0B65BD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95705-FBC3-4D18-B38D-13C7394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3F755-A798-4B75-9718-78D2E52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78450-BDBB-4805-A0A1-39F74A47DBD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2CF460-C04C-4172-9722-BA51A72E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534A0-BC10-46E9-9C59-5741B52F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F6040-53A2-4807-AC0A-2ED30FEBF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025A4-F266-4A89-AE14-43CA8A6DFA0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47FC9-D867-40CD-ABEC-6F12496A9AB3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6C63-7CFE-49B7-A34F-2E688EB9916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A3D0-5708-43FE-9F1C-70D7DE7F0233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9BF44-CAB3-4845-9CCC-2BB726A9EFB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4B0D-FAFB-47D6-AD18-BEBFF082BB67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4FA2-6243-4634-AEB2-D1891D3C5F7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9C47-01EB-4799-84B3-3C8DBBC3645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308D-865B-4953-9F95-D9DD92B2AD4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55600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8 Hdst 4.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55640" y="56808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rhaling met journaalposte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755640" y="2060640"/>
            <a:ext cx="67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deren = journalise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en codering = een journaalp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en die worden gecrediteerd</a:t>
            </a:r>
            <a:r>
              <a:rPr b="1" lang="nl-NL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het woordje ‘aan’ voor het rekeningnummer zet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4" descr=""/>
          <p:cNvPicPr/>
          <p:nvPr/>
        </p:nvPicPr>
        <p:blipFill>
          <a:blip r:embed="rId1"/>
          <a:stretch/>
        </p:blipFill>
        <p:spPr>
          <a:xfrm>
            <a:off x="3176640" y="4221000"/>
            <a:ext cx="5587920" cy="22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8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3:59Z</dcterms:modified>
  <cp:revision>200</cp:revision>
  <dc:subject/>
  <dc:title>Gemeente</dc:title>
</cp:coreProperties>
</file>