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0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D9051-3EDE-4344-AF89-F55E8E3AFA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39033-89F1-4F07-8E90-344292557A1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BC73-FFE6-4263-A3D9-250314E7C8C6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70BA1-BCAE-46AC-94A9-62A9A42B2B8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9645A-DB5C-4CB9-838C-386C48CE85CC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7286D6-8B1E-48B5-9616-EFF2112B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DFB7B9-08C7-4579-AC27-66BC60809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F3FBD2-EFDF-4A89-93D5-B6BFF3E9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030611-CAE5-4B38-9468-E162CA755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8230CB-1245-4F19-A723-267ECAFD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5DA300-0F28-46DE-8892-9EFA4E8D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0AB3C8-8D8F-49C9-9D55-001393570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B0E13-2164-47E8-AC11-DABFE6B15C92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1898CE-7C72-48AA-9D6B-DC3F3829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33E258-8D7D-41BB-830F-1BC77C51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89CCB5-6041-4A1C-A38F-34A83B946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995307-EA0A-4CB6-9A1D-9AE17A78A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4553AD-24A1-4D93-8C63-6236789EF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ED818-E367-44FB-9C8B-FE2502DE20F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E948D-6764-479B-AF40-8397573891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4CFFF-4D73-47F6-AE8C-FB5C3188322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33C75-6AE3-439C-9154-595EE691F4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EB676-EAD4-4E4D-B353-ADD939626FB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1FBE-C6C9-4BC9-9467-C9EC9BB835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CA948-3E8C-4816-986A-79FDB8AD86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D20ED-0389-4AB6-98B8-93282E85212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E21366-589B-43D4-87C0-6A7BEBF867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E204-B6AA-4184-8B4F-8271818E33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6845-438B-40E2-96D4-78B596993FC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089-6565-454D-92D6-DA29FF3301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3180-347B-4D1A-9D21-6F7841D4B3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5F22-D825-4FE0-9A70-525D74BBB9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BCBB-6A9D-4A9E-8EBC-1205FCE6DB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0D4-43C7-4124-ABC9-35FB72341E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FBADD-257B-444C-A99D-E680CDFF038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30C0-87B3-40C8-B994-3CBD59A736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2EEE-1031-4C43-9D51-046ED478D5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4D6-B8CB-445D-9F4D-BAB0656322F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38FD-6B7C-4B24-A042-C0B19AC5361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57DC-DFEE-4D13-9A6F-E787D3EBBE5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C3F52-43D7-4586-8256-55CBD2DB3DC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565-37FC-4413-86D3-22429A7D195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31F4C3-4BBF-4B93-859A-57506DF1665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99978C-67AF-40A8-9705-3E9B6B7A772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0BBFC-0821-4872-939D-C79EB3C76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A0AE0-CDFE-4BE4-AE9C-3D1BCC4605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276A0-0DBD-4300-8A62-E09CA61145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D5CBB-5E82-4B14-9F1A-9CEFC8CA8C5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77E6F-C16F-42B5-9C59-51D5A0DDC4F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9ACCF-07CC-4685-B5AF-0C0D98B7C39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08C631-13BB-48DC-9E8B-D8816283CF6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CE5B6-380D-4811-86AF-92C64737ED2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C38F44-2F93-498C-B0BA-8E102F91AD6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02A3E-3859-4A68-AED5-960DC37ECB7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AA2168-6C18-473F-8008-62194C7C277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12795-258D-4FF5-A046-B7860D72E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DD66C-4C50-4C24-9384-5E1FC83CC6A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C83513-D181-4C7F-A057-2E86E03A00E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AD760-D578-4270-AC3A-7F11130DAD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05305-2FDE-4BBD-860A-EC4E3954A0A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CCB3DD-895C-4746-990F-71889A14C51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F6BA2E-CE04-47BA-93C8-E29F7378B8C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6C3E20-AE9E-4F71-8D29-584C57E9BC5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2AF841-23D6-445D-8153-DAC10B61119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CB006-0578-495E-8FDC-C10B5BF06FB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28822-B1D9-4B7E-AB6C-F55D4CFB2B3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A122D-82D2-434A-8CB9-FAC5151FA0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AD01F-06C0-48D3-B82E-268017BF2D2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EB64FB-E864-4944-B319-81B645B91FB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1D064-6193-4EEF-B335-66026EC1D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E1859B-43BC-4169-AA39-2744A559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00A5E-A541-4A7D-AE5E-96B1F0532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B21684-F7BD-4D17-A0EC-1CF72ADA6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9D09F0-5F8C-4E35-AABD-EFAD1274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42D2BB-B740-43E3-B52A-841EF21C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304641-2F43-42B8-A626-04C46E48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50212A-1CF8-4BAE-8A8C-1AB13262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AEDF82-D239-473E-ABB5-D7C1DD5A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992ED-A53F-4810-984E-5DF6EC0295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CB47F-B36C-43DF-973C-0FA27F62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002A4-5F1B-4687-9C81-8ED0D908A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377063-E29B-48A6-AEA5-418F53876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C0872-96EA-41EE-B27D-1B8DF26B112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66BCA-E4C5-4B7F-A113-4048AF4A5CE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ECEE-4BEF-49E3-AE37-4177F163A42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76A4-2B7D-42F6-AC8A-DD5C4B4010EF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4A5A-C3FB-4FC9-BE05-40D5CF9241E3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EF6B7-D652-4C39-A27F-9E53726E34BB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08A7-7FB4-4B37-B593-43CD699AF2C8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6067-8097-4DE3-AF9E-AA7B9D209B23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A0DA-F3E2-4A1C-B2BA-10B4C1C9FF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00360" y="126792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les 11 Hdst 6.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77738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Rectangle 19"/>
          <p:cNvSpPr/>
          <p:nvPr/>
        </p:nvSpPr>
        <p:spPr>
          <a:xfrm>
            <a:off x="1692360" y="1925640"/>
            <a:ext cx="6769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etailhan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ore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inkelamba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wel veel contante ontva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Aan het eind van de dag/week een kascontrole-str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5292720" y="4479840"/>
            <a:ext cx="3460680" cy="19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924200" y="1628280"/>
            <a:ext cx="66355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Voorbeeld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a en kascontro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strook kassa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2.649,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trolestrook betaalautomaat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€  1.023,50  -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bankstorting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€  1.625,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5" name="Afbeelding 1" descr=""/>
          <p:cNvPicPr/>
          <p:nvPr/>
        </p:nvPicPr>
        <p:blipFill>
          <a:blip r:embed="rId1"/>
          <a:stretch/>
        </p:blipFill>
        <p:spPr>
          <a:xfrm>
            <a:off x="6130800" y="4437000"/>
            <a:ext cx="2124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717120" y="259920"/>
            <a:ext cx="777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547280" y="148428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edere ochtend een vast bedrag aan wisselgeld in de kas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ontvangstenkolom: de omzet en te betalen btw van de contante verko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 uitgavenkolom: de contante betalingen en de bedragen die onderweg zijn naar de bank (= pin- en creditcard-betalinge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tretch/>
        </p:blipFill>
        <p:spPr>
          <a:xfrm>
            <a:off x="5940360" y="4653000"/>
            <a:ext cx="2551320" cy="16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2960" y="337680"/>
            <a:ext cx="77738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2: De kasstaat bij bedrijven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Het boeken van de bankbijschrijv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Nb.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 rekeningnr. 200 =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wege ‘geld onderweg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1" name=""/>
          <p:cNvGraphicFramePr/>
          <p:nvPr/>
        </p:nvGraphicFramePr>
        <p:xfrm>
          <a:off x="1476360" y="1844640"/>
          <a:ext cx="6095880" cy="1484280"/>
        </p:xfrm>
        <a:graphic>
          <a:graphicData uri="http://schemas.openxmlformats.org/drawingml/2006/table">
            <a:tbl>
              <a:tblPr/>
              <a:tblGrid>
                <a:gridCol w="3311640"/>
                <a:gridCol w="1368360"/>
                <a:gridCol w="141588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nk  (1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orting kasgeld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n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editcardbetalingen (2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     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12" name="Picture 3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178000" cy="14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76360" y="1125360"/>
            <a:ext cx="647856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1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5" name="Picture 4" descr=""/>
          <p:cNvPicPr/>
          <p:nvPr/>
        </p:nvPicPr>
        <p:blipFill>
          <a:blip r:embed="rId1"/>
          <a:stretch/>
        </p:blipFill>
        <p:spPr>
          <a:xfrm>
            <a:off x="6227640" y="4797360"/>
            <a:ext cx="2584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4:22Z</dcterms:modified>
  <cp:revision>228</cp:revision>
  <dc:subject/>
  <dc:title>Gemeente</dc:title>
</cp:coreProperties>
</file>