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9417-2CD6-45D5-A519-22CC6B25F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B83F-F502-4757-8442-D360322A64B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FA10-AB85-45E5-B319-BDE921AA69E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54D1-C175-485F-BCEE-EE4B029DAF1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3B908-EB76-4764-838D-9EEEF9AC9EC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42004B-C10A-45E0-8C58-58C246BA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29F584-A338-4D2B-B345-3FD1A29B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E88608-6F6D-4E85-BA48-F62BD72C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2D2BAB-CC52-42CA-B0FD-197D2B5F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081551-1444-4827-9407-47548E04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A8A915-437B-4E50-93F8-70588E3C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FE2873-5707-4793-86F2-C38B97B2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C1FC8-2EFE-4D90-88F4-B64DE4A2133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62091F-49C1-45E0-B1EE-BF0C4670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0C17C1-B5FA-4029-A277-1C8BD677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E03BC2-5296-45FC-8C81-9F2C8DFE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06D13F-873D-4A49-8DCD-BF0083D2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14DB02-7BCF-43B7-9474-71D8FF9A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4C6C4-2911-480B-8B5F-0693067E5D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940D7-49E8-4BBD-8723-D38941546E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FE9F6-3087-4865-B8B7-9352B8B3C9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B227C-1765-4996-B8BB-55EFA3834E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9A03B-0E60-41A7-9FCB-A5EAB1F594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8E10-DCBA-4F0B-B9D9-19BD26E6F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6A1F-140E-4406-8D81-817133A3B7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F82B2-D601-4D19-A958-904DDA04BE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2A6DD-4DC9-4CE9-B941-E7D2FDB91A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38B6-0EF5-460F-834A-E3B6B5251E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442D9-F693-443D-996D-EE369C9F33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8FE-7DD8-4B0B-863A-A97C429F99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BE3-1443-48DF-BE79-F71BC0F129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DD7-3BC4-4FAE-9AF2-38063096FD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BF1-DF53-4F41-82BE-5D6986BE29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41E-3287-497D-9E70-336621F8D0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EAEF-7987-40E8-9195-D7586195C5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4C0-02FD-4C7B-A5C4-1F64E7B0FB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D43-ADC8-4CE5-8078-F92D0296AF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3F7A-4A2F-4B92-8768-C48B603AC6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AA5-4996-4C24-80B1-CEAA64EEBA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C98-BDC1-47FA-9EA9-7E1A345DAC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3D6-F021-4C90-91D7-CB5270142A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BF06-F3C5-4293-830F-7EFE87045E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7ECAE-949F-42C0-9367-A571FB854A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4BF9C-50CF-4314-B9EC-0CB5358B6D3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0FEC0-1369-446A-995B-FFA6DA9FB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B85A-130D-4F11-B429-9E75B131AED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907EA-6605-4B08-97B0-BB3CFDB234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A496E-1381-4E1D-B634-5F251439B8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EB506-C05D-466F-A856-C05A851202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E8458-EAF4-443E-BB6E-8D75382B71E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B1D4A-7240-4821-9164-B9FAAD4F4B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1EB25-0ACC-4ECD-BFFB-2FD40288EF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271A8-D6F8-4C47-9802-04D7C339C3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B3E9D-ECB9-4BCA-8FE2-546EBF7D7C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98348-B33E-4503-A4E1-EB53381F639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EB900-4C21-4D35-8243-E37B5F192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4446-8655-43C0-8E95-3EE598A9403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B4E07-3AAF-4647-A39F-5F0EAB8C171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D8D36-84DF-408B-B8AF-1122F74D94D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2E705-9097-488B-89DD-DF4F3C578A8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C834D-525B-4D95-887E-A62ED0FD684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308D5-11DB-493F-B20B-A788DB88AAD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408C3-FE0B-43EE-8669-732E4292E15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9683E-4B9E-42AA-A2DE-E194F8B97DB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1FD90-9D30-416E-90C1-F53ECA86D4A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E116E-FB1C-4E31-933C-FD08772E0B8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562F4-D69E-48B4-A5A0-E0905163D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1F46-DBA7-488A-8382-95E8D478778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5BE1D-DB2B-4863-9606-DBCB287EB5B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0F54D-45D9-42E1-B775-C8D6FD31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7C768-D3A8-4064-ADDE-C9824D9A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A528E-50F7-47CC-B31D-DB1958EC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B12BB-F736-4BAB-AD7E-5EEE41B8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DCE9D-E739-403D-903B-B3ABEEE9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6EAAA-152D-4A15-8B85-16917083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C68B1-C426-45D4-97AB-717DFB5C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F4F01-3BA9-428C-B13F-6FB75DD8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2D978-DA10-4EBD-A948-3C7BD069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5728-1A07-49BB-91AE-243679307EF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28039-C73E-4115-AD5D-17B9F917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4D3B7-74CD-47B5-962D-4118805E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ABCF4-593E-4FF7-97FB-D91A0027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ADFB-BE27-484F-B2F4-8D4501D45FB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480A-32B2-455F-9DB4-72A6AC15790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0ECD-D18A-4111-ABE7-DF611AC17DC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CDFD-539D-408A-9BC4-613A2898CC58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76DC-C9B0-49FA-9B9B-5177E63CAF01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1250-FA65-401F-A29F-F05F0D0B957B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EF16-3358-402E-9B8B-B965700EBCC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8A2D-CC83-49C2-BDA1-4DD9950718D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2D34-696B-421E-AAB2-B0C5E305D2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9564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9 Hdst 5.1 – 5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5.1: Sub-administratie crediteur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1089000" y="1773360"/>
            <a:ext cx="67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rootrekening ‘crediteuren’ = totale schuld aan credit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badministratie crediteuren = grootte van de schuld van elke afzonderlijke credi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lle crediteuren hebben in de subadministratie een saldo-kolom; deze wordt na elke boeking bijgew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6875640" y="4025880"/>
            <a:ext cx="17348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5.2: Sub-administratie debiteur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402920" y="1773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b-administratie debiteuren = totaal openstaande facturen per klant die nog moet beta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5435640" y="391644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23640" y="367920"/>
            <a:ext cx="7774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5.2: Sub-administratie debiteure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476000" y="1557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 de grootboekrekening voorraden is alleen het totaalbedrag van de voorraad zichtba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subadministratie wordt per artikel een voorraadkaart bijgehoud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ordeel = per artikel zicht op de voorra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4397400" y="4437000"/>
            <a:ext cx="39560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9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5 paragraaf 1+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26:23Z</dcterms:modified>
  <cp:revision>205</cp:revision>
  <dc:subject/>
  <dc:title>Gemeente</dc:title>
</cp:coreProperties>
</file>