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24B3-9F03-4E80-A626-6D93B02AF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6B33-5AE2-47A2-8261-0104C6A818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A020-109B-4AE6-A469-4F63A295F20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1C0C-6281-4E48-8A33-882C50426C8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1B28-D759-48F9-B01C-3D3938FF877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076C13-5DE2-471C-B091-1ED7B9AB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44C60D-093C-4D19-BFFF-DF5FBF99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7673F5-0BF4-419D-A4D0-C09196BB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27CFB5-139B-4D66-87D2-BAFEC8ED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015A2-A078-4CBD-961A-B6F83CBE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2F94A2-711D-447A-9DA4-BE4FEA1C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41666-2BF4-42D4-83E3-75B12F57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6B93-B635-44D2-BFDC-A60F4E181E4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860D2C-462B-4967-BAC1-D02AD808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FF23F3-048B-48ED-B2E3-2A17B9F9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C7258C-858D-438A-AB88-C890A56D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4AD028-FD1E-4517-B1A4-D5197D0F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A784D1-7385-4453-B24B-5451C642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EB00D1-C1AC-47D2-AF0E-507308C53AD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64833-9F5B-4A01-8D75-74478A04C68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BA7E9-9C95-4369-9BA2-F62627DC125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52185-B03D-412C-B890-C006734A624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0FD49-1D92-4E3B-8296-92232E6502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0F71-C647-406F-BD59-609B844EC84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3A5A3-F10E-40F8-AA93-DEF2A4B8D99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C9E63-2BD9-46D7-A49E-D3B2AEDF29C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A14FE-AED6-4647-8768-6F8CAB28AF8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96F91-180B-40EC-A270-B1611906FAE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D6E55-E7AF-4E85-9D04-D264744367C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F30FE-C31A-4631-885B-46438C3480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4DF57-A2CA-4908-96D9-BD01DEA2E1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D2C2-6273-4E1A-ADD8-9F6A672A90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3BBB-5C53-41C0-8B10-60348458C9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62EB-27BB-45E0-86D9-2CE92B6BA8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5797-ECDB-4738-9AB8-0230B363E7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C620-3D90-4D96-966E-3DB928152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17B8-2B98-43EA-97BA-BED353DD1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5044-9480-49DD-9FBD-6B312D8132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04EB-0257-4589-9CDA-DF7F1E13B7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EFB0-F4D2-4919-A430-A180AFD6F3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98F1-892A-481C-B185-38C8147FF5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A7D-DE38-4005-9FCE-00527959EF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5A9-34E9-4DEA-A99C-A14BDD4009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D51-02BB-425C-BD8C-CE8473BE1F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94B-4B49-4FAA-9DAB-77308B6240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28D-2F0B-48C2-BBA6-2B9BA43FA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D273-5611-41EE-AB5C-22DF915AB1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4CF-980E-4C0D-9A52-CCFF9ECDDD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33D-1176-41A2-922E-3A117E2D62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BED-A862-4A7B-AAA9-3211683D5A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5D8-8836-4065-A7B1-3302B02404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D33-B6E7-4371-A05A-40428BA018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024-7D6B-41D5-BF93-FA707FC177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6AC-7BA0-4C65-B0C4-3D1687BD32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0940A-B097-4D22-A75A-0E9FFB4A81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367E1-106D-4B8B-B2FB-FF9B669B10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A0C32-786D-4A58-873C-FE5F9A2AF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228F-C77C-4DE8-BBE6-AD6250A208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27B3F-4B18-4BEC-8431-6262FC9DBC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83611-E506-4A04-A943-408273ED10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54EC7-4224-4042-BB8A-F3DCD36094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B05DC-7F8F-4889-8DE3-41785B6652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B74BB-CBF0-4B7D-A775-53073FDFE2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82BFE-E61A-4ADA-835A-008E97F68E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6BC40-B37F-479D-95F8-DD995B483B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E49C3-470E-4C3C-B9AD-5751FE3F2C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74060-4BCC-4C11-A94F-E92F55FEEC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CD307-7C39-4650-97C5-D510FB771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5810-7000-4986-A0EE-2C2E8BEF3D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FAB77-DC39-4BC7-9142-B6E3E621D15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DAD3C-CABB-4B8F-9C73-20572D8307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12DA7-3FF0-48BC-8FF3-1BE80B3533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A35C6-48A0-4E16-85D3-74687A3DED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24E27-45E3-4088-9967-9908708263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3298C-4706-4030-8C60-78F1F323D2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4B43A-C503-41A8-A06B-045325A2F9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CFE87-0C06-4D26-AB71-5B69EF6AE58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149E9-BF86-456C-ACB9-788A9E7DF1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65CF9-2EB6-4553-851C-76B511D5F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F644-9C0E-4E4C-8E9E-E374E8E9051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0C733-3511-46F5-BA60-7F6D10A047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2E643-AD60-4CF8-B878-851CE530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643E6-7622-4B20-A8D0-B15D2327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54F69-1251-4446-A9D9-6BF9082B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D74BC-59E8-4EAB-92C9-BDAB7A25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35F40-8CA9-489C-A546-4CB6FE44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A5553-8CD6-4C2D-8CEA-AB3D95C9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A4CEE-D15F-471E-9186-203C56C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7550A-F5F7-45AB-9505-208F089D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3308D-85C2-46D5-8573-435C218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3F3F-AFCA-481B-9A99-4CEEE66971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825E7-D5FE-4E18-9AD1-BF3449AA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EE420-BFE3-4246-ACD3-B8D7A1B0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554B4-B230-4F4D-9849-FC7C0E84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650A-B34A-419E-A5F0-9F1C64DE688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C28E-26E4-4068-A02C-ACBCF3985B1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6C2D-7DDD-4F58-B3CA-4175F95F9B6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CEFC-E640-4198-B2B6-7A7BCCD98A3B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017A-4A54-44DA-A502-4C152AECF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DD9A-9850-49D8-B334-7858D12993B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36D5-7607-4B18-8AF4-CB75EF4919F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D7B1-D475-4B3B-9DF2-061F779E14E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D49E-8B13-4276-93C9-9074A52664B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DEE4-EC4D-4D7E-9671-513403CC5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125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7 Hdst 4.3 – 4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boekrekeningen van een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473120" y="2060640"/>
            <a:ext cx="67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elands Bandencentrum BV: Alle aandelen van de directeur (= directeur en eigenaar van de 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rekeningen: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 060, Winstreserve 061 en te betalen vennootschapsbelasting 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1 op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 courant directeur 18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vé-opnamen en –stor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soneelskosten 4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ok salaris van de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Afbeelding 1" descr=""/>
          <p:cNvPicPr/>
          <p:nvPr/>
        </p:nvPicPr>
        <p:blipFill>
          <a:blip r:embed="rId1"/>
          <a:stretch/>
        </p:blipFill>
        <p:spPr>
          <a:xfrm>
            <a:off x="6948360" y="4641840"/>
            <a:ext cx="1854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107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kopen en vaste verrekenpr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schatte inkoopprijzen wat  men denkt te moeten betalen = vaste verrekenprijs (vv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rekeningen bijwerken tegen vvp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schil tussen werkelijke inkoopprijs en vvp 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jsverschillen 7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dien werkelijke inkoopprijs hoger = debet op rekening prijsverschi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14680" y="4940280"/>
          <a:ext cx="6467400" cy="1881360"/>
        </p:xfrm>
        <a:graphic>
          <a:graphicData uri="http://schemas.openxmlformats.org/drawingml/2006/table">
            <a:tbl>
              <a:tblPr/>
              <a:tblGrid>
                <a:gridCol w="4221000"/>
                <a:gridCol w="1157400"/>
                <a:gridCol w="108900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 (=vvp-waar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Afbeelding 1" descr=""/>
          <p:cNvPicPr/>
          <p:nvPr/>
        </p:nvPicPr>
        <p:blipFill>
          <a:blip r:embed="rId1"/>
          <a:stretch/>
        </p:blipFill>
        <p:spPr>
          <a:xfrm>
            <a:off x="7777080" y="277344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kopen en vaste verrekenprijz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184464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oopfactuur is identiek aan voorgaa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zendbon: De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 goederen 7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gen vvp-waarde cod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Afbeelding 2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009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Jaarwer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104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aldo van de rekening prijsverschillen overboeken naar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v. debetsaldo van € 200 op de rekening prijsverschill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               debet 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547640" y="4608360"/>
          <a:ext cx="6323040" cy="87804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oopprijs verkop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3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3240" y="5592600"/>
            <a:ext cx="13255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47640" y="32184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Jaarwerk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1484280"/>
            <a:ext cx="72709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1 Nog te betalen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edi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schuld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0 Vooruit betaalde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b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bezitting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951200" y="4035600"/>
          <a:ext cx="6149880" cy="877680"/>
        </p:xfrm>
        <a:graphic>
          <a:graphicData uri="http://schemas.openxmlformats.org/drawingml/2006/table">
            <a:tbl>
              <a:tblPr/>
              <a:tblGrid>
                <a:gridCol w="4014720"/>
                <a:gridCol w="1098360"/>
                <a:gridCol w="10368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ekos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g te betalen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90800" y="5743440"/>
          <a:ext cx="6110280" cy="878040"/>
        </p:xfrm>
        <a:graphic>
          <a:graphicData uri="http://schemas.openxmlformats.org/drawingml/2006/table">
            <a:tbl>
              <a:tblPr/>
              <a:tblGrid>
                <a:gridCol w="3987720"/>
                <a:gridCol w="1092240"/>
                <a:gridCol w="103032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uitbetaalde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Rectangle 3"/>
          <p:cNvSpPr/>
          <p:nvPr/>
        </p:nvSpPr>
        <p:spPr>
          <a:xfrm>
            <a:off x="539640" y="1484280"/>
            <a:ext cx="7413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 te betalen rente-kosten €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vooruitbetaalde premie verzekeringen € 6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Afbeelding 1" descr=""/>
          <p:cNvPicPr/>
          <p:nvPr/>
        </p:nvPicPr>
        <p:blipFill>
          <a:blip r:embed="rId1"/>
          <a:stretch/>
        </p:blipFill>
        <p:spPr>
          <a:xfrm>
            <a:off x="6372360" y="455760"/>
            <a:ext cx="2327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lommenbalans van een B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4 rekeningen specifi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stre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-courant directeur (=priv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betalen vennootschapsbelasting (Vp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Afbeelding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7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3 t/m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1:57Z</dcterms:modified>
  <cp:revision>198</cp:revision>
  <dc:subject/>
  <dc:title>Gemeente</dc:title>
</cp:coreProperties>
</file>