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1834-0876-4A23-8011-1E977EE61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3A86-26E1-4513-9AC5-A3D8B0946A6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384D-5213-49EF-98C4-3546B794B57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6C75-F682-4726-8E8E-2F72264CB10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80FF-FA32-4AB4-8E15-0FBC18B26D6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0093E6-59D0-4855-9C57-1F25E2A3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A63D3D-9805-48A6-8AF4-890462A4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462A76-2FC7-41B5-8133-6F6FC6BB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BD3377-4280-44C8-B0E3-D0FBAC50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14171-24E4-45AE-9F0A-239DE0BB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400CAD-8E89-4A88-8936-37C90D11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046E51-89B1-4B51-B6F0-F6ABF77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59E8B-E97D-4B99-B6F4-5463E186873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521CC4-3DF7-422A-9F84-F8F3740B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18CA3E-032E-4130-A7B4-35860CD2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B1A96-B3AF-4B3A-865A-18471430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DFBC73-8913-4DD5-8953-E42CE46F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0B7397-D6DC-48A6-95D0-633EA176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1B3C-5E64-4909-B9A8-B25C7B4545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2133D-7999-4795-A9FF-0BDACC27F4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78EF-3ACF-465D-80E8-54DBF08474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017A-A267-4A7C-9869-E77369FBBF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49F6-A74E-4218-B935-EED410485A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BC46-D6D2-44F2-8FF2-ADFAB1C18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B2D2-7000-4413-A133-050EA934BC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AF85-1EFB-4B23-BA24-9E75D2AD3E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B2AA-E6DE-4DF9-9916-0A49A67C5A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EE63-D2A0-4FF9-857B-74D0EDE5C6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1CB5-7C94-423A-9561-CB5177D445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20D-0C95-4855-9E22-EC9F8FF726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38B-E9E9-44DF-B5A8-026235ACAD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C06-342A-49C3-878C-D85825D9C9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986-5E7F-447E-8E5A-49B472C929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630-4924-4C98-8FCD-8D83D044E2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1EEF-9CED-4EA0-8CFE-81ED172748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7AA-CB7A-42DA-99CA-E5AF848326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E47-DCB4-48CE-8FAC-F6B16B6D70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5EC-A582-4AB1-A213-4CF41C8732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19A-C159-4A04-A2B7-A3ACDAC467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6D9-A3C3-42EA-940F-E214CC027C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44C-4907-41A1-970C-A90685A37C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C9A-6C78-4183-87A5-6274A6E732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5B86D-124D-4BAB-9DE3-161805D1C1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B8029-8A28-4C4D-A904-253DC2C5EA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E76DD-1A3C-482C-8A28-4AA376F49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B1EC-9DF6-446A-8195-4B96AEED7C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C8BA5-EF81-4A22-B3CB-17021E604D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C1A43-6B09-4143-AE93-1AA857A8B1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74274-83AA-43E7-9ABF-507E0D0A40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82843-4346-4E5D-BAF6-87ED6E346D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20008-A446-4269-BA05-5955F5DEA0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6FDE4-EBCE-47EF-9243-03E2D7D2B3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5BFDB-C6FC-4A11-A4C5-E9B7124A95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70E75-EF8C-447A-BE5F-74E0EAA2A2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E43D6-F2D1-47CB-A904-6DE392905AA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161CC-5A5E-4C26-8C1E-ECC534BAA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5AB4-7133-4205-8E92-374B03EF84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DFBCE-35A1-473D-B7C5-FC073E841F9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48986-BCA8-445F-AE85-1A43800D6F8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29B73-9D55-4AC2-A5DA-0981B0FB9A2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72AC6-5CA1-4FD7-9D37-AEB14598F6D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BD254-43F2-4CFA-8BC0-648DC54F2CE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92886-46A5-4A2F-9758-09363E869E1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EF4F3-D010-446C-A8F1-CD3850B2B1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D7724-B6B1-49F0-91A6-98807240B93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82A61-774B-417E-B36C-466055BDCD0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33A16-346C-4495-B39F-BC2315993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0175-5068-49D8-B98F-1BA775982BF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65F74-2A65-4CE4-A835-2FE800671BA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05D43-DD28-464C-B5B5-6C4D3B7E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2B63E-349E-4C0F-AD9E-E4BA7C61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042EC-99E4-420A-A819-FA9A95B3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827FC-9AC9-4D63-BB43-0E69A6E4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93F4E-C9DA-4EC7-82E0-29AD7772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CBECB-BDD8-40E0-951D-90BC158F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6AB43-3AE2-4BE4-BB4F-684E29FF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9C7E9-A4C9-4578-B763-63AB6514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74BD9-2690-4F90-9490-4D4A9001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15BE-5D2B-44CE-B2D5-859968899CE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DF978-F519-40FD-841E-D826AE1F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1E364-CC2C-4E08-8EFC-2A1FA41E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41292-D2C5-493C-B1F6-0A8FAC44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D969-E49B-4A93-B339-F3B8F06AC83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7277-4E6C-4D2C-8302-70A628D45C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48E8-381E-400D-BBC8-4D98BA95012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DD63-04B0-4E2D-A95D-04D9F5D84957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B621-6E30-49E7-BF17-8868590F134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68C6-7F8A-487A-A3C0-323B8EDA1A1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B617-E639-401D-A66C-9C786CA2C09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28DA-C0BE-4EF6-BF6D-717B4023B9F8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FDF9-1ADC-4768-B82F-CD2D39C8B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0036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11 Hdst 6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692360" y="1925640"/>
            <a:ext cx="67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tailhan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re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kelamb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veel contante ontva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 dag/week een kascontrole-str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5292720" y="4479840"/>
            <a:ext cx="34606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924200" y="1628280"/>
            <a:ext cx="6635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a en kascontro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strook kassa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2.649,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estrook betaalautomaat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€  1.023,50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ankstort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1.625,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1" descr=""/>
          <p:cNvPicPr/>
          <p:nvPr/>
        </p:nvPicPr>
        <p:blipFill>
          <a:blip r:embed="rId1"/>
          <a:stretch/>
        </p:blipFill>
        <p:spPr>
          <a:xfrm>
            <a:off x="6130800" y="4437000"/>
            <a:ext cx="2124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1712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547280" y="148428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edere ochtend een vast bedrag aan wisselgeld in de kas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ontvangstenkolom: de omzet en te betalen btw van de contante verko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uitgavenkolom: de contante betalingen en de bedragen die onderweg zijn naar de bank (= pin- en creditcard-betal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5513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2960" y="337680"/>
            <a:ext cx="7773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bankbijschrijv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Nb.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rekeningnr. 200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wege ‘geld onderweg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476360" y="1844640"/>
          <a:ext cx="6095880" cy="1484280"/>
        </p:xfrm>
        <a:graphic>
          <a:graphicData uri="http://schemas.openxmlformats.org/drawingml/2006/table">
            <a:tbl>
              <a:tblPr/>
              <a:tblGrid>
                <a:gridCol w="3311640"/>
                <a:gridCol w="1368360"/>
                <a:gridCol w="141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  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ting kasgeld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card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1780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76360" y="1125360"/>
            <a:ext cx="6478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1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5844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4:22Z</dcterms:modified>
  <cp:revision>228</cp:revision>
  <dc:subject/>
  <dc:title>Gemeente</dc:title>
</cp:coreProperties>
</file>