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7D6C-2FE8-4E1B-9F34-EFED5FDE1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6832-F2FA-49BA-99FD-BF19EEF7BAF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2BC6-C9F3-44B2-96BB-8BF682E5F27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3E4C-1927-4AEA-8683-25B11ECAF0D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A34C-C47F-4983-A843-33036E52AC1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C44A85-0101-4238-B6DF-37AF0306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49D168-8520-4A6E-A674-15C39C05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C5E37-A29A-438A-B247-C71DD763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A76265-9D0F-45B2-989D-9793CF2E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87C07A-55B4-488E-B95E-42D10EE8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61F0A7-F81F-47F0-B103-D842B158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95D511-C452-4500-8B31-851A1345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2C32-D155-416E-BD02-C45376018F6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2B0910-26FA-4283-80F7-D3C3FFBC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D2B3C-EFB8-4B20-B673-88CBA3F8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6B3584-7815-434B-BAC0-02E9034F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93D48D-CBD1-4F89-90E5-0F755A61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CDDB2D-91A3-42E2-89C9-1662DE42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5FB4-DD3D-40EF-A5ED-240A3C2324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F211-EC89-46CE-A122-FA4BFF93D9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8E43-F0E2-465A-B9BA-1ADDE6EA38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910C-65BC-44EB-BD68-6C211D0FCB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3EE5-3C4D-4096-8885-061EA144D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C0F7-AB23-4635-85EE-D53696BFC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E609-B5DB-417F-9D4F-E42CEB675A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4CA1-8A18-4506-90B0-51046AB1A9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FFAB-ED98-413E-AF54-EB7186B9DA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1D9D-2EC2-4959-871A-C9BDF89DF1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A9DF-FF17-489E-A702-12FAFC8DA8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125-6AF7-4522-9D2D-6A1F01D810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6A0-0314-40F6-B9A5-93773FC888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6E2-261B-4041-A8A2-6868FBA18E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FDC-A5A8-4993-9EF7-4C0B2A83C4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59F-7A08-4D2A-B75E-44C0FE5294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2CBE-C4F8-4EBB-8D70-2BE3244C29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7AE-DC4C-492E-A9EF-C073A13EDA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1FC-DC3C-41AB-A52B-EFEC1920B4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906-CAF3-46DF-9D43-8C70984C3E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B03-3A73-4EBB-9BCD-E0B1B5C3C7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8D4-9642-4473-BEB3-3F42F2B6F9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915-F690-42CE-A304-3083AE5BD8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F13-2BFA-411E-A20A-8A2632351E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0B988-92D9-4DD1-BA39-447035D6C7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6EEB6-E571-4C67-931B-826F7E4F6B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CC4DF-1574-4C22-ACB2-75FFF5250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A830-3C8D-411E-BDF5-C5DD949645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C2CCF-7BE1-4ECB-BB8A-5A83FF98EB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83B99-412D-4414-9B44-197CAA6403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C0DC1-129E-4E07-AD5B-E1821E2536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8B598-7F5A-4276-AF2D-3EEB1C52BC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727BC-6CEF-4DD4-B9D1-5D4A0A37CA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BB43F-D866-4CED-BC63-871897319C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475C0-A949-49E5-B17B-92599EBAB9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8A165-4D21-40A9-80BC-70E03747C4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A1309-C62E-4270-81DA-981C4023F1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56A5A-BEEC-4CB6-A51E-3F6AEC066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1D78-331B-4F12-AF67-A86BEA7436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D1164-EFB1-4EF5-85E3-EC95A05A22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9B560-FAA7-487C-A935-35286BD8A3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E9782-31C2-4D9E-8ED1-42D851BFA6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7EFA8-71A3-4D62-A284-81CAD7EB3D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09E47-8548-47D6-86EC-5AC9CE98306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F9E6B-BD03-49FA-81CC-28CB4972718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4437E-5F9D-4AB8-92BE-8EC85D7543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C697F-D7C2-4AD2-8403-A9BF257058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70724-397C-4215-BA70-2EDBA8F83F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A162D-2D40-41FC-A2FB-361F32B0E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9002-AC62-4A94-9DEC-2228DC2392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78765-B94C-4F18-BF4D-6C15BE87193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FDFE7-B756-4C49-A457-DAE35116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E5A4F-CC74-45B2-90CD-3C29A83A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BD5BF-206C-482D-AEFD-592AD08A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C1C1A-78A1-466F-9DF2-6A626FE7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6BEF5-14F2-4F2E-8FD8-0A005CB0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14861-B2BB-48D7-9A84-45AD0530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DE285-8283-4C27-B12B-D56CCCCE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1029C-4018-4D86-96FC-8C8F21FA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A372A-FB53-4B62-A8E2-CDAD59D0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1733-785D-4DF0-97DA-9383D53F9C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38C6A-2FD9-402B-8C34-71A5567A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85590-3887-45CC-8093-FBCC885D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2D5BE-BD0D-4323-BCA7-5919CEAA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29FA-F1FB-4CC9-9F48-140FDF44A4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5E45-E7D4-4BD0-975B-A842795B786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D028-2386-4DCE-90BB-3ED18CA34E6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0EBA-CCD7-4F31-A42D-A450F4BA4A7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BC1F-D90D-48F4-BCBC-0817ADE66C3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422F-7C83-4AE0-9B3C-EFAC828B76C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5ABC-FCCC-4F12-AEF6-9F5D45CC8A5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2DE9-3902-49CE-863D-9A8A4E127AB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042-FF06-4835-A153-3471339B0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5600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8 Hdst 4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5640" y="56808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haling met journaalpos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755640" y="2060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deren = journalis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codering = een journaal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en die worden gecrediteerd</a:t>
            </a:r>
            <a:r>
              <a:rPr b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het woordje ‘aan’ voor het rekeningnummer 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176640" y="4221000"/>
            <a:ext cx="5587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8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3:59Z</dcterms:modified>
  <cp:revision>200</cp:revision>
  <dc:subject/>
  <dc:title>Gemeente</dc:title>
</cp:coreProperties>
</file>