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10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00528-79B8-4DA7-B35D-C22869B72F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79C97-0F71-4FDD-859E-AC7BCB24E9C0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C121A-F86E-4DDD-B816-AC0F4568D0C0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8C732-7BA0-4760-9CDC-F2A844F0CB5E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B0F7E-4F97-4777-8AD3-4BED503BFC27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7CB8B3F-6690-4CE6-86E5-C1E73743C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C76FE0A-DCBF-4BC5-A0D2-D5886F39F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073EAC5-0DE3-4F1D-86C4-616B42CF4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ABDA74D-A0AD-402E-A6B2-EBD441085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3D9E6A8-A094-44B1-966F-D1916CD17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4D45E70-D91F-458C-ABE9-39FE121B8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CD02B8B-D4B4-4800-A912-D88E4B83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08100-B1C4-49FF-B5FE-5737F93C8266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21CD35E-843E-4F27-A993-42E05632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07CC3E2-F9EB-4A50-BCA8-A752D2267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86A8411-617A-40F4-BB4A-FE169094D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EF4659F-35F4-4A0E-8C15-6B432F7BE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B6E5CBF-A87B-4C69-A1B9-CC17CB594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57A6B7-162B-40A3-AB7E-DFBB9B134C0A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0782CB-85C8-414B-9995-3D486CC7C383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F5BB09-3330-481C-9583-77CCD95D4FA3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1E5759-19BD-48A4-B075-73D3E9F6D4CD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91C2C1-F27F-456F-ADD0-5BEDF83EBC4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0BF75-416A-4AE2-A7E3-1B5B85438739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7900F4-3B96-4998-8C59-75469C4BA867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75B5D2-B49C-4EEB-83E5-69B097467396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896881-1D58-4230-BF21-FEC4ED11D496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FE0FF1-D07F-4D92-8728-50AE74D4355C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46E4E3-56D6-4A1D-A0C4-4E69D33BBB79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09282D-A3D4-44F2-991E-65B111BD545C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1BFAC6-DF42-4A4B-AE07-1D1F3E6C73A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B8CFC-3668-401E-9EE9-F3D4F7B62EB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16932-DE99-4C85-BC5F-392A37FDFF0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F9966-56B7-4482-90B9-7F7FADB2132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84E8F-4829-411D-BFF0-33052C59F0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5FB45-EA1C-41A3-ACD2-490DAAF846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60A60-68F7-4EC2-A75D-2FC81DBD704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38F3D-5A6A-4975-8633-B79777EE105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ACEF4-54C5-4A2E-A672-DD8D6C77EEF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00386-659A-4179-8875-3AEF0F5E6A0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54655-006C-495F-BE12-DD57F313B28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E985-9126-408B-BBF4-396B12900AF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B42E-D5E9-4A49-BF3F-8226C9D14CD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187C-18F2-47A0-BEAE-2D62E0D76A2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7670-EA2C-4F28-9BF5-74D984455AE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8E62-3742-4855-9739-EAA8E21951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39374-A667-48D2-A8A3-E95B4188DDF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3D49-D2FE-4248-AA3A-DC4E351F8EE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B830-9BEA-4F49-8800-030E0080A66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EC86-6B02-4A34-B01F-7D83F011948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9D31-36EE-4E17-AA09-18980ADC85B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4A4E-AA76-48F5-AE3C-11F4A390DAD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689C-EF8F-4352-9A1C-DDC906299F0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5508-6042-4E0E-9C2D-01A144661FB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B55A5F-7176-4D72-90C5-68AB0F14BF4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7F8B0F-F36A-400C-A6FE-8702F20FD15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95BC09-47E5-45D3-B1E4-CBB7EA3F96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56206-7B57-42D0-8DD1-E4D7478D471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6E86E1-3D7B-4C8E-8D0B-B41E94A5F38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36C292-12ED-45D1-848D-46A76023AA8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F1D399-7289-4CDB-9B11-CF68C86DCF9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A9A32F-39F4-4884-A9EB-44B8DF08241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F25B4B-34CE-4AD8-9C12-E47F146A7F6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328E31-32AC-44A7-9C60-E27DD6C6899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8D8A28-0D45-421E-91A9-0E6AB9839CD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A85EDC-CDAF-4411-B4CA-8A307D2FCBE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CD9BA8-B5E2-40FB-B43F-AA557F795FE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BAB224-D314-41D0-9C54-5C572348D2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EAA0A-61C5-4CFD-9F11-6A338653351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F85D04-1F7C-4173-BAED-C9BA4881947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6951CC-6440-4D2B-A63F-01A0A0AC879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3A2E2E-1C72-46BF-9D84-41A6A5EF39A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C1C2D1-6947-41CA-A731-6B4D3E279FC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54567B-CF27-47D3-9099-F396416AA3C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DAB7FD-04E7-4929-986F-CB9761C61F5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68CD7B-3CB5-4E54-A150-F0540B6E520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07F007-96AA-41BC-98B1-FB3FD9622A1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DC3316-03BE-42B4-BAF4-C17F568A2F3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E4A9E4-C422-417B-9E2A-C2FAA5899F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1D44C-2D49-4BA5-964D-FCA1558A22A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0C6587-C132-4E14-813A-E19AB585E09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B472BD-FFE4-48C6-88E8-F559A83B0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34DFF5-7FDB-4224-997D-78A94073D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00BDA3-AAA0-4070-91E8-5410AF1C3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5F0DBA-2A9D-446A-935D-E8C2C01E5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52148F-F909-4D60-A6AE-21F3D9720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8C50C6-6CB2-41BA-AB4C-393570772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881F96-ACB0-49CF-8F89-55409F75C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CB6BD9-E2DD-4539-BEB1-FE8065B4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F03506-D3E5-4597-A7C4-5AE45459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128BB-0C83-4C4C-9758-74C857ACABF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6B5A7E-7CE0-4050-B6BA-4434B1629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ECC687-875F-43F6-B2A4-496F93145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9395AE-28C7-465F-9878-612F59E0D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BDE18-C1C6-431E-98E1-DE566DD8B02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12FE0-6F16-4FD2-BED2-73F4513EE20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d1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bbd1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1AE5B-1D7E-40D5-B3D6-A6016B211435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12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13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5AE7F-7695-4F34-A9B9-A1075A8F5611}" type="slidenum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044F5-EAE8-4FE3-BAB3-B08DDEA75A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A399B-DAE7-47D9-B6C9-54D3BA312759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3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6C6D9-2E90-4D03-9B95-DD22ACA44609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4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DA98B-2F4A-4B2B-8F48-81C29E2D4E57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5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5F100-5093-4B86-888A-8DF3B7BEDC6D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DB5A7-3BC8-4F53-B899-0368901187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d1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bbd100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9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0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1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nl/url?url=http://payned.nl/nieuws/loonbeslag-wat-nu/&amp;rct=j&amp;frm=1&amp;q=&amp;esrc=s&amp;sa=U&amp;ei=9qSEVJqtNsW_PITvgYgP&amp;ved=0CCYQ9QEwCA&amp;usg=AFQjCNHvqkYd78LKxoBiyQRkfQOjCfYwNw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195640" y="1125000"/>
            <a:ext cx="418608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Bedrijfs-administratie</a:t>
            </a:r>
            <a:br>
              <a:rPr sz="2800"/>
            </a:br>
            <a:br>
              <a:rPr sz="2800"/>
            </a:b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les 7 Hdst 4.3 – 4.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777384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rootboekrekeningen van een BV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Rectangle 19"/>
          <p:cNvSpPr/>
          <p:nvPr/>
        </p:nvSpPr>
        <p:spPr>
          <a:xfrm>
            <a:off x="1473120" y="2060640"/>
            <a:ext cx="6769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Wielands Bandencentrum BV: Alle aandelen van de directeur (= directeur en eigenaar van de B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 rekeningen: </a:t>
            </a:r>
            <a:r>
              <a:rPr b="1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andelenvermogen 060, Winstreserve 061 en te betalen vennootschapsbelasting 1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n rubr. 1 op </a:t>
            </a:r>
            <a:r>
              <a:rPr b="1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Rekening courant directeur 180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privé-opnamen en –stort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Op rekening </a:t>
            </a:r>
            <a:r>
              <a:rPr b="1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Personeelskosten 400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ook salaris van de direct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Afbeelding 1" descr=""/>
          <p:cNvPicPr/>
          <p:nvPr/>
        </p:nvPicPr>
        <p:blipFill>
          <a:blip r:embed="rId1"/>
          <a:stretch/>
        </p:blipFill>
        <p:spPr>
          <a:xfrm>
            <a:off x="6948360" y="4641840"/>
            <a:ext cx="185436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4360" y="10764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Inkopen en vaste verrekenprij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39280" y="1260360"/>
            <a:ext cx="764388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Geschatte inkoopprijzen wat  men denkt te moeten betalen = vaste verrekenprijs (vvp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oorraadrekeningen bijwerken tegen vvp’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erschil tussen werkelijke inkoopprijs en vvp op rekening </a:t>
            </a:r>
            <a:r>
              <a:rPr b="1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Prijsverschillen 7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ndien werkelijke inkoopprijs hoger = debet op rekening prijsverschill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nkoopfactuur (= If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mschrijving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debet         cred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1714680" y="4940280"/>
          <a:ext cx="6467400" cy="1881360"/>
        </p:xfrm>
        <a:graphic>
          <a:graphicData uri="http://schemas.openxmlformats.org/drawingml/2006/table">
            <a:tbl>
              <a:tblPr/>
              <a:tblGrid>
                <a:gridCol w="4221000"/>
                <a:gridCol w="1157400"/>
                <a:gridCol w="1089000"/>
              </a:tblGrid>
              <a:tr h="562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oorraad goederen (=vvp-waard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= excl. BTW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jsverschill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X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X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 vorderen BTW (6 of 21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rediteuren (= incl. BTW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46" name="Afbeelding 1" descr=""/>
          <p:cNvPicPr/>
          <p:nvPr/>
        </p:nvPicPr>
        <p:blipFill>
          <a:blip r:embed="rId1"/>
          <a:stretch/>
        </p:blipFill>
        <p:spPr>
          <a:xfrm>
            <a:off x="7777080" y="2773440"/>
            <a:ext cx="144000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26560" y="188640"/>
            <a:ext cx="7774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rkopen en vaste verrekenprijz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468360" y="1844640"/>
            <a:ext cx="777384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erkoopfactuur is identiek aan voorgaan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erzendbon: De rekening </a:t>
            </a:r>
            <a:r>
              <a:rPr b="1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nkoopprijs verkopen 800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en </a:t>
            </a:r>
            <a:r>
              <a:rPr b="1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oorraad goederen 700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tegen vvp-waarde coder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9" name="Afbeelding 2" descr=""/>
          <p:cNvPicPr/>
          <p:nvPr/>
        </p:nvPicPr>
        <p:blipFill>
          <a:blip r:embed="rId1"/>
          <a:stretch/>
        </p:blipFill>
        <p:spPr>
          <a:xfrm>
            <a:off x="5796000" y="4221000"/>
            <a:ext cx="20098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Het Jaarwerk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1400" spc="-1" strike="noStrike">
                <a:solidFill>
                  <a:srgbClr val="000000"/>
                </a:solidFill>
                <a:latin typeface="Calibri"/>
              </a:rPr>
              <a:t>(1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71040" y="1628640"/>
            <a:ext cx="764388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aldo van de rekening prijsverschillen overboeken naar rekening </a:t>
            </a:r>
            <a:r>
              <a:rPr b="1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nkoopprijs verkopen 8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ijv. debetsaldo van € 200 op de rekening prijsverschille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mschrijving                                    debet          cred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1547640" y="4608360"/>
          <a:ext cx="6323040" cy="878040"/>
        </p:xfrm>
        <a:graphic>
          <a:graphicData uri="http://schemas.openxmlformats.org/drawingml/2006/table">
            <a:tbl>
              <a:tblPr/>
              <a:tblGrid>
                <a:gridCol w="4127760"/>
                <a:gridCol w="1130040"/>
                <a:gridCol w="10652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koopprijs verkop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€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jsverschill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€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53" name="Picture 25" descr="ANd9GcQTA42zAhOzJn_iYAO60Lo0uSwAnZC2t8tY0cSoIuQI9zXtNhj3IptbL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53240" y="5592600"/>
            <a:ext cx="1325520" cy="12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547640" y="321840"/>
            <a:ext cx="6645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et Jaarwerk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(2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1042560" y="1484280"/>
            <a:ext cx="727092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Rekening </a:t>
            </a:r>
            <a:r>
              <a:rPr b="1" i="1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171 Nog te betalen bedragen </a:t>
            </a: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redit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 notere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(= schuld van het huidige jaar!!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Rekening </a:t>
            </a:r>
            <a:r>
              <a:rPr b="1" i="1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170 Vooruit betaalde bedragen </a:t>
            </a: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bet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 noter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3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(= bezitting van het huidige jaar!!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6" name=""/>
          <p:cNvGraphicFramePr/>
          <p:nvPr/>
        </p:nvGraphicFramePr>
        <p:xfrm>
          <a:off x="1951200" y="4035600"/>
          <a:ext cx="6149880" cy="877680"/>
        </p:xfrm>
        <a:graphic>
          <a:graphicData uri="http://schemas.openxmlformats.org/drawingml/2006/table">
            <a:tbl>
              <a:tblPr/>
              <a:tblGrid>
                <a:gridCol w="4014720"/>
                <a:gridCol w="1098360"/>
                <a:gridCol w="1036800"/>
              </a:tblGrid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ntekost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€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g te betalen bedrag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€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7" name=""/>
          <p:cNvGraphicFramePr/>
          <p:nvPr/>
        </p:nvGraphicFramePr>
        <p:xfrm>
          <a:off x="1990800" y="5743440"/>
          <a:ext cx="6110280" cy="878040"/>
        </p:xfrm>
        <a:graphic>
          <a:graphicData uri="http://schemas.openxmlformats.org/drawingml/2006/table">
            <a:tbl>
              <a:tblPr/>
              <a:tblGrid>
                <a:gridCol w="3987720"/>
                <a:gridCol w="1092240"/>
                <a:gridCol w="103032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ooruitbetaalde bedrag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€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n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€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8" name="Rectangle 3"/>
          <p:cNvSpPr/>
          <p:nvPr/>
        </p:nvSpPr>
        <p:spPr>
          <a:xfrm>
            <a:off x="539640" y="1484280"/>
            <a:ext cx="74138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  <a:ea typeface="Arial"/>
              </a:rPr>
              <a:t>     </a:t>
            </a:r>
            <a:r>
              <a:rPr b="0" lang="nl-NL" sz="16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Bijv.  te betalen rente-kosten € 2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Verdana"/>
                <a:ea typeface="Arial"/>
              </a:rPr>
              <a:t>                          </a:t>
            </a:r>
            <a:r>
              <a:rPr b="1" lang="nl-NL" sz="1600" spc="-1" strike="noStrike">
                <a:solidFill>
                  <a:srgbClr val="000000"/>
                </a:solidFill>
                <a:latin typeface="Verdana"/>
                <a:ea typeface="Arial"/>
              </a:rPr>
              <a:t>omschrijving                                debet     cred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nl-NL" sz="16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Bijv. vooruitbetaalde premie verzekeringen € 6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Verdana"/>
                <a:ea typeface="Arial"/>
              </a:rPr>
              <a:t>                    </a:t>
            </a:r>
            <a:r>
              <a:rPr b="1" lang="nl-NL" sz="1600" spc="-1" strike="noStrike">
                <a:solidFill>
                  <a:srgbClr val="000000"/>
                </a:solidFill>
                <a:latin typeface="Verdana"/>
                <a:ea typeface="Arial"/>
              </a:rPr>
              <a:t>omschrijving                                 debet     cred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Afbeelding 1" descr=""/>
          <p:cNvPicPr/>
          <p:nvPr/>
        </p:nvPicPr>
        <p:blipFill>
          <a:blip r:embed="rId1"/>
          <a:stretch/>
        </p:blipFill>
        <p:spPr>
          <a:xfrm>
            <a:off x="6372360" y="455760"/>
            <a:ext cx="2327040" cy="13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olommenbalans van een B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4 rekeningen specifiek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andelenvermog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Winstreser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Rekening-courant directeur (=privé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Te betalen vennootschapsbelasting (VpB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2" name="Afbeelding 3" descr=""/>
          <p:cNvPicPr/>
          <p:nvPr/>
        </p:nvPicPr>
        <p:blipFill>
          <a:blip r:embed="rId1"/>
          <a:stretch/>
        </p:blipFill>
        <p:spPr>
          <a:xfrm>
            <a:off x="5940360" y="429264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Huiswerk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uiswerk les 7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aken de opdrachten van Hdst. 4 paragraaf 3 t/m 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an het boek: Administratie voor het MK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it wordt nabesproken in de volgende l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ucc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AutoShape 2"/>
          <p:cNvSpPr/>
          <p:nvPr/>
        </p:nvSpPr>
        <p:spPr>
          <a:xfrm>
            <a:off x="117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3" descr=""/>
          <p:cNvPicPr/>
          <p:nvPr/>
        </p:nvPicPr>
        <p:blipFill>
          <a:blip r:embed="rId1"/>
          <a:stretch/>
        </p:blipFill>
        <p:spPr>
          <a:xfrm>
            <a:off x="6084720" y="4724280"/>
            <a:ext cx="2581560" cy="17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0T10:15:35Z</dcterms:created>
  <dc:creator>Amber Ancion</dc:creator>
  <dc:description/>
  <dc:language>en-US</dc:language>
  <cp:lastModifiedBy>Jo van den Broek</cp:lastModifiedBy>
  <dcterms:modified xsi:type="dcterms:W3CDTF">2015-09-07T11:21:57Z</dcterms:modified>
  <cp:revision>198</cp:revision>
  <dc:subject/>
  <dc:title>Gemeente</dc:title>
</cp:coreProperties>
</file>