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media/image10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3938-A387-4E16-8961-4EB3AC6160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52E0D-80D0-4FD8-83F7-685B35FF9D9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305DE-13BE-45D8-90D8-C6983170CB7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7998-B8C0-4E81-A0BC-94B9823DC0A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3DCC9-1BC2-4CBF-9D7E-FD36D909C25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AAC0192-9066-497A-9CCE-28B826F5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6E185D-2A3C-46DE-BEE4-A3809826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C65066-34AA-49CB-80B0-266482989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BED9A0-D09D-410A-ACB8-35FFD997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F6D23A-A6F0-45E6-902C-E03824F20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32E3E8-84DD-44DC-9054-2E45A63A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C630B3-7721-4360-9E6D-91C79AC8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F4213-6BDC-44E2-A533-894BB14D95CC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EB72F1-DCC9-457E-9F53-52C2123B4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C0D870F-A2FE-4313-9B6D-17C4AE28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630327-B7AD-4DFB-8E94-19DFF29D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83CF1F6-BC39-4410-B1FE-EE38B38D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B0992D-9CF6-4AF4-A834-CF4E4BA55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40539E-D6AC-4B0A-9085-A2661532F91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EF26F4C-AFB4-40FF-8AC6-64B219F928D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E4F619A-BB71-4460-A021-1BF28662E35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EAFEDC-439F-4CC5-AA54-67DB52E41B5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435E91-63F1-411E-8C97-699591AC14E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3D091-77D2-4718-939E-5AE42737578C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62BEB9-90A4-46D8-A431-6AAEA278E7D0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D07DA5B-E1B7-4912-AF72-F50FBFBB01A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0116DD-0E3F-45F3-B711-1CE70456826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8C629B-520B-4B35-B7C5-2040D07A591B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07C4FE1-9B48-473B-B4F6-52F34FF9D913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CB69044-54E0-4CD0-8B5E-4744FAD94D70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915090-BA9D-4E3F-9EA8-A842660A19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0C0903-2991-4E5D-BD1C-16EAB85E7CD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7E6D4-F150-41B7-9CF5-EA008A9C57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68F3C-D052-4846-A38B-A034FA82E8B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68250-C9AB-4502-A66C-F4B55DCC8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377D-2F94-4532-A650-AE448C97FF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CE080-C02F-4CD3-9380-07DB355E96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4B162-B253-4C3A-9DBA-48FE808B568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9E53-C560-458B-BE08-998C936452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CB1FD-6077-49AE-99F8-45D1AD2CDB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59C60-5619-4024-9C2C-72C7431A2EF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2BB1-E45D-4A59-83AB-484AEB6FB89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2089-FEA8-4D17-8609-13E6CF5C26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8125-8C0B-4A9D-AC1D-DF9C1142EB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B1EE-27EB-41E6-BAFB-4A4E830371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52DF-EF8C-4C65-9DF1-74EB1FC92D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C4CC-5BCA-4326-B84F-44C21910036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6A84-B434-45F0-AED2-8CE1BE2B8EA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F60B-239E-4304-9AD1-AF82476C62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52D9-358E-4B2E-9917-72A79D5AF89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3D2C-C1C9-4C28-BC91-70E548318E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1E3C-74D2-42F0-8D80-15B6E0F1F71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C028-90C8-4CE7-BA8F-9472B082EBC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64C9-2F2E-476F-85B5-6C46CA95032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2DA9A6-2194-4B33-95CA-95E235C68F1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0B05C-14C1-4CE7-A022-4174032AEB0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A3C87-DB14-4E6A-8204-976F5969ED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B518-1E99-47CB-980D-953CDEECC50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FCBAD5-FA0A-4B1C-945F-41D2F94683A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84FD7-87B4-4E23-92C3-B0AAAAB9BA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3014B5-2B54-4C97-A956-CC52A2BE97B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32E30-7359-4C48-BC76-E46519109D2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B7470D-68A8-4066-BCDD-DA2F9C67257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8A1E5-DCE4-410B-9A71-393988DD859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7F831E-C4AA-4A75-88ED-B9C6D50B3D8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463470-9C8C-460D-9D0E-C4DAE853E58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3EFE37-C6CB-4952-8123-46E41804496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6683B4-424F-4246-9F05-58D24FA37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7AB25-D657-4368-88FD-1ED267A2F63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EA9E4-A4C3-4324-B4DD-247CE4458DB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67C7C6-D09B-409D-87F6-B1A44CCBFEF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A11FC-A25F-4948-B66C-17B03EACA069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1108F-0AA7-42F9-8636-5092C5AE0D2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09435-8C93-4252-B67B-29F56EB22AA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CE5D48-B6C5-4DA7-A13F-2B8F9EE3144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B0A93-A6D5-4F7B-A0D7-C70888FCA6E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D772E1-168B-40AE-89ED-EB07558BCB4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16477-809B-42EB-BFF8-E805C80F2D4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E30B9-2105-4BB2-9BAE-8FDC0BD77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8194-CD8C-434B-BA6F-100E876900A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1BE381-DD08-42F7-A3AB-48791F2B667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D0D39-F7D5-48A8-AB02-A8E40532C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E0ECAB-BE2E-42DB-9C58-5196D3A2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D3880-C202-4132-B9B2-286AC974B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E78C9E-F358-4784-B13D-ACCA3211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752DA-0F3A-451F-B9EB-F89167FB7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65665-F3B6-43E4-B0A1-386A79110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CD39D-E12A-4C5B-88DC-9B0DDD94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156E6-BBDB-4927-A0FE-D627FF6D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411984-47DD-473F-9486-EFC362C0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21767-33ED-4F9F-A647-D7F0E72E690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4613D-FB79-43C8-9E26-3620FA6F8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AFBA74-B182-4FA3-95F7-5E720EB0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3C1A0F-A5F5-4BBF-8731-A7120E652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7E36A-E9A6-45DE-9E67-CCB47AA83C0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FA72-62ED-4DCD-8206-3F2505A0D96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335BC-CB80-41B8-9200-77890CA2C23E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2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13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D882-815E-4E1D-BAD4-41B3007FF9A5}" type="slidenum"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F8F2-0329-4C71-8611-B5B7A0A1745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12FB-C279-40D6-9451-9E35529B0262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95F30-CF52-4997-9206-A216FE08A0D9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4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9CDC-58E5-478E-93A3-DCA8861041A6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2"/>
          <a:stretch/>
        </p:blipFill>
        <p:spPr>
          <a:xfrm>
            <a:off x="-34920" y="-23760"/>
            <a:ext cx="9215280" cy="6912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6587640" y="727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0808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8C66-BAED-4363-B1E3-80DE390FB486}" type="slidenum">
              <a:rPr b="1" lang="en-US" sz="1200" spc="-1" strike="noStrike">
                <a:solidFill>
                  <a:srgbClr val="80808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CA62-24C2-4AB6-8163-24996472FB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d100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bbd1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9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8ca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00b8ca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10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-304920" y="-22536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0" y="6850080"/>
            <a:ext cx="914400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© 2008 - 2009 De Groene Camp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468360" y="3500280"/>
            <a:ext cx="863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ffffff"/>
                </a:solidFill>
                <a:latin typeface="Verdana"/>
              </a:rPr>
              <a:t>Datu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51c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751c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915920"/>
            <a:ext cx="777384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24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524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5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1"/>
          </p:nvPr>
        </p:nvSpPr>
        <p:spPr>
          <a:xfrm>
            <a:off x="1258560" y="3500280"/>
            <a:ext cx="3384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url=http://recensies.infonu.nl/financieel/123155-naar-een-financieel-onbezorgd-leven-annemarie-van-gaal.html&amp;rct=j&amp;frm=1&amp;q=&amp;esrc=s&amp;sa=U&amp;ei=oH8AVeyRMoT0PNrngfAI&amp;ved=0CCIQ9QEwBg&amp;usg=AFQjCNHrSmvCimMmhPhiyIqlVo49rHnxkQ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556000" y="1341000"/>
            <a:ext cx="418608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Bedrijfs-administratie</a:t>
            </a:r>
            <a:br>
              <a:rPr sz="2400"/>
            </a:br>
            <a:br>
              <a:rPr sz="2400"/>
            </a:b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les 10 Hdst 6.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4440" y="475920"/>
            <a:ext cx="77742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Rectangle 19"/>
          <p:cNvSpPr/>
          <p:nvPr/>
        </p:nvSpPr>
        <p:spPr>
          <a:xfrm>
            <a:off x="1258920" y="1844640"/>
            <a:ext cx="6769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Kasstaat = het kasboek = contante ontvangsten en uitgaven van een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veel bedrijven alleen kasgeld aanwezig voor kleine uitgav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In detailhandel en horeca wel veel contante opbrengs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5" descr=""/>
          <p:cNvPicPr/>
          <p:nvPr/>
        </p:nvPicPr>
        <p:blipFill>
          <a:blip r:embed="rId1"/>
          <a:stretch/>
        </p:blipFill>
        <p:spPr>
          <a:xfrm>
            <a:off x="4643280" y="4307040"/>
            <a:ext cx="373572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85840" y="33300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402920" y="1628280"/>
            <a:ext cx="6635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Functie kasboek/kasstaa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Controle aanwezige kasgel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Financiële feiten boeken op tegenrekening in het grootbo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5" name="Picture 5" descr=""/>
          <p:cNvPicPr/>
          <p:nvPr/>
        </p:nvPicPr>
        <p:blipFill>
          <a:blip r:embed="rId1"/>
          <a:stretch/>
        </p:blipFill>
        <p:spPr>
          <a:xfrm>
            <a:off x="5073480" y="4365720"/>
            <a:ext cx="3527640" cy="19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55640" y="620280"/>
            <a:ext cx="777384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3)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000"/>
            </a:br>
            <a:r>
              <a:rPr b="1" lang="nl-NL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</a:t>
            </a:r>
            <a:r>
              <a:rPr b="1" lang="nl-NL" sz="1400" spc="-1" strike="noStrike">
                <a:solidFill>
                  <a:srgbClr val="000000"/>
                </a:solidFill>
                <a:latin typeface="Arial"/>
                <a:ea typeface="Arial"/>
              </a:rPr>
              <a:t>kasstaat nr.: 3                                        Periode maart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7" name=""/>
          <p:cNvGraphicFramePr/>
          <p:nvPr/>
        </p:nvGraphicFramePr>
        <p:xfrm>
          <a:off x="1547640" y="2060640"/>
          <a:ext cx="6840720" cy="3360600"/>
        </p:xfrm>
        <a:graphic>
          <a:graphicData uri="http://schemas.openxmlformats.org/drawingml/2006/table">
            <a:tbl>
              <a:tblPr/>
              <a:tblGrid>
                <a:gridCol w="538200"/>
                <a:gridCol w="700200"/>
                <a:gridCol w="2901960"/>
                <a:gridCol w="849240"/>
                <a:gridCol w="809640"/>
                <a:gridCol w="1041480"/>
              </a:tblGrid>
              <a:tr h="4316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ekst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schrij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vang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itga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genrekening D/C +code n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steveel/kastek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6732720" y="5600880"/>
            <a:ext cx="2220840" cy="97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384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(4)</a:t>
            </a:r>
            <a:br>
              <a:rPr sz="1600"/>
            </a:br>
            <a:br>
              <a:rPr sz="2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0" name=""/>
          <p:cNvGraphicFramePr/>
          <p:nvPr/>
        </p:nvGraphicFramePr>
        <p:xfrm>
          <a:off x="1692360" y="1773360"/>
          <a:ext cx="6153120" cy="3606840"/>
        </p:xfrm>
        <a:graphic>
          <a:graphicData uri="http://schemas.openxmlformats.org/drawingml/2006/table">
            <a:tbl>
              <a:tblPr/>
              <a:tblGrid>
                <a:gridCol w="484200"/>
                <a:gridCol w="630000"/>
                <a:gridCol w="2610000"/>
                <a:gridCol w="765000"/>
                <a:gridCol w="727200"/>
                <a:gridCol w="936720"/>
              </a:tblGrid>
              <a:tr h="30456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t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oekstu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mschrijv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ntvangst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itgav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genrekening D/C +code n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1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gin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3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n debiteur ontvangen (Vf 201501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130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7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vé-op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0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an crediteur betaald (If 201502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ankstort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enzine getank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,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tw 2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,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  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nte verkop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8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tw 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1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08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asteveel/kasteko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  4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-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sal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  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€ </a:t>
                      </a: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4200" marR="34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1" name="Picture 1" descr=""/>
          <p:cNvPicPr/>
          <p:nvPr/>
        </p:nvPicPr>
        <p:blipFill>
          <a:blip r:embed="rId1"/>
          <a:stretch/>
        </p:blipFill>
        <p:spPr>
          <a:xfrm>
            <a:off x="7380360" y="5384880"/>
            <a:ext cx="137772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777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dst 6.1: De kasstaat </a:t>
            </a:r>
            <a:r>
              <a:rPr b="0" lang="nl-NL" sz="1600" spc="-1" strike="noStrike">
                <a:solidFill>
                  <a:srgbClr val="000000"/>
                </a:solidFill>
                <a:latin typeface="Calibri"/>
              </a:rPr>
              <a:t>(5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00000" y="1699920"/>
            <a:ext cx="712800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n debiteur ontvangen (Vf 2015014)    €   64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1" lang="nl-NL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rivé-opname  €   5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4" name=""/>
          <p:cNvGraphicFramePr/>
          <p:nvPr/>
        </p:nvGraphicFramePr>
        <p:xfrm>
          <a:off x="2230560" y="2841480"/>
          <a:ext cx="4465440" cy="669960"/>
        </p:xfrm>
        <a:graphic>
          <a:graphicData uri="http://schemas.openxmlformats.org/drawingml/2006/table">
            <a:tbl>
              <a:tblPr/>
              <a:tblGrid>
                <a:gridCol w="2449440"/>
                <a:gridCol w="1079280"/>
                <a:gridCol w="9367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 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biteuren (13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5" name=""/>
          <p:cNvGraphicFramePr/>
          <p:nvPr/>
        </p:nvGraphicFramePr>
        <p:xfrm>
          <a:off x="2260440" y="4653000"/>
          <a:ext cx="4537080" cy="669960"/>
        </p:xfrm>
        <a:graphic>
          <a:graphicData uri="http://schemas.openxmlformats.org/drawingml/2006/table">
            <a:tbl>
              <a:tblPr/>
              <a:tblGrid>
                <a:gridCol w="2449800"/>
                <a:gridCol w="1008000"/>
                <a:gridCol w="10792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ivé  (06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s (10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6" name="Picture 71" descr="ANd9GcTomivo7dKSwyv8w0Z-g5VypPOW4VROsL_wtIXe-WW1GuNbKlmeHGty2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64360" y="4797360"/>
            <a:ext cx="1604880" cy="16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979280" y="333000"/>
            <a:ext cx="66452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Huiswerk……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050560" y="1197000"/>
            <a:ext cx="66358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Huiswerk les 10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ken de opdrachten van Hdst. 6 paragraaf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an het boek: Administratie voor het MK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Dit wordt nabesproken in de volgende 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  <a:ea typeface="Arial"/>
              </a:rPr>
              <a:t>Succ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AutoShape 2"/>
          <p:cNvSpPr/>
          <p:nvPr/>
        </p:nvSpPr>
        <p:spPr>
          <a:xfrm>
            <a:off x="117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1"/>
          <a:stretch/>
        </p:blipFill>
        <p:spPr>
          <a:xfrm>
            <a:off x="6084720" y="4724280"/>
            <a:ext cx="2581560" cy="17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0T10:15:35Z</dcterms:created>
  <dc:creator>Amber Ancion</dc:creator>
  <dc:description/>
  <dc:language>en-US</dc:language>
  <cp:lastModifiedBy>Jo van den Broek</cp:lastModifiedBy>
  <dcterms:modified xsi:type="dcterms:W3CDTF">2015-09-07T11:31:51Z</dcterms:modified>
  <cp:revision>214</cp:revision>
  <dc:subject/>
  <dc:title>Gemeente</dc:title>
</cp:coreProperties>
</file>