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480-D7EC-4648-A585-1896AF7A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6A1-A414-44C0-B2AF-AC9B5EA0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77F-2274-47AA-80AF-86EC387E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9B0-153F-4828-A762-7BBEE355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C378-A6AA-4894-9806-3230CCC1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CE2-0C8A-4CB4-AA59-3DC3B310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390-165D-46E0-9B8C-65DF8DBC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F9D-5E2C-4C73-A0D7-177E4DEF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62C-5964-42C6-B4BA-440B863B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277-0C7E-4AA8-9428-1A6E7838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102-D4C9-4FCA-96F7-9B7B2BDA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CDD2-D31A-4B2E-9B68-F147B173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9172-52C6-4DDD-A0E5-7A8A47BD810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ndevoe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648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aangebroken en buiten de 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tussendoor in de koeling leg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ctieknop: Terug of Vorige 3"/>
          <p:cNvSpPr/>
          <p:nvPr/>
        </p:nvSpPr>
        <p:spPr>
          <a:xfrm>
            <a:off x="1042920" y="4292640"/>
            <a:ext cx="682560" cy="504720"/>
          </a:xfrm>
          <a:custGeom>
            <a:avLst/>
            <a:gdLst>
              <a:gd name="textAreaLeft" fmla="*/ 32400 w 682560"/>
              <a:gd name="textAreaRight" fmla="*/ 650160 w 682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05" h="21600">
                <a:moveTo>
                  <a:pt x="0" y="0"/>
                </a:moveTo>
                <a:lnTo>
                  <a:pt x="29205" y="0"/>
                </a:lnTo>
                <a:lnTo>
                  <a:pt x="29205" y="21600"/>
                </a:lnTo>
                <a:lnTo>
                  <a:pt x="0" y="21600"/>
                </a:lnTo>
                <a:close/>
              </a:path>
              <a:path fill="lightenLess" w="29205" h="21600">
                <a:moveTo>
                  <a:pt x="0" y="0"/>
                </a:moveTo>
                <a:lnTo>
                  <a:pt x="29205" y="0"/>
                </a:lnTo>
                <a:lnTo>
                  <a:pt x="27805" y="1400"/>
                </a:lnTo>
                <a:lnTo>
                  <a:pt x="1400" y="1400"/>
                </a:lnTo>
                <a:close/>
              </a:path>
              <a:path fill="darken" w="29205" h="21600">
                <a:moveTo>
                  <a:pt x="29205" y="0"/>
                </a:moveTo>
                <a:lnTo>
                  <a:pt x="29205" y="21600"/>
                </a:lnTo>
                <a:lnTo>
                  <a:pt x="27805" y="20200"/>
                </a:lnTo>
                <a:lnTo>
                  <a:pt x="27805" y="1400"/>
                </a:lnTo>
                <a:close/>
              </a:path>
              <a:path fill="darkenLess" w="29205" h="21600">
                <a:moveTo>
                  <a:pt x="2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5" y="20200"/>
                </a:lnTo>
                <a:close/>
              </a:path>
              <a:path fill="lighten" w="2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5" h="21600">
                <a:moveTo>
                  <a:pt x="7596" y="10800"/>
                </a:moveTo>
                <a:lnTo>
                  <a:pt x="21609" y="3794"/>
                </a:lnTo>
                <a:lnTo>
                  <a:pt x="2160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st sociaal moment met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rijgt geen maaltijden aangebo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voeding bolussen geven op voedingstij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bolussen wel honger 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continu sondevoeding geen honger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ctieknop: Verder of Volgende 3"/>
          <p:cNvSpPr/>
          <p:nvPr/>
        </p:nvSpPr>
        <p:spPr>
          <a:xfrm>
            <a:off x="1042920" y="5300640"/>
            <a:ext cx="755640" cy="50472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2331" h="21600">
                <a:moveTo>
                  <a:pt x="0" y="0"/>
                </a:moveTo>
                <a:lnTo>
                  <a:pt x="32331" y="0"/>
                </a:lnTo>
                <a:lnTo>
                  <a:pt x="32331" y="21600"/>
                </a:lnTo>
                <a:lnTo>
                  <a:pt x="0" y="21600"/>
                </a:lnTo>
                <a:close/>
              </a:path>
              <a:path fill="lightenLess" w="32331" h="21600">
                <a:moveTo>
                  <a:pt x="0" y="0"/>
                </a:moveTo>
                <a:lnTo>
                  <a:pt x="32331" y="0"/>
                </a:lnTo>
                <a:lnTo>
                  <a:pt x="30931" y="1400"/>
                </a:lnTo>
                <a:lnTo>
                  <a:pt x="1400" y="1400"/>
                </a:lnTo>
                <a:close/>
              </a:path>
              <a:path fill="darken" w="32331" h="21600">
                <a:moveTo>
                  <a:pt x="32331" y="0"/>
                </a:moveTo>
                <a:lnTo>
                  <a:pt x="32331" y="21600"/>
                </a:lnTo>
                <a:lnTo>
                  <a:pt x="30931" y="20200"/>
                </a:lnTo>
                <a:lnTo>
                  <a:pt x="30931" y="1400"/>
                </a:lnTo>
                <a:close/>
              </a:path>
              <a:path fill="darkenLess" w="32331" h="21600">
                <a:moveTo>
                  <a:pt x="32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1" y="20200"/>
                </a:lnTo>
                <a:close/>
              </a:path>
              <a:path fill="lighten" w="32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1" h="21600">
                <a:moveTo>
                  <a:pt x="9159" y="3794"/>
                </a:moveTo>
                <a:lnTo>
                  <a:pt x="23172" y="10800"/>
                </a:lnTo>
                <a:lnTo>
                  <a:pt x="915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orgen van PEG/P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as aangeleg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: extra hygië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anden fistel genez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esinfecter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tadine jodiu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Na 6 weken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einigen water zee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Afbeelding 3" descr="PEG.bmp"/>
          <p:cNvPicPr/>
          <p:nvPr/>
        </p:nvPicPr>
        <p:blipFill>
          <a:blip r:embed="rId1"/>
          <a:stretch/>
        </p:blipFill>
        <p:spPr>
          <a:xfrm>
            <a:off x="5867280" y="1052640"/>
            <a:ext cx="2952720" cy="272412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6" descr="peg 2.jpg"/>
          <p:cNvPicPr/>
          <p:nvPr/>
        </p:nvPicPr>
        <p:blipFill>
          <a:blip r:embed="rId2"/>
          <a:stretch/>
        </p:blipFill>
        <p:spPr>
          <a:xfrm>
            <a:off x="4788000" y="3789360"/>
            <a:ext cx="4078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ckey but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81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rekenen hoeveelhe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veelheid ml SV x druppels per m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------------------------------------------------ = aantal druppels per minu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tal uren SV gegeven x 60 m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: arts spreekt 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iter sondevoeding per 24 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is de druppelsnelhei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t = 2000 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4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28 druppels per minu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24 x 60            14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rts spreekt af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iter in 8 uur (alleen ‘s nach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t = 100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1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41 druppels per minu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8 x 60           4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is sondevoe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loeibare voeding die geven wordt via kunstmatige verbinding met de maag/duoden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medicij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anieren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eusson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G (percutane endoscopische gastr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J (percutane endoscopische jejun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olu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Continu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pu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ystee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nneer sondevoeding gev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ondervoeding met een goed functionerend maagdarmkan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vulling op di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doeningen: slikken/kauwen,slokdarm,maa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minderde eetl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echte lichamelijke condi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voedselweigering (ki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orgproblem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decubitus aan n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dat sonde niet op de juist plaats z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st sociaal moment met e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ctieknop: Verder of Volgende 3">
            <a:hlinkClick r:id="" action="ppaction://hlinkshowjump?jump=nextslide"/>
          </p:cNvPr>
          <p:cNvSpPr/>
          <p:nvPr/>
        </p:nvSpPr>
        <p:spPr>
          <a:xfrm>
            <a:off x="4643280" y="1700280"/>
            <a:ext cx="538200" cy="360360"/>
          </a:xfrm>
          <a:custGeom>
            <a:avLst/>
            <a:gdLst>
              <a:gd name="textAreaLeft" fmla="*/ 23040 w 538200"/>
              <a:gd name="textAreaRight" fmla="*/ 515160 w 5382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249" h="21600">
                <a:moveTo>
                  <a:pt x="0" y="0"/>
                </a:moveTo>
                <a:lnTo>
                  <a:pt x="32249" y="0"/>
                </a:lnTo>
                <a:lnTo>
                  <a:pt x="32249" y="21600"/>
                </a:lnTo>
                <a:lnTo>
                  <a:pt x="0" y="21600"/>
                </a:lnTo>
                <a:close/>
              </a:path>
              <a:path fill="lightenLess" w="32249" h="21600">
                <a:moveTo>
                  <a:pt x="0" y="0"/>
                </a:moveTo>
                <a:lnTo>
                  <a:pt x="32249" y="0"/>
                </a:lnTo>
                <a:lnTo>
                  <a:pt x="30849" y="1400"/>
                </a:lnTo>
                <a:lnTo>
                  <a:pt x="1400" y="1400"/>
                </a:lnTo>
                <a:close/>
              </a:path>
              <a:path fill="darken" w="32249" h="21600">
                <a:moveTo>
                  <a:pt x="32249" y="0"/>
                </a:moveTo>
                <a:lnTo>
                  <a:pt x="32249" y="21600"/>
                </a:lnTo>
                <a:lnTo>
                  <a:pt x="30849" y="20200"/>
                </a:lnTo>
                <a:lnTo>
                  <a:pt x="30849" y="1400"/>
                </a:lnTo>
                <a:close/>
              </a:path>
              <a:path fill="darkenLess" w="32249" h="21600">
                <a:moveTo>
                  <a:pt x="32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49" y="20200"/>
                </a:lnTo>
                <a:close/>
              </a:path>
              <a:path fill="lighten" w="32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49" h="21600">
                <a:moveTo>
                  <a:pt x="9118" y="3794"/>
                </a:moveTo>
                <a:lnTo>
                  <a:pt x="23131" y="10800"/>
                </a:lnTo>
                <a:lnTo>
                  <a:pt x="911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eknop: Verder of Volgende 4">
            <a:hlinkClick r:id="rId1" action="ppaction://hlinksldjump"/>
          </p:cNvPr>
          <p:cNvSpPr/>
          <p:nvPr/>
        </p:nvSpPr>
        <p:spPr>
          <a:xfrm>
            <a:off x="5796000" y="2205000"/>
            <a:ext cx="611280" cy="432000"/>
          </a:xfrm>
          <a:custGeom>
            <a:avLst/>
            <a:gdLst>
              <a:gd name="textAreaLeft" fmla="*/ 27720 w 611280"/>
              <a:gd name="textAreaRight" fmla="*/ 583560 w 611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557" h="21600">
                <a:moveTo>
                  <a:pt x="0" y="0"/>
                </a:moveTo>
                <a:lnTo>
                  <a:pt x="30557" y="0"/>
                </a:lnTo>
                <a:lnTo>
                  <a:pt x="30557" y="21600"/>
                </a:lnTo>
                <a:lnTo>
                  <a:pt x="0" y="21600"/>
                </a:lnTo>
                <a:close/>
              </a:path>
              <a:path fill="lightenLess" w="30557" h="21600">
                <a:moveTo>
                  <a:pt x="0" y="0"/>
                </a:moveTo>
                <a:lnTo>
                  <a:pt x="30557" y="0"/>
                </a:lnTo>
                <a:lnTo>
                  <a:pt x="29157" y="1400"/>
                </a:lnTo>
                <a:lnTo>
                  <a:pt x="1400" y="1400"/>
                </a:lnTo>
                <a:close/>
              </a:path>
              <a:path fill="darken" w="30557" h="21600">
                <a:moveTo>
                  <a:pt x="30557" y="0"/>
                </a:moveTo>
                <a:lnTo>
                  <a:pt x="30557" y="21600"/>
                </a:lnTo>
                <a:lnTo>
                  <a:pt x="29157" y="20200"/>
                </a:lnTo>
                <a:lnTo>
                  <a:pt x="29157" y="1400"/>
                </a:lnTo>
                <a:close/>
              </a:path>
              <a:path fill="darkenLess" w="30557" h="21600">
                <a:moveTo>
                  <a:pt x="30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57" y="20200"/>
                </a:lnTo>
                <a:close/>
              </a:path>
              <a:path fill="lighten" w="30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57" h="21600">
                <a:moveTo>
                  <a:pt x="8272" y="3794"/>
                </a:moveTo>
                <a:lnTo>
                  <a:pt x="22285" y="10800"/>
                </a:lnTo>
                <a:lnTo>
                  <a:pt x="827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ctieknop: Verder of Volgende 5"/>
          <p:cNvSpPr/>
          <p:nvPr/>
        </p:nvSpPr>
        <p:spPr>
          <a:xfrm>
            <a:off x="7740720" y="2852640"/>
            <a:ext cx="609480" cy="432000"/>
          </a:xfrm>
          <a:custGeom>
            <a:avLst/>
            <a:gdLst>
              <a:gd name="textAreaLeft" fmla="*/ 27720 w 609480"/>
              <a:gd name="textAreaRight" fmla="*/ 581760 w 6094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467" h="21600">
                <a:moveTo>
                  <a:pt x="0" y="0"/>
                </a:moveTo>
                <a:lnTo>
                  <a:pt x="30467" y="0"/>
                </a:lnTo>
                <a:lnTo>
                  <a:pt x="30467" y="21600"/>
                </a:lnTo>
                <a:lnTo>
                  <a:pt x="0" y="21600"/>
                </a:lnTo>
                <a:close/>
              </a:path>
              <a:path fill="lightenLess" w="30467" h="21600">
                <a:moveTo>
                  <a:pt x="0" y="0"/>
                </a:moveTo>
                <a:lnTo>
                  <a:pt x="30467" y="0"/>
                </a:lnTo>
                <a:lnTo>
                  <a:pt x="29067" y="1400"/>
                </a:lnTo>
                <a:lnTo>
                  <a:pt x="1400" y="1400"/>
                </a:lnTo>
                <a:close/>
              </a:path>
              <a:path fill="darken" w="30467" h="21600">
                <a:moveTo>
                  <a:pt x="30467" y="0"/>
                </a:moveTo>
                <a:lnTo>
                  <a:pt x="30467" y="21600"/>
                </a:lnTo>
                <a:lnTo>
                  <a:pt x="29067" y="20200"/>
                </a:lnTo>
                <a:lnTo>
                  <a:pt x="29067" y="1400"/>
                </a:lnTo>
                <a:close/>
              </a:path>
              <a:path fill="darkenLess" w="30467" h="21600">
                <a:moveTo>
                  <a:pt x="30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7" y="20200"/>
                </a:lnTo>
                <a:close/>
              </a:path>
              <a:path fill="lighten" w="30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7" h="21600">
                <a:moveTo>
                  <a:pt x="8227" y="3794"/>
                </a:moveTo>
                <a:lnTo>
                  <a:pt x="22240" y="10800"/>
                </a:lnTo>
                <a:lnTo>
                  <a:pt x="822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ctieknop: Verder of Volgende 6"/>
          <p:cNvSpPr/>
          <p:nvPr/>
        </p:nvSpPr>
        <p:spPr>
          <a:xfrm>
            <a:off x="6372360" y="3429000"/>
            <a:ext cx="609480" cy="504720"/>
          </a:xfrm>
          <a:custGeom>
            <a:avLst/>
            <a:gdLst>
              <a:gd name="textAreaLeft" fmla="*/ 32400 w 609480"/>
              <a:gd name="textAreaRight" fmla="*/ 577080 w 6094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3794"/>
                </a:moveTo>
                <a:lnTo>
                  <a:pt x="20047" y="10800"/>
                </a:lnTo>
                <a:lnTo>
                  <a:pt x="603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ctieknop: Verder of Volgende 7"/>
          <p:cNvSpPr/>
          <p:nvPr/>
        </p:nvSpPr>
        <p:spPr>
          <a:xfrm>
            <a:off x="6156360" y="4149720"/>
            <a:ext cx="609480" cy="3589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6664" h="21600">
                <a:moveTo>
                  <a:pt x="0" y="0"/>
                </a:moveTo>
                <a:lnTo>
                  <a:pt x="36664" y="0"/>
                </a:lnTo>
                <a:lnTo>
                  <a:pt x="36664" y="21600"/>
                </a:lnTo>
                <a:lnTo>
                  <a:pt x="0" y="21600"/>
                </a:lnTo>
                <a:close/>
              </a:path>
              <a:path fill="lightenLess" w="36664" h="21600">
                <a:moveTo>
                  <a:pt x="0" y="0"/>
                </a:moveTo>
                <a:lnTo>
                  <a:pt x="36664" y="0"/>
                </a:lnTo>
                <a:lnTo>
                  <a:pt x="35264" y="1400"/>
                </a:lnTo>
                <a:lnTo>
                  <a:pt x="1400" y="1400"/>
                </a:lnTo>
                <a:close/>
              </a:path>
              <a:path fill="darken" w="36664" h="21600">
                <a:moveTo>
                  <a:pt x="36664" y="0"/>
                </a:moveTo>
                <a:lnTo>
                  <a:pt x="36664" y="21600"/>
                </a:lnTo>
                <a:lnTo>
                  <a:pt x="35264" y="20200"/>
                </a:lnTo>
                <a:lnTo>
                  <a:pt x="35264" y="1400"/>
                </a:lnTo>
                <a:close/>
              </a:path>
              <a:path fill="darkenLess" w="36664" h="21600">
                <a:moveTo>
                  <a:pt x="36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64" y="20200"/>
                </a:lnTo>
                <a:close/>
              </a:path>
              <a:path fill="lighten" w="36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64" h="21600">
                <a:moveTo>
                  <a:pt x="11325" y="3794"/>
                </a:moveTo>
                <a:lnTo>
                  <a:pt x="25338" y="10800"/>
                </a:lnTo>
                <a:lnTo>
                  <a:pt x="1132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uwfunctie valt weg, gevolg mondslijmvlies droogt uit, slijmvlies beschadigd, bacteriën in zitten, gevolg ontste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eekselproductie la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ndverzo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tiënt op iets laten kauwen/zui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ctieknop: Terug of Vorige 3">
            <a:hlinkClick r:id="" action="ppaction://hlinkshowjump?jump=previousslide"/>
          </p:cNvPr>
          <p:cNvSpPr/>
          <p:nvPr/>
        </p:nvSpPr>
        <p:spPr>
          <a:xfrm>
            <a:off x="1042920" y="5732640"/>
            <a:ext cx="682560" cy="576000"/>
          </a:xfrm>
          <a:custGeom>
            <a:avLst/>
            <a:gdLst>
              <a:gd name="textAreaLeft" fmla="*/ 37080 w 682560"/>
              <a:gd name="textAreaRight" fmla="*/ 645480 w 6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5594" h="21600">
                <a:moveTo>
                  <a:pt x="0" y="0"/>
                </a:moveTo>
                <a:lnTo>
                  <a:pt x="25594" y="0"/>
                </a:lnTo>
                <a:lnTo>
                  <a:pt x="25594" y="21600"/>
                </a:lnTo>
                <a:lnTo>
                  <a:pt x="0" y="21600"/>
                </a:lnTo>
                <a:close/>
              </a:path>
              <a:path fill="lightenLess" w="25594" h="21600">
                <a:moveTo>
                  <a:pt x="0" y="0"/>
                </a:moveTo>
                <a:lnTo>
                  <a:pt x="25594" y="0"/>
                </a:lnTo>
                <a:lnTo>
                  <a:pt x="24194" y="1400"/>
                </a:lnTo>
                <a:lnTo>
                  <a:pt x="1400" y="1400"/>
                </a:lnTo>
                <a:close/>
              </a:path>
              <a:path fill="darken" w="25594" h="21600">
                <a:moveTo>
                  <a:pt x="25594" y="0"/>
                </a:moveTo>
                <a:lnTo>
                  <a:pt x="25594" y="21600"/>
                </a:lnTo>
                <a:lnTo>
                  <a:pt x="24194" y="20200"/>
                </a:lnTo>
                <a:lnTo>
                  <a:pt x="24194" y="1400"/>
                </a:lnTo>
                <a:close/>
              </a:path>
              <a:path fill="darkenLess" w="25594" h="21600">
                <a:moveTo>
                  <a:pt x="25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4" y="20200"/>
                </a:lnTo>
                <a:close/>
              </a:path>
              <a:path fill="lighten" w="25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4" h="21600">
                <a:moveTo>
                  <a:pt x="5790" y="10800"/>
                </a:moveTo>
                <a:lnTo>
                  <a:pt x="19803" y="3794"/>
                </a:lnTo>
                <a:lnTo>
                  <a:pt x="198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decubi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 zit te strak tegen neusvleu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controle/ observ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pleister versch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eister op juiste wijze pla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ctieknop: Terug of Vorige 3"/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Kans dat sonde niet op juiste plaats z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opboeren, braken, hoesten kan sonde verplaat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elke voeding aansluiting sonde control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ucht in maag spui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akmoespapiert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ctieknop: Terug of Vorige 3"/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koekt aan in de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art en eindigen met 20 ml lauw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nimaal 6x per dag sonde doorspo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ctieknop: Terug of Vorige 3"/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E. Scheltens-Flink</cp:lastModifiedBy>
  <dcterms:modified xsi:type="dcterms:W3CDTF">2015-09-16T17:59:22Z</dcterms:modified>
  <cp:revision>17</cp:revision>
  <dc:subject/>
  <dc:title>Sondevoeding</dc:title>
</cp:coreProperties>
</file>