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99CF-51D3-4C75-932E-81D5F8741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A444-3BD2-4DCD-8A37-EE61F6997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0D92-3486-4D63-8313-346CD0648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7A83-909B-4BAF-9149-D285B4B5E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AEF0-F3C4-49B3-A213-4FF64FDD4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8FAC-4252-4B3E-8857-2209F096C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5AAA-DA6E-46C1-AFAC-F3125293F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1D68-2FC3-4707-961B-50C93FCED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2541-955B-471A-BD69-FCD6FF14C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850E-9266-4302-8C1B-48928A7F2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3B28-3082-4A46-9663-D48722E5D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6CBC-343C-4E75-941D-6AADE5E55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4467F-1CEE-4BD4-90B6-BDD732814D71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ondevoed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5940360" y="333360"/>
            <a:ext cx="264816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Kans op bederven van voe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Langdurig aangebroken en buiten de ko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Acti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eding tussendoor in de koeling leg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Actieknop: Terug of Vorige 3"/>
          <p:cNvSpPr/>
          <p:nvPr/>
        </p:nvSpPr>
        <p:spPr>
          <a:xfrm>
            <a:off x="1042920" y="4292640"/>
            <a:ext cx="682560" cy="504720"/>
          </a:xfrm>
          <a:custGeom>
            <a:avLst/>
            <a:gdLst>
              <a:gd name="textAreaLeft" fmla="*/ 32400 w 682560"/>
              <a:gd name="textAreaRight" fmla="*/ 650160 w 6825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9205" h="21600">
                <a:moveTo>
                  <a:pt x="0" y="0"/>
                </a:moveTo>
                <a:lnTo>
                  <a:pt x="29205" y="0"/>
                </a:lnTo>
                <a:lnTo>
                  <a:pt x="29205" y="21600"/>
                </a:lnTo>
                <a:lnTo>
                  <a:pt x="0" y="21600"/>
                </a:lnTo>
                <a:close/>
              </a:path>
              <a:path fill="lightenLess" w="29205" h="21600">
                <a:moveTo>
                  <a:pt x="0" y="0"/>
                </a:moveTo>
                <a:lnTo>
                  <a:pt x="29205" y="0"/>
                </a:lnTo>
                <a:lnTo>
                  <a:pt x="27805" y="1400"/>
                </a:lnTo>
                <a:lnTo>
                  <a:pt x="1400" y="1400"/>
                </a:lnTo>
                <a:close/>
              </a:path>
              <a:path fill="darken" w="29205" h="21600">
                <a:moveTo>
                  <a:pt x="29205" y="0"/>
                </a:moveTo>
                <a:lnTo>
                  <a:pt x="29205" y="21600"/>
                </a:lnTo>
                <a:lnTo>
                  <a:pt x="27805" y="20200"/>
                </a:lnTo>
                <a:lnTo>
                  <a:pt x="27805" y="1400"/>
                </a:lnTo>
                <a:close/>
              </a:path>
              <a:path fill="darkenLess" w="29205" h="21600">
                <a:moveTo>
                  <a:pt x="292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05" y="20200"/>
                </a:lnTo>
                <a:close/>
              </a:path>
              <a:path fill="lighten" w="292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205" h="21600">
                <a:moveTo>
                  <a:pt x="7596" y="10800"/>
                </a:moveTo>
                <a:lnTo>
                  <a:pt x="21609" y="3794"/>
                </a:lnTo>
                <a:lnTo>
                  <a:pt x="21609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Mist sociaal moment met et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rijgt geen maaltijden aangebo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Acti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ondevoeding bolussen geven op voedingstij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ij bolussen wel honger gevo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ij continu sondevoeding geen hongergevo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Actieknop: Verder of Volgende 3"/>
          <p:cNvSpPr/>
          <p:nvPr/>
        </p:nvSpPr>
        <p:spPr>
          <a:xfrm>
            <a:off x="1042920" y="5300640"/>
            <a:ext cx="755640" cy="504720"/>
          </a:xfrm>
          <a:custGeom>
            <a:avLst/>
            <a:gdLst>
              <a:gd name="textAreaLeft" fmla="*/ 32400 w 755640"/>
              <a:gd name="textAreaRight" fmla="*/ 723240 w 755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2331" h="21600">
                <a:moveTo>
                  <a:pt x="0" y="0"/>
                </a:moveTo>
                <a:lnTo>
                  <a:pt x="32331" y="0"/>
                </a:lnTo>
                <a:lnTo>
                  <a:pt x="32331" y="21600"/>
                </a:lnTo>
                <a:lnTo>
                  <a:pt x="0" y="21600"/>
                </a:lnTo>
                <a:close/>
              </a:path>
              <a:path fill="lightenLess" w="32331" h="21600">
                <a:moveTo>
                  <a:pt x="0" y="0"/>
                </a:moveTo>
                <a:lnTo>
                  <a:pt x="32331" y="0"/>
                </a:lnTo>
                <a:lnTo>
                  <a:pt x="30931" y="1400"/>
                </a:lnTo>
                <a:lnTo>
                  <a:pt x="1400" y="1400"/>
                </a:lnTo>
                <a:close/>
              </a:path>
              <a:path fill="darken" w="32331" h="21600">
                <a:moveTo>
                  <a:pt x="32331" y="0"/>
                </a:moveTo>
                <a:lnTo>
                  <a:pt x="32331" y="21600"/>
                </a:lnTo>
                <a:lnTo>
                  <a:pt x="30931" y="20200"/>
                </a:lnTo>
                <a:lnTo>
                  <a:pt x="30931" y="1400"/>
                </a:lnTo>
                <a:close/>
              </a:path>
              <a:path fill="darkenLess" w="32331" h="21600">
                <a:moveTo>
                  <a:pt x="323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31" y="20200"/>
                </a:lnTo>
                <a:close/>
              </a:path>
              <a:path fill="lighten" w="323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31" h="21600">
                <a:moveTo>
                  <a:pt x="9159" y="3794"/>
                </a:moveTo>
                <a:lnTo>
                  <a:pt x="23172" y="10800"/>
                </a:lnTo>
                <a:lnTo>
                  <a:pt x="9159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2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erzorgen van PEG/PEJ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 u="sng">
                <a:solidFill>
                  <a:srgbClr val="000000"/>
                </a:solidFill>
                <a:uFillTx/>
                <a:latin typeface="Calibri"/>
              </a:rPr>
              <a:t>Pas aangelegd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: extra hygiën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Randen fistel geneze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Desinfectere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1x per dag draaie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Betadine jodium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Steriele splitgaa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 u="sng">
                <a:solidFill>
                  <a:srgbClr val="000000"/>
                </a:solidFill>
                <a:uFillTx/>
                <a:latin typeface="Calibri"/>
              </a:rPr>
              <a:t>Na 6 weken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Reinigen water zeep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Steriele splitgaa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1x per dag draaie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Afbeelding 3" descr="PEG.bmp"/>
          <p:cNvPicPr/>
          <p:nvPr/>
        </p:nvPicPr>
        <p:blipFill>
          <a:blip r:embed="rId1"/>
          <a:stretch/>
        </p:blipFill>
        <p:spPr>
          <a:xfrm>
            <a:off x="5867280" y="1052640"/>
            <a:ext cx="2952720" cy="2724120"/>
          </a:xfrm>
          <a:prstGeom prst="rect">
            <a:avLst/>
          </a:prstGeom>
          <a:ln w="0">
            <a:noFill/>
          </a:ln>
        </p:spPr>
      </p:pic>
      <p:pic>
        <p:nvPicPr>
          <p:cNvPr id="78" name="Afbeelding 6" descr="peg 2.jpg"/>
          <p:cNvPicPr/>
          <p:nvPr/>
        </p:nvPicPr>
        <p:blipFill>
          <a:blip r:embed="rId2"/>
          <a:stretch/>
        </p:blipFill>
        <p:spPr>
          <a:xfrm>
            <a:off x="4788000" y="3789360"/>
            <a:ext cx="407808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Mickey butt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Tijdelijke aanduiding voor inhoud 3" descr="Mickey sonde.bmp"/>
          <p:cNvPicPr/>
          <p:nvPr/>
        </p:nvPicPr>
        <p:blipFill>
          <a:blip r:embed="rId1"/>
          <a:stretch/>
        </p:blipFill>
        <p:spPr>
          <a:xfrm>
            <a:off x="611280" y="1341360"/>
            <a:ext cx="4330440" cy="3241800"/>
          </a:xfrm>
          <a:prstGeom prst="rect">
            <a:avLst/>
          </a:prstGeom>
          <a:ln w="0">
            <a:noFill/>
          </a:ln>
        </p:spPr>
      </p:pic>
      <p:pic>
        <p:nvPicPr>
          <p:cNvPr id="81" name="Afbeelding 4" descr="mickey sonde 1.bmp"/>
          <p:cNvPicPr/>
          <p:nvPr/>
        </p:nvPicPr>
        <p:blipFill>
          <a:blip r:embed="rId2"/>
          <a:stretch/>
        </p:blipFill>
        <p:spPr>
          <a:xfrm>
            <a:off x="5292720" y="3444840"/>
            <a:ext cx="3643200" cy="3218040"/>
          </a:xfrm>
          <a:prstGeom prst="rect">
            <a:avLst/>
          </a:prstGeom>
          <a:ln w="0">
            <a:noFill/>
          </a:ln>
        </p:spPr>
      </p:pic>
      <p:pic>
        <p:nvPicPr>
          <p:cNvPr id="82" name="Afbeelding 5" descr="mickey sonde 2.jpg"/>
          <p:cNvPicPr/>
          <p:nvPr/>
        </p:nvPicPr>
        <p:blipFill>
          <a:blip r:embed="rId3"/>
          <a:stretch/>
        </p:blipFill>
        <p:spPr>
          <a:xfrm>
            <a:off x="5796000" y="1268280"/>
            <a:ext cx="213372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erekenen hoeveelhei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1 ml = 20 drupp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oeveelheid ml SV x druppels per m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------------------------------------------------- = aantal druppels per minuu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aantal uren SV gegeven x 60 mi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Opdracht: arts spreekt a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2 liter sondevoeding per 24 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at is de druppelsnelhei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2 lt = 2000  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1 ml = 20 drupp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Calibri"/>
              </a:rPr>
              <a:t>2000 x 20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Calibri"/>
              </a:rPr>
              <a:t>40000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= 28 druppels per minuu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24 x 60            144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rts spreekt af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1 liter in 8 uur (alleen ‘s nacht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1 lt = 1000 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1 ml = 20 druppe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Calibri"/>
              </a:rPr>
              <a:t>1000 x 20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Calibri"/>
              </a:rPr>
              <a:t>20000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= 41 druppels per minu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8 x 60           48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ragen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at is sondevoeding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loeibare voeding die geven wordt via kunstmatige verbinding met de maag/duodenu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voe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voc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medicijn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Manieren van sondevoe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Neussond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PEG (percutane endoscopische gastrostomie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PEJ (percutane endoscopische jejunostomie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Bolu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Continu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Spui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Systeem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5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5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anneer sondevoeding geve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reigende ondervoeding met een goed functionerend maagdarmkana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nvulling op die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ndoeningen: slikken/kauwen,slokdarm,maa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minderde eetlu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lechte lichamelijke condi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Langdurig voedselweigering (kin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Zorgproblem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reigende stomatit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ans op decubitus aan ne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ans dat sonde niet op de juist plaats z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ans op verstopping van son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ans op bederven van voe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ist sociaal moment met et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Actieknop: Verder of Volgende 3">
            <a:hlinkClick r:id="" action="ppaction://hlinkshowjump?jump=nextslide"/>
          </p:cNvPr>
          <p:cNvSpPr/>
          <p:nvPr/>
        </p:nvSpPr>
        <p:spPr>
          <a:xfrm>
            <a:off x="4643280" y="1700280"/>
            <a:ext cx="538200" cy="360360"/>
          </a:xfrm>
          <a:custGeom>
            <a:avLst/>
            <a:gdLst>
              <a:gd name="textAreaLeft" fmla="*/ 23040 w 538200"/>
              <a:gd name="textAreaRight" fmla="*/ 515160 w 5382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2249" h="21600">
                <a:moveTo>
                  <a:pt x="0" y="0"/>
                </a:moveTo>
                <a:lnTo>
                  <a:pt x="32249" y="0"/>
                </a:lnTo>
                <a:lnTo>
                  <a:pt x="32249" y="21600"/>
                </a:lnTo>
                <a:lnTo>
                  <a:pt x="0" y="21600"/>
                </a:lnTo>
                <a:close/>
              </a:path>
              <a:path fill="lightenLess" w="32249" h="21600">
                <a:moveTo>
                  <a:pt x="0" y="0"/>
                </a:moveTo>
                <a:lnTo>
                  <a:pt x="32249" y="0"/>
                </a:lnTo>
                <a:lnTo>
                  <a:pt x="30849" y="1400"/>
                </a:lnTo>
                <a:lnTo>
                  <a:pt x="1400" y="1400"/>
                </a:lnTo>
                <a:close/>
              </a:path>
              <a:path fill="darken" w="32249" h="21600">
                <a:moveTo>
                  <a:pt x="32249" y="0"/>
                </a:moveTo>
                <a:lnTo>
                  <a:pt x="32249" y="21600"/>
                </a:lnTo>
                <a:lnTo>
                  <a:pt x="30849" y="20200"/>
                </a:lnTo>
                <a:lnTo>
                  <a:pt x="30849" y="1400"/>
                </a:lnTo>
                <a:close/>
              </a:path>
              <a:path fill="darkenLess" w="32249" h="21600">
                <a:moveTo>
                  <a:pt x="322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49" y="20200"/>
                </a:lnTo>
                <a:close/>
              </a:path>
              <a:path fill="lighten" w="322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49" h="21600">
                <a:moveTo>
                  <a:pt x="9118" y="3794"/>
                </a:moveTo>
                <a:lnTo>
                  <a:pt x="23131" y="10800"/>
                </a:lnTo>
                <a:lnTo>
                  <a:pt x="9118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ctieknop: Verder of Volgende 4">
            <a:hlinkClick r:id="rId1" action="ppaction://hlinksldjump"/>
          </p:cNvPr>
          <p:cNvSpPr/>
          <p:nvPr/>
        </p:nvSpPr>
        <p:spPr>
          <a:xfrm>
            <a:off x="5796000" y="2205000"/>
            <a:ext cx="611280" cy="432000"/>
          </a:xfrm>
          <a:custGeom>
            <a:avLst/>
            <a:gdLst>
              <a:gd name="textAreaLeft" fmla="*/ 27720 w 611280"/>
              <a:gd name="textAreaRight" fmla="*/ 583560 w 611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0557" h="21600">
                <a:moveTo>
                  <a:pt x="0" y="0"/>
                </a:moveTo>
                <a:lnTo>
                  <a:pt x="30557" y="0"/>
                </a:lnTo>
                <a:lnTo>
                  <a:pt x="30557" y="21600"/>
                </a:lnTo>
                <a:lnTo>
                  <a:pt x="0" y="21600"/>
                </a:lnTo>
                <a:close/>
              </a:path>
              <a:path fill="lightenLess" w="30557" h="21600">
                <a:moveTo>
                  <a:pt x="0" y="0"/>
                </a:moveTo>
                <a:lnTo>
                  <a:pt x="30557" y="0"/>
                </a:lnTo>
                <a:lnTo>
                  <a:pt x="29157" y="1400"/>
                </a:lnTo>
                <a:lnTo>
                  <a:pt x="1400" y="1400"/>
                </a:lnTo>
                <a:close/>
              </a:path>
              <a:path fill="darken" w="30557" h="21600">
                <a:moveTo>
                  <a:pt x="30557" y="0"/>
                </a:moveTo>
                <a:lnTo>
                  <a:pt x="30557" y="21600"/>
                </a:lnTo>
                <a:lnTo>
                  <a:pt x="29157" y="20200"/>
                </a:lnTo>
                <a:lnTo>
                  <a:pt x="29157" y="1400"/>
                </a:lnTo>
                <a:close/>
              </a:path>
              <a:path fill="darkenLess" w="30557" h="21600">
                <a:moveTo>
                  <a:pt x="305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57" y="20200"/>
                </a:lnTo>
                <a:close/>
              </a:path>
              <a:path fill="lighten" w="305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557" h="21600">
                <a:moveTo>
                  <a:pt x="8272" y="3794"/>
                </a:moveTo>
                <a:lnTo>
                  <a:pt x="22285" y="10800"/>
                </a:lnTo>
                <a:lnTo>
                  <a:pt x="827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ctieknop: Verder of Volgende 5"/>
          <p:cNvSpPr/>
          <p:nvPr/>
        </p:nvSpPr>
        <p:spPr>
          <a:xfrm>
            <a:off x="7740720" y="2852640"/>
            <a:ext cx="609480" cy="432000"/>
          </a:xfrm>
          <a:custGeom>
            <a:avLst/>
            <a:gdLst>
              <a:gd name="textAreaLeft" fmla="*/ 27720 w 609480"/>
              <a:gd name="textAreaRight" fmla="*/ 581760 w 6094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0467" h="21600">
                <a:moveTo>
                  <a:pt x="0" y="0"/>
                </a:moveTo>
                <a:lnTo>
                  <a:pt x="30467" y="0"/>
                </a:lnTo>
                <a:lnTo>
                  <a:pt x="30467" y="21600"/>
                </a:lnTo>
                <a:lnTo>
                  <a:pt x="0" y="21600"/>
                </a:lnTo>
                <a:close/>
              </a:path>
              <a:path fill="lightenLess" w="30467" h="21600">
                <a:moveTo>
                  <a:pt x="0" y="0"/>
                </a:moveTo>
                <a:lnTo>
                  <a:pt x="30467" y="0"/>
                </a:lnTo>
                <a:lnTo>
                  <a:pt x="29067" y="1400"/>
                </a:lnTo>
                <a:lnTo>
                  <a:pt x="1400" y="1400"/>
                </a:lnTo>
                <a:close/>
              </a:path>
              <a:path fill="darken" w="30467" h="21600">
                <a:moveTo>
                  <a:pt x="30467" y="0"/>
                </a:moveTo>
                <a:lnTo>
                  <a:pt x="30467" y="21600"/>
                </a:lnTo>
                <a:lnTo>
                  <a:pt x="29067" y="20200"/>
                </a:lnTo>
                <a:lnTo>
                  <a:pt x="29067" y="1400"/>
                </a:lnTo>
                <a:close/>
              </a:path>
              <a:path fill="darkenLess" w="30467" h="21600">
                <a:moveTo>
                  <a:pt x="304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067" y="20200"/>
                </a:lnTo>
                <a:close/>
              </a:path>
              <a:path fill="lighten" w="304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467" h="21600">
                <a:moveTo>
                  <a:pt x="8227" y="3794"/>
                </a:moveTo>
                <a:lnTo>
                  <a:pt x="22240" y="10800"/>
                </a:lnTo>
                <a:lnTo>
                  <a:pt x="8227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ctieknop: Verder of Volgende 6"/>
          <p:cNvSpPr/>
          <p:nvPr/>
        </p:nvSpPr>
        <p:spPr>
          <a:xfrm>
            <a:off x="6372360" y="3429000"/>
            <a:ext cx="609480" cy="504720"/>
          </a:xfrm>
          <a:custGeom>
            <a:avLst/>
            <a:gdLst>
              <a:gd name="textAreaLeft" fmla="*/ 32400 w 609480"/>
              <a:gd name="textAreaRight" fmla="*/ 577080 w 6094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6080" h="21600">
                <a:moveTo>
                  <a:pt x="0" y="0"/>
                </a:moveTo>
                <a:lnTo>
                  <a:pt x="26080" y="0"/>
                </a:lnTo>
                <a:lnTo>
                  <a:pt x="26080" y="21600"/>
                </a:lnTo>
                <a:lnTo>
                  <a:pt x="0" y="21600"/>
                </a:lnTo>
                <a:close/>
              </a:path>
              <a:path fill="lightenLess" w="26080" h="21600">
                <a:moveTo>
                  <a:pt x="0" y="0"/>
                </a:moveTo>
                <a:lnTo>
                  <a:pt x="26080" y="0"/>
                </a:lnTo>
                <a:lnTo>
                  <a:pt x="24680" y="1400"/>
                </a:lnTo>
                <a:lnTo>
                  <a:pt x="1400" y="1400"/>
                </a:lnTo>
                <a:close/>
              </a:path>
              <a:path fill="darken" w="26080" h="21600">
                <a:moveTo>
                  <a:pt x="26080" y="0"/>
                </a:moveTo>
                <a:lnTo>
                  <a:pt x="26080" y="21600"/>
                </a:lnTo>
                <a:lnTo>
                  <a:pt x="24680" y="20200"/>
                </a:lnTo>
                <a:lnTo>
                  <a:pt x="24680" y="1400"/>
                </a:lnTo>
                <a:close/>
              </a:path>
              <a:path fill="darkenLess" w="26080" h="21600">
                <a:moveTo>
                  <a:pt x="26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80" y="20200"/>
                </a:lnTo>
                <a:close/>
              </a:path>
              <a:path fill="lighten" w="26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80" h="21600">
                <a:moveTo>
                  <a:pt x="6034" y="3794"/>
                </a:moveTo>
                <a:lnTo>
                  <a:pt x="20047" y="10800"/>
                </a:lnTo>
                <a:lnTo>
                  <a:pt x="603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ctieknop: Verder of Volgende 7"/>
          <p:cNvSpPr/>
          <p:nvPr/>
        </p:nvSpPr>
        <p:spPr>
          <a:xfrm>
            <a:off x="6156360" y="4149720"/>
            <a:ext cx="609480" cy="358920"/>
          </a:xfrm>
          <a:custGeom>
            <a:avLst/>
            <a:gdLst>
              <a:gd name="textAreaLeft" fmla="*/ 23040 w 609480"/>
              <a:gd name="textAreaRight" fmla="*/ 586440 w 60948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6664" h="21600">
                <a:moveTo>
                  <a:pt x="0" y="0"/>
                </a:moveTo>
                <a:lnTo>
                  <a:pt x="36664" y="0"/>
                </a:lnTo>
                <a:lnTo>
                  <a:pt x="36664" y="21600"/>
                </a:lnTo>
                <a:lnTo>
                  <a:pt x="0" y="21600"/>
                </a:lnTo>
                <a:close/>
              </a:path>
              <a:path fill="lightenLess" w="36664" h="21600">
                <a:moveTo>
                  <a:pt x="0" y="0"/>
                </a:moveTo>
                <a:lnTo>
                  <a:pt x="36664" y="0"/>
                </a:lnTo>
                <a:lnTo>
                  <a:pt x="35264" y="1400"/>
                </a:lnTo>
                <a:lnTo>
                  <a:pt x="1400" y="1400"/>
                </a:lnTo>
                <a:close/>
              </a:path>
              <a:path fill="darken" w="36664" h="21600">
                <a:moveTo>
                  <a:pt x="36664" y="0"/>
                </a:moveTo>
                <a:lnTo>
                  <a:pt x="36664" y="21600"/>
                </a:lnTo>
                <a:lnTo>
                  <a:pt x="35264" y="20200"/>
                </a:lnTo>
                <a:lnTo>
                  <a:pt x="35264" y="1400"/>
                </a:lnTo>
                <a:close/>
              </a:path>
              <a:path fill="darkenLess" w="36664" h="21600">
                <a:moveTo>
                  <a:pt x="366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264" y="20200"/>
                </a:lnTo>
                <a:close/>
              </a:path>
              <a:path fill="lighten" w="366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664" h="21600">
                <a:moveTo>
                  <a:pt x="11325" y="3794"/>
                </a:moveTo>
                <a:lnTo>
                  <a:pt x="25338" y="10800"/>
                </a:lnTo>
                <a:lnTo>
                  <a:pt x="11325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Dreigende stomatit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auwfunctie valt weg, gevolg mondslijmvlies droogt uit, slijmvlies beschadigd, bacteriën in zitten, gevolg ontste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peekselproductie laa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cti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ondverzor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atiënt op iets laten kauwen/zui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Actieknop: Terug of Vorige 3">
            <a:hlinkClick r:id="" action="ppaction://hlinkshowjump?jump=previousslide"/>
          </p:cNvPr>
          <p:cNvSpPr/>
          <p:nvPr/>
        </p:nvSpPr>
        <p:spPr>
          <a:xfrm>
            <a:off x="1042920" y="5732640"/>
            <a:ext cx="682560" cy="576000"/>
          </a:xfrm>
          <a:custGeom>
            <a:avLst/>
            <a:gdLst>
              <a:gd name="textAreaLeft" fmla="*/ 37080 w 682560"/>
              <a:gd name="textAreaRight" fmla="*/ 645480 w 6825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5594" h="21600">
                <a:moveTo>
                  <a:pt x="0" y="0"/>
                </a:moveTo>
                <a:lnTo>
                  <a:pt x="25594" y="0"/>
                </a:lnTo>
                <a:lnTo>
                  <a:pt x="25594" y="21600"/>
                </a:lnTo>
                <a:lnTo>
                  <a:pt x="0" y="21600"/>
                </a:lnTo>
                <a:close/>
              </a:path>
              <a:path fill="lightenLess" w="25594" h="21600">
                <a:moveTo>
                  <a:pt x="0" y="0"/>
                </a:moveTo>
                <a:lnTo>
                  <a:pt x="25594" y="0"/>
                </a:lnTo>
                <a:lnTo>
                  <a:pt x="24194" y="1400"/>
                </a:lnTo>
                <a:lnTo>
                  <a:pt x="1400" y="1400"/>
                </a:lnTo>
                <a:close/>
              </a:path>
              <a:path fill="darken" w="25594" h="21600">
                <a:moveTo>
                  <a:pt x="25594" y="0"/>
                </a:moveTo>
                <a:lnTo>
                  <a:pt x="25594" y="21600"/>
                </a:lnTo>
                <a:lnTo>
                  <a:pt x="24194" y="20200"/>
                </a:lnTo>
                <a:lnTo>
                  <a:pt x="24194" y="1400"/>
                </a:lnTo>
                <a:close/>
              </a:path>
              <a:path fill="darkenLess" w="25594" h="21600">
                <a:moveTo>
                  <a:pt x="255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94" y="20200"/>
                </a:lnTo>
                <a:close/>
              </a:path>
              <a:path fill="lighten" w="255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94" h="21600">
                <a:moveTo>
                  <a:pt x="5790" y="10800"/>
                </a:moveTo>
                <a:lnTo>
                  <a:pt x="19803" y="3794"/>
                </a:lnTo>
                <a:lnTo>
                  <a:pt x="19803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Kans op decubit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onde zit te strak tegen neusvleug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Acti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lke dag controle/ observa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lke dag pleister verschon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leister op juiste wijze plakk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Actieknop: Terug of Vorige 3"/>
          <p:cNvSpPr/>
          <p:nvPr/>
        </p:nvSpPr>
        <p:spPr>
          <a:xfrm>
            <a:off x="1258920" y="4941720"/>
            <a:ext cx="611280" cy="503280"/>
          </a:xfrm>
          <a:custGeom>
            <a:avLst/>
            <a:gdLst>
              <a:gd name="textAreaLeft" fmla="*/ 32400 w 611280"/>
              <a:gd name="textAreaRight" fmla="*/ 578880 w 611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6232" h="21600">
                <a:moveTo>
                  <a:pt x="0" y="0"/>
                </a:moveTo>
                <a:lnTo>
                  <a:pt x="26232" y="0"/>
                </a:lnTo>
                <a:lnTo>
                  <a:pt x="26232" y="21600"/>
                </a:lnTo>
                <a:lnTo>
                  <a:pt x="0" y="21600"/>
                </a:lnTo>
                <a:close/>
              </a:path>
              <a:path fill="lightenLess" w="26232" h="21600">
                <a:moveTo>
                  <a:pt x="0" y="0"/>
                </a:moveTo>
                <a:lnTo>
                  <a:pt x="26232" y="0"/>
                </a:lnTo>
                <a:lnTo>
                  <a:pt x="24832" y="1400"/>
                </a:lnTo>
                <a:lnTo>
                  <a:pt x="1400" y="1400"/>
                </a:lnTo>
                <a:close/>
              </a:path>
              <a:path fill="darken" w="26232" h="21600">
                <a:moveTo>
                  <a:pt x="26232" y="0"/>
                </a:moveTo>
                <a:lnTo>
                  <a:pt x="26232" y="21600"/>
                </a:lnTo>
                <a:lnTo>
                  <a:pt x="24832" y="20200"/>
                </a:lnTo>
                <a:lnTo>
                  <a:pt x="24832" y="1400"/>
                </a:lnTo>
                <a:close/>
              </a:path>
              <a:path fill="darkenLess" w="26232" h="21600">
                <a:moveTo>
                  <a:pt x="262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32" y="20200"/>
                </a:lnTo>
                <a:close/>
              </a:path>
              <a:path fill="lighten" w="262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32" h="21600">
                <a:moveTo>
                  <a:pt x="6109" y="10800"/>
                </a:moveTo>
                <a:lnTo>
                  <a:pt x="20122" y="3794"/>
                </a:lnTo>
                <a:lnTo>
                  <a:pt x="2012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Kans dat sonde niet op juiste plaats zi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oor opboeren, braken, hoesten kan sonde verplaats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Acti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or elke voeding aansluiting sonde controle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  Lucht in maag spui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  Lakmoespapiert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Actieknop: Terug of Vorige 3"/>
          <p:cNvSpPr/>
          <p:nvPr/>
        </p:nvSpPr>
        <p:spPr>
          <a:xfrm>
            <a:off x="1187280" y="5732640"/>
            <a:ext cx="682920" cy="504720"/>
          </a:xfrm>
          <a:custGeom>
            <a:avLst/>
            <a:gdLst>
              <a:gd name="textAreaLeft" fmla="*/ 32400 w 682920"/>
              <a:gd name="textAreaRight" fmla="*/ 650520 w 6829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9221" h="21600">
                <a:moveTo>
                  <a:pt x="0" y="0"/>
                </a:moveTo>
                <a:lnTo>
                  <a:pt x="29221" y="0"/>
                </a:lnTo>
                <a:lnTo>
                  <a:pt x="29221" y="21600"/>
                </a:lnTo>
                <a:lnTo>
                  <a:pt x="0" y="21600"/>
                </a:lnTo>
                <a:close/>
              </a:path>
              <a:path fill="lightenLess" w="29221" h="21600">
                <a:moveTo>
                  <a:pt x="0" y="0"/>
                </a:moveTo>
                <a:lnTo>
                  <a:pt x="29221" y="0"/>
                </a:lnTo>
                <a:lnTo>
                  <a:pt x="27821" y="1400"/>
                </a:lnTo>
                <a:lnTo>
                  <a:pt x="1400" y="1400"/>
                </a:lnTo>
                <a:close/>
              </a:path>
              <a:path fill="darken" w="29221" h="21600">
                <a:moveTo>
                  <a:pt x="29221" y="0"/>
                </a:moveTo>
                <a:lnTo>
                  <a:pt x="29221" y="21600"/>
                </a:lnTo>
                <a:lnTo>
                  <a:pt x="27821" y="20200"/>
                </a:lnTo>
                <a:lnTo>
                  <a:pt x="27821" y="1400"/>
                </a:lnTo>
                <a:close/>
              </a:path>
              <a:path fill="darkenLess" w="29221" h="21600">
                <a:moveTo>
                  <a:pt x="292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21" y="20200"/>
                </a:lnTo>
                <a:close/>
              </a:path>
              <a:path fill="lighten" w="292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221" h="21600">
                <a:moveTo>
                  <a:pt x="7604" y="10800"/>
                </a:moveTo>
                <a:lnTo>
                  <a:pt x="21617" y="3794"/>
                </a:lnTo>
                <a:lnTo>
                  <a:pt x="21617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Kans op verstopping van son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eding koekt aan in de son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Acti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tart en eindigen met 20 ml lauw w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inimaal 6x per dag sonde doorspoe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Actieknop: Terug of Vorige 3"/>
          <p:cNvSpPr/>
          <p:nvPr/>
        </p:nvSpPr>
        <p:spPr>
          <a:xfrm>
            <a:off x="971640" y="4221000"/>
            <a:ext cx="610920" cy="503280"/>
          </a:xfrm>
          <a:custGeom>
            <a:avLst/>
            <a:gdLst>
              <a:gd name="textAreaLeft" fmla="*/ 32400 w 610920"/>
              <a:gd name="textAreaRight" fmla="*/ 578520 w 61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6216" h="21600">
                <a:moveTo>
                  <a:pt x="0" y="0"/>
                </a:moveTo>
                <a:lnTo>
                  <a:pt x="26216" y="0"/>
                </a:lnTo>
                <a:lnTo>
                  <a:pt x="26216" y="21600"/>
                </a:lnTo>
                <a:lnTo>
                  <a:pt x="0" y="21600"/>
                </a:lnTo>
                <a:close/>
              </a:path>
              <a:path fill="lightenLess" w="26216" h="21600">
                <a:moveTo>
                  <a:pt x="0" y="0"/>
                </a:moveTo>
                <a:lnTo>
                  <a:pt x="26216" y="0"/>
                </a:lnTo>
                <a:lnTo>
                  <a:pt x="24816" y="1400"/>
                </a:lnTo>
                <a:lnTo>
                  <a:pt x="1400" y="1400"/>
                </a:lnTo>
                <a:close/>
              </a:path>
              <a:path fill="darken" w="26216" h="21600">
                <a:moveTo>
                  <a:pt x="26216" y="0"/>
                </a:moveTo>
                <a:lnTo>
                  <a:pt x="26216" y="21600"/>
                </a:lnTo>
                <a:lnTo>
                  <a:pt x="24816" y="20200"/>
                </a:lnTo>
                <a:lnTo>
                  <a:pt x="24816" y="1400"/>
                </a:lnTo>
                <a:close/>
              </a:path>
              <a:path fill="darkenLess" w="26216" h="21600">
                <a:moveTo>
                  <a:pt x="262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16" y="20200"/>
                </a:lnTo>
                <a:close/>
              </a:path>
              <a:path fill="lighten" w="262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16" h="21600">
                <a:moveTo>
                  <a:pt x="6102" y="10800"/>
                </a:moveTo>
                <a:lnTo>
                  <a:pt x="20115" y="3794"/>
                </a:lnTo>
                <a:lnTo>
                  <a:pt x="20115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5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. Scheltens-Flink</dc:creator>
  <dc:description/>
  <dc:language>en-US</dc:language>
  <cp:lastModifiedBy>E. Scheltens-Flink</cp:lastModifiedBy>
  <dcterms:modified xsi:type="dcterms:W3CDTF">2015-09-16T17:59:22Z</dcterms:modified>
  <cp:revision>17</cp:revision>
  <dc:subject/>
  <dc:title>Sondevoeding</dc:title>
</cp:coreProperties>
</file>