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D398-DFD2-4C6A-B22B-82B5AC0AE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110C-79AD-4954-AC88-287826841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8307-965F-4F0F-9D08-A10E3A884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4926-DDF1-4B89-9A0E-E4B0C6B5D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1352-CA7A-4482-AED4-A2DAB110D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F120-0874-4E93-8667-B88E2457F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C99D-8461-43DA-8869-62BD76F3A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E61D-4267-4956-AEEB-12A489BE9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F411-513E-4446-AB76-72C2D5959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8F5D-8095-4666-8002-5BF0C56E1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15E4-DEDF-488F-AFCA-806AC2646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B75F-E5D4-46FF-BD8C-196802D89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A8067-CE5A-48B3-8DBE-9F02A99E6EC6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Sondevoeding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5940360" y="333360"/>
            <a:ext cx="2648160" cy="46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Kans op bederven van voe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Langdurig aangebroken en buiten de koe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Calibri"/>
              </a:rPr>
              <a:t>Acti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oeding tussendoor in de koeling legg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Actieknop: Terug of Vorige 3"/>
          <p:cNvSpPr/>
          <p:nvPr/>
        </p:nvSpPr>
        <p:spPr>
          <a:xfrm>
            <a:off x="1042920" y="4292640"/>
            <a:ext cx="682560" cy="504720"/>
          </a:xfrm>
          <a:custGeom>
            <a:avLst/>
            <a:gdLst>
              <a:gd name="textAreaLeft" fmla="*/ 32400 w 682560"/>
              <a:gd name="textAreaRight" fmla="*/ 650160 w 68256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9205" h="21600">
                <a:moveTo>
                  <a:pt x="0" y="0"/>
                </a:moveTo>
                <a:lnTo>
                  <a:pt x="29205" y="0"/>
                </a:lnTo>
                <a:lnTo>
                  <a:pt x="29205" y="21600"/>
                </a:lnTo>
                <a:lnTo>
                  <a:pt x="0" y="21600"/>
                </a:lnTo>
                <a:close/>
              </a:path>
              <a:path fill="lightenLess" w="29205" h="21600">
                <a:moveTo>
                  <a:pt x="0" y="0"/>
                </a:moveTo>
                <a:lnTo>
                  <a:pt x="29205" y="0"/>
                </a:lnTo>
                <a:lnTo>
                  <a:pt x="27805" y="1400"/>
                </a:lnTo>
                <a:lnTo>
                  <a:pt x="1400" y="1400"/>
                </a:lnTo>
                <a:close/>
              </a:path>
              <a:path fill="darken" w="29205" h="21600">
                <a:moveTo>
                  <a:pt x="29205" y="0"/>
                </a:moveTo>
                <a:lnTo>
                  <a:pt x="29205" y="21600"/>
                </a:lnTo>
                <a:lnTo>
                  <a:pt x="27805" y="20200"/>
                </a:lnTo>
                <a:lnTo>
                  <a:pt x="27805" y="1400"/>
                </a:lnTo>
                <a:close/>
              </a:path>
              <a:path fill="darkenLess" w="29205" h="21600">
                <a:moveTo>
                  <a:pt x="292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05" y="20200"/>
                </a:lnTo>
                <a:close/>
              </a:path>
              <a:path fill="lighten" w="292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205" h="21600">
                <a:moveTo>
                  <a:pt x="7596" y="10800"/>
                </a:moveTo>
                <a:lnTo>
                  <a:pt x="21609" y="3794"/>
                </a:lnTo>
                <a:lnTo>
                  <a:pt x="21609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5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Mist sociaal moment met et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rijgt geen maaltijden aangebod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Calibri"/>
              </a:rPr>
              <a:t>Acti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ondevoeding bolussen geven op voedingstijd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ij bolussen wel honger gevo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ij continu sondevoeding geen hongergevo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Actieknop: Verder of Volgende 3"/>
          <p:cNvSpPr/>
          <p:nvPr/>
        </p:nvSpPr>
        <p:spPr>
          <a:xfrm>
            <a:off x="1042920" y="5300640"/>
            <a:ext cx="755640" cy="504720"/>
          </a:xfrm>
          <a:custGeom>
            <a:avLst/>
            <a:gdLst>
              <a:gd name="textAreaLeft" fmla="*/ 32400 w 755640"/>
              <a:gd name="textAreaRight" fmla="*/ 723240 w 755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32331" h="21600">
                <a:moveTo>
                  <a:pt x="0" y="0"/>
                </a:moveTo>
                <a:lnTo>
                  <a:pt x="32331" y="0"/>
                </a:lnTo>
                <a:lnTo>
                  <a:pt x="32331" y="21600"/>
                </a:lnTo>
                <a:lnTo>
                  <a:pt x="0" y="21600"/>
                </a:lnTo>
                <a:close/>
              </a:path>
              <a:path fill="lightenLess" w="32331" h="21600">
                <a:moveTo>
                  <a:pt x="0" y="0"/>
                </a:moveTo>
                <a:lnTo>
                  <a:pt x="32331" y="0"/>
                </a:lnTo>
                <a:lnTo>
                  <a:pt x="30931" y="1400"/>
                </a:lnTo>
                <a:lnTo>
                  <a:pt x="1400" y="1400"/>
                </a:lnTo>
                <a:close/>
              </a:path>
              <a:path fill="darken" w="32331" h="21600">
                <a:moveTo>
                  <a:pt x="32331" y="0"/>
                </a:moveTo>
                <a:lnTo>
                  <a:pt x="32331" y="21600"/>
                </a:lnTo>
                <a:lnTo>
                  <a:pt x="30931" y="20200"/>
                </a:lnTo>
                <a:lnTo>
                  <a:pt x="30931" y="1400"/>
                </a:lnTo>
                <a:close/>
              </a:path>
              <a:path fill="darkenLess" w="32331" h="21600">
                <a:moveTo>
                  <a:pt x="323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31" y="20200"/>
                </a:lnTo>
                <a:close/>
              </a:path>
              <a:path fill="lighten" w="323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31" h="21600">
                <a:moveTo>
                  <a:pt x="9159" y="3794"/>
                </a:moveTo>
                <a:lnTo>
                  <a:pt x="23172" y="10800"/>
                </a:lnTo>
                <a:lnTo>
                  <a:pt x="9159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2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5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8" dur="5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Verzorgen van PEG/PEJ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 u="sng">
                <a:solidFill>
                  <a:srgbClr val="000000"/>
                </a:solidFill>
                <a:uFillTx/>
                <a:latin typeface="Calibri"/>
              </a:rPr>
              <a:t>Pas aangelegd</a:t>
            </a: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: extra hygiën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Randen fistel geneze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Desinfectere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1x per dag draaie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Betadine jodium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Steriele splitgaa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 u="sng">
                <a:solidFill>
                  <a:srgbClr val="000000"/>
                </a:solidFill>
                <a:uFillTx/>
                <a:latin typeface="Calibri"/>
              </a:rPr>
              <a:t>Na 6 weken: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Reinigen water zeep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Steriele splitgaa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1x per dag draaie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Afbeelding 3" descr="PEG.bmp"/>
          <p:cNvPicPr/>
          <p:nvPr/>
        </p:nvPicPr>
        <p:blipFill>
          <a:blip r:embed="rId1"/>
          <a:stretch/>
        </p:blipFill>
        <p:spPr>
          <a:xfrm>
            <a:off x="5867280" y="1052640"/>
            <a:ext cx="2952720" cy="2724120"/>
          </a:xfrm>
          <a:prstGeom prst="rect">
            <a:avLst/>
          </a:prstGeom>
          <a:ln w="0">
            <a:noFill/>
          </a:ln>
        </p:spPr>
      </p:pic>
      <p:pic>
        <p:nvPicPr>
          <p:cNvPr id="78" name="Afbeelding 6" descr="peg 2.jpg"/>
          <p:cNvPicPr/>
          <p:nvPr/>
        </p:nvPicPr>
        <p:blipFill>
          <a:blip r:embed="rId2"/>
          <a:stretch/>
        </p:blipFill>
        <p:spPr>
          <a:xfrm>
            <a:off x="4788000" y="3789360"/>
            <a:ext cx="4078080" cy="28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Mickey butt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Tijdelijke aanduiding voor inhoud 3" descr="Mickey sonde.bmp"/>
          <p:cNvPicPr/>
          <p:nvPr/>
        </p:nvPicPr>
        <p:blipFill>
          <a:blip r:embed="rId1"/>
          <a:stretch/>
        </p:blipFill>
        <p:spPr>
          <a:xfrm>
            <a:off x="611280" y="1341360"/>
            <a:ext cx="4330440" cy="3241800"/>
          </a:xfrm>
          <a:prstGeom prst="rect">
            <a:avLst/>
          </a:prstGeom>
          <a:ln w="0">
            <a:noFill/>
          </a:ln>
        </p:spPr>
      </p:pic>
      <p:pic>
        <p:nvPicPr>
          <p:cNvPr id="81" name="Afbeelding 4" descr="mickey sonde 1.bmp"/>
          <p:cNvPicPr/>
          <p:nvPr/>
        </p:nvPicPr>
        <p:blipFill>
          <a:blip r:embed="rId2"/>
          <a:stretch/>
        </p:blipFill>
        <p:spPr>
          <a:xfrm>
            <a:off x="5292720" y="3444840"/>
            <a:ext cx="3643200" cy="3218040"/>
          </a:xfrm>
          <a:prstGeom prst="rect">
            <a:avLst/>
          </a:prstGeom>
          <a:ln w="0">
            <a:noFill/>
          </a:ln>
        </p:spPr>
      </p:pic>
      <p:pic>
        <p:nvPicPr>
          <p:cNvPr id="82" name="Afbeelding 5" descr="mickey sonde 2.jpg"/>
          <p:cNvPicPr/>
          <p:nvPr/>
        </p:nvPicPr>
        <p:blipFill>
          <a:blip r:embed="rId3"/>
          <a:stretch/>
        </p:blipFill>
        <p:spPr>
          <a:xfrm>
            <a:off x="5796000" y="1268280"/>
            <a:ext cx="2133720" cy="20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Berekenen hoeveelhei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1 ml = 20 drupp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hoeveelheid ml SV x druppels per m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------------------------------------------------- = aantal druppels per minuu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aantal uren SV gegeven x 60 mi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Opdracht: arts spreekt a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2 liter sondevoeding per 24 u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at is de druppelsnelhei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2 lt = 2000  m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1 ml = 20 drupp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Calibri"/>
              </a:rPr>
              <a:t>2000 x 20 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lang="nl-NL" sz="2400" spc="-1" strike="noStrike" u="sng">
                <a:solidFill>
                  <a:srgbClr val="000000"/>
                </a:solidFill>
                <a:uFillTx/>
                <a:latin typeface="Calibri"/>
              </a:rPr>
              <a:t>40000 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= 28 druppels per minuu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24 x 60            144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Arts spreekt af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1 liter in 8 uur (alleen ‘s nacht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1 lt = 1000 m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1 ml = 20 druppe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Calibri"/>
              </a:rPr>
              <a:t>1000 x 20 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0" lang="nl-NL" sz="2400" spc="-1" strike="noStrike" u="sng">
                <a:solidFill>
                  <a:srgbClr val="000000"/>
                </a:solidFill>
                <a:uFillTx/>
                <a:latin typeface="Calibri"/>
              </a:rPr>
              <a:t>20000 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= 41 druppels per minuu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8 x 60           48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Vragen?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Wat is sondevoeding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loeibare voeding die geven wordt via kunstmatige verbinding met de maag/duodenu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- voe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- voch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- medicijn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Manieren van sondevoe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Neussonde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PEG (percutane endoscopische gastrostomie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PEJ (percutane endoscopische jejunostomie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Bolu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Continue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Spui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Systeem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" dur="5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" dur="5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" dur="500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" dur="500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Wanneer sondevoeding geven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reigende ondervoeding met een goed functionerend maagdarmkana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anvulling op die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andoeningen: slikken/kauwen,slokdarm,maa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erminderde eetlu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lechte lichamelijke condit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Langdurig voedselweigering (kin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" dur="5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Zorgprobleme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reigende stomatit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ans op decubitus aan ne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ans dat sonde niet op de juist plaats z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ans op verstopping van son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ans op bederven van voe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Mist sociaal moment met ete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Actieknop: Verder of Volgende 3">
            <a:hlinkClick r:id="" action="ppaction://hlinkshowjump?jump=nextslide"/>
          </p:cNvPr>
          <p:cNvSpPr/>
          <p:nvPr/>
        </p:nvSpPr>
        <p:spPr>
          <a:xfrm>
            <a:off x="4643280" y="1700280"/>
            <a:ext cx="538200" cy="360360"/>
          </a:xfrm>
          <a:custGeom>
            <a:avLst/>
            <a:gdLst>
              <a:gd name="textAreaLeft" fmla="*/ 23040 w 538200"/>
              <a:gd name="textAreaRight" fmla="*/ 515160 w 5382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2249" h="21600">
                <a:moveTo>
                  <a:pt x="0" y="0"/>
                </a:moveTo>
                <a:lnTo>
                  <a:pt x="32249" y="0"/>
                </a:lnTo>
                <a:lnTo>
                  <a:pt x="32249" y="21600"/>
                </a:lnTo>
                <a:lnTo>
                  <a:pt x="0" y="21600"/>
                </a:lnTo>
                <a:close/>
              </a:path>
              <a:path fill="lightenLess" w="32249" h="21600">
                <a:moveTo>
                  <a:pt x="0" y="0"/>
                </a:moveTo>
                <a:lnTo>
                  <a:pt x="32249" y="0"/>
                </a:lnTo>
                <a:lnTo>
                  <a:pt x="30849" y="1400"/>
                </a:lnTo>
                <a:lnTo>
                  <a:pt x="1400" y="1400"/>
                </a:lnTo>
                <a:close/>
              </a:path>
              <a:path fill="darken" w="32249" h="21600">
                <a:moveTo>
                  <a:pt x="32249" y="0"/>
                </a:moveTo>
                <a:lnTo>
                  <a:pt x="32249" y="21600"/>
                </a:lnTo>
                <a:lnTo>
                  <a:pt x="30849" y="20200"/>
                </a:lnTo>
                <a:lnTo>
                  <a:pt x="30849" y="1400"/>
                </a:lnTo>
                <a:close/>
              </a:path>
              <a:path fill="darkenLess" w="32249" h="21600">
                <a:moveTo>
                  <a:pt x="322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49" y="20200"/>
                </a:lnTo>
                <a:close/>
              </a:path>
              <a:path fill="lighten" w="322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249" h="21600">
                <a:moveTo>
                  <a:pt x="9118" y="3794"/>
                </a:moveTo>
                <a:lnTo>
                  <a:pt x="23131" y="10800"/>
                </a:lnTo>
                <a:lnTo>
                  <a:pt x="9118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ctieknop: Verder of Volgende 4">
            <a:hlinkClick r:id="rId1" action="ppaction://hlinksldjump"/>
          </p:cNvPr>
          <p:cNvSpPr/>
          <p:nvPr/>
        </p:nvSpPr>
        <p:spPr>
          <a:xfrm>
            <a:off x="5796000" y="2205000"/>
            <a:ext cx="611280" cy="432000"/>
          </a:xfrm>
          <a:custGeom>
            <a:avLst/>
            <a:gdLst>
              <a:gd name="textAreaLeft" fmla="*/ 27720 w 611280"/>
              <a:gd name="textAreaRight" fmla="*/ 583560 w 611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0557" h="21600">
                <a:moveTo>
                  <a:pt x="0" y="0"/>
                </a:moveTo>
                <a:lnTo>
                  <a:pt x="30557" y="0"/>
                </a:lnTo>
                <a:lnTo>
                  <a:pt x="30557" y="21600"/>
                </a:lnTo>
                <a:lnTo>
                  <a:pt x="0" y="21600"/>
                </a:lnTo>
                <a:close/>
              </a:path>
              <a:path fill="lightenLess" w="30557" h="21600">
                <a:moveTo>
                  <a:pt x="0" y="0"/>
                </a:moveTo>
                <a:lnTo>
                  <a:pt x="30557" y="0"/>
                </a:lnTo>
                <a:lnTo>
                  <a:pt x="29157" y="1400"/>
                </a:lnTo>
                <a:lnTo>
                  <a:pt x="1400" y="1400"/>
                </a:lnTo>
                <a:close/>
              </a:path>
              <a:path fill="darken" w="30557" h="21600">
                <a:moveTo>
                  <a:pt x="30557" y="0"/>
                </a:moveTo>
                <a:lnTo>
                  <a:pt x="30557" y="21600"/>
                </a:lnTo>
                <a:lnTo>
                  <a:pt x="29157" y="20200"/>
                </a:lnTo>
                <a:lnTo>
                  <a:pt x="29157" y="1400"/>
                </a:lnTo>
                <a:close/>
              </a:path>
              <a:path fill="darkenLess" w="30557" h="21600">
                <a:moveTo>
                  <a:pt x="305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157" y="20200"/>
                </a:lnTo>
                <a:close/>
              </a:path>
              <a:path fill="lighten" w="305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557" h="21600">
                <a:moveTo>
                  <a:pt x="8272" y="3794"/>
                </a:moveTo>
                <a:lnTo>
                  <a:pt x="22285" y="10800"/>
                </a:lnTo>
                <a:lnTo>
                  <a:pt x="8272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ctieknop: Verder of Volgende 5"/>
          <p:cNvSpPr/>
          <p:nvPr/>
        </p:nvSpPr>
        <p:spPr>
          <a:xfrm>
            <a:off x="7740720" y="2852640"/>
            <a:ext cx="609480" cy="432000"/>
          </a:xfrm>
          <a:custGeom>
            <a:avLst/>
            <a:gdLst>
              <a:gd name="textAreaLeft" fmla="*/ 27720 w 609480"/>
              <a:gd name="textAreaRight" fmla="*/ 581760 w 6094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0467" h="21600">
                <a:moveTo>
                  <a:pt x="0" y="0"/>
                </a:moveTo>
                <a:lnTo>
                  <a:pt x="30467" y="0"/>
                </a:lnTo>
                <a:lnTo>
                  <a:pt x="30467" y="21600"/>
                </a:lnTo>
                <a:lnTo>
                  <a:pt x="0" y="21600"/>
                </a:lnTo>
                <a:close/>
              </a:path>
              <a:path fill="lightenLess" w="30467" h="21600">
                <a:moveTo>
                  <a:pt x="0" y="0"/>
                </a:moveTo>
                <a:lnTo>
                  <a:pt x="30467" y="0"/>
                </a:lnTo>
                <a:lnTo>
                  <a:pt x="29067" y="1400"/>
                </a:lnTo>
                <a:lnTo>
                  <a:pt x="1400" y="1400"/>
                </a:lnTo>
                <a:close/>
              </a:path>
              <a:path fill="darken" w="30467" h="21600">
                <a:moveTo>
                  <a:pt x="30467" y="0"/>
                </a:moveTo>
                <a:lnTo>
                  <a:pt x="30467" y="21600"/>
                </a:lnTo>
                <a:lnTo>
                  <a:pt x="29067" y="20200"/>
                </a:lnTo>
                <a:lnTo>
                  <a:pt x="29067" y="1400"/>
                </a:lnTo>
                <a:close/>
              </a:path>
              <a:path fill="darkenLess" w="30467" h="21600">
                <a:moveTo>
                  <a:pt x="304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067" y="20200"/>
                </a:lnTo>
                <a:close/>
              </a:path>
              <a:path fill="lighten" w="304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467" h="21600">
                <a:moveTo>
                  <a:pt x="8227" y="3794"/>
                </a:moveTo>
                <a:lnTo>
                  <a:pt x="22240" y="10800"/>
                </a:lnTo>
                <a:lnTo>
                  <a:pt x="8227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ctieknop: Verder of Volgende 6"/>
          <p:cNvSpPr/>
          <p:nvPr/>
        </p:nvSpPr>
        <p:spPr>
          <a:xfrm>
            <a:off x="6372360" y="3429000"/>
            <a:ext cx="609480" cy="504720"/>
          </a:xfrm>
          <a:custGeom>
            <a:avLst/>
            <a:gdLst>
              <a:gd name="textAreaLeft" fmla="*/ 32400 w 609480"/>
              <a:gd name="textAreaRight" fmla="*/ 577080 w 6094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6080" h="21600">
                <a:moveTo>
                  <a:pt x="0" y="0"/>
                </a:moveTo>
                <a:lnTo>
                  <a:pt x="26080" y="0"/>
                </a:lnTo>
                <a:lnTo>
                  <a:pt x="26080" y="21600"/>
                </a:lnTo>
                <a:lnTo>
                  <a:pt x="0" y="21600"/>
                </a:lnTo>
                <a:close/>
              </a:path>
              <a:path fill="lightenLess" w="26080" h="21600">
                <a:moveTo>
                  <a:pt x="0" y="0"/>
                </a:moveTo>
                <a:lnTo>
                  <a:pt x="26080" y="0"/>
                </a:lnTo>
                <a:lnTo>
                  <a:pt x="24680" y="1400"/>
                </a:lnTo>
                <a:lnTo>
                  <a:pt x="1400" y="1400"/>
                </a:lnTo>
                <a:close/>
              </a:path>
              <a:path fill="darken" w="26080" h="21600">
                <a:moveTo>
                  <a:pt x="26080" y="0"/>
                </a:moveTo>
                <a:lnTo>
                  <a:pt x="26080" y="21600"/>
                </a:lnTo>
                <a:lnTo>
                  <a:pt x="24680" y="20200"/>
                </a:lnTo>
                <a:lnTo>
                  <a:pt x="24680" y="1400"/>
                </a:lnTo>
                <a:close/>
              </a:path>
              <a:path fill="darkenLess" w="26080" h="21600">
                <a:moveTo>
                  <a:pt x="26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80" y="20200"/>
                </a:lnTo>
                <a:close/>
              </a:path>
              <a:path fill="lighten" w="26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080" h="21600">
                <a:moveTo>
                  <a:pt x="6034" y="3794"/>
                </a:moveTo>
                <a:lnTo>
                  <a:pt x="20047" y="10800"/>
                </a:lnTo>
                <a:lnTo>
                  <a:pt x="6034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ctieknop: Verder of Volgende 7"/>
          <p:cNvSpPr/>
          <p:nvPr/>
        </p:nvSpPr>
        <p:spPr>
          <a:xfrm>
            <a:off x="6156360" y="4149720"/>
            <a:ext cx="609480" cy="358920"/>
          </a:xfrm>
          <a:custGeom>
            <a:avLst/>
            <a:gdLst>
              <a:gd name="textAreaLeft" fmla="*/ 23040 w 609480"/>
              <a:gd name="textAreaRight" fmla="*/ 586440 w 60948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36664" h="21600">
                <a:moveTo>
                  <a:pt x="0" y="0"/>
                </a:moveTo>
                <a:lnTo>
                  <a:pt x="36664" y="0"/>
                </a:lnTo>
                <a:lnTo>
                  <a:pt x="36664" y="21600"/>
                </a:lnTo>
                <a:lnTo>
                  <a:pt x="0" y="21600"/>
                </a:lnTo>
                <a:close/>
              </a:path>
              <a:path fill="lightenLess" w="36664" h="21600">
                <a:moveTo>
                  <a:pt x="0" y="0"/>
                </a:moveTo>
                <a:lnTo>
                  <a:pt x="36664" y="0"/>
                </a:lnTo>
                <a:lnTo>
                  <a:pt x="35264" y="1400"/>
                </a:lnTo>
                <a:lnTo>
                  <a:pt x="1400" y="1400"/>
                </a:lnTo>
                <a:close/>
              </a:path>
              <a:path fill="darken" w="36664" h="21600">
                <a:moveTo>
                  <a:pt x="36664" y="0"/>
                </a:moveTo>
                <a:lnTo>
                  <a:pt x="36664" y="21600"/>
                </a:lnTo>
                <a:lnTo>
                  <a:pt x="35264" y="20200"/>
                </a:lnTo>
                <a:lnTo>
                  <a:pt x="35264" y="1400"/>
                </a:lnTo>
                <a:close/>
              </a:path>
              <a:path fill="darkenLess" w="36664" h="21600">
                <a:moveTo>
                  <a:pt x="366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264" y="20200"/>
                </a:lnTo>
                <a:close/>
              </a:path>
              <a:path fill="lighten" w="366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664" h="21600">
                <a:moveTo>
                  <a:pt x="11325" y="3794"/>
                </a:moveTo>
                <a:lnTo>
                  <a:pt x="25338" y="10800"/>
                </a:lnTo>
                <a:lnTo>
                  <a:pt x="11325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Dreigende stomatit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auwfunctie valt weg, gevolg mondslijmvlies droogt uit, slijmvlies beschadigd, bacteriën in zitten, gevolg ontstek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peekselproductie laa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cti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mondverzorg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Patiënt op iets laten kauwen/zuig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Actieknop: Terug of Vorige 3">
            <a:hlinkClick r:id="" action="ppaction://hlinkshowjump?jump=previousslide"/>
          </p:cNvPr>
          <p:cNvSpPr/>
          <p:nvPr/>
        </p:nvSpPr>
        <p:spPr>
          <a:xfrm>
            <a:off x="1042920" y="5732640"/>
            <a:ext cx="682560" cy="576000"/>
          </a:xfrm>
          <a:custGeom>
            <a:avLst/>
            <a:gdLst>
              <a:gd name="textAreaLeft" fmla="*/ 37080 w 682560"/>
              <a:gd name="textAreaRight" fmla="*/ 645480 w 68256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5594" h="21600">
                <a:moveTo>
                  <a:pt x="0" y="0"/>
                </a:moveTo>
                <a:lnTo>
                  <a:pt x="25594" y="0"/>
                </a:lnTo>
                <a:lnTo>
                  <a:pt x="25594" y="21600"/>
                </a:lnTo>
                <a:lnTo>
                  <a:pt x="0" y="21600"/>
                </a:lnTo>
                <a:close/>
              </a:path>
              <a:path fill="lightenLess" w="25594" h="21600">
                <a:moveTo>
                  <a:pt x="0" y="0"/>
                </a:moveTo>
                <a:lnTo>
                  <a:pt x="25594" y="0"/>
                </a:lnTo>
                <a:lnTo>
                  <a:pt x="24194" y="1400"/>
                </a:lnTo>
                <a:lnTo>
                  <a:pt x="1400" y="1400"/>
                </a:lnTo>
                <a:close/>
              </a:path>
              <a:path fill="darken" w="25594" h="21600">
                <a:moveTo>
                  <a:pt x="25594" y="0"/>
                </a:moveTo>
                <a:lnTo>
                  <a:pt x="25594" y="21600"/>
                </a:lnTo>
                <a:lnTo>
                  <a:pt x="24194" y="20200"/>
                </a:lnTo>
                <a:lnTo>
                  <a:pt x="24194" y="1400"/>
                </a:lnTo>
                <a:close/>
              </a:path>
              <a:path fill="darkenLess" w="25594" h="21600">
                <a:moveTo>
                  <a:pt x="255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94" y="20200"/>
                </a:lnTo>
                <a:close/>
              </a:path>
              <a:path fill="lighten" w="255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94" h="21600">
                <a:moveTo>
                  <a:pt x="5790" y="10800"/>
                </a:moveTo>
                <a:lnTo>
                  <a:pt x="19803" y="3794"/>
                </a:lnTo>
                <a:lnTo>
                  <a:pt x="19803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Kans op decubit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onde zit te strak tegen neusvleug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Calibri"/>
              </a:rPr>
              <a:t>Acti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Elke dag controle/ observat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Elke dag pleister verschon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Pleister op juiste wijze plakk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Actieknop: Terug of Vorige 3"/>
          <p:cNvSpPr/>
          <p:nvPr/>
        </p:nvSpPr>
        <p:spPr>
          <a:xfrm>
            <a:off x="1258920" y="4941720"/>
            <a:ext cx="611280" cy="503280"/>
          </a:xfrm>
          <a:custGeom>
            <a:avLst/>
            <a:gdLst>
              <a:gd name="textAreaLeft" fmla="*/ 32400 w 611280"/>
              <a:gd name="textAreaRight" fmla="*/ 578880 w 611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6232" h="21600">
                <a:moveTo>
                  <a:pt x="0" y="0"/>
                </a:moveTo>
                <a:lnTo>
                  <a:pt x="26232" y="0"/>
                </a:lnTo>
                <a:lnTo>
                  <a:pt x="26232" y="21600"/>
                </a:lnTo>
                <a:lnTo>
                  <a:pt x="0" y="21600"/>
                </a:lnTo>
                <a:close/>
              </a:path>
              <a:path fill="lightenLess" w="26232" h="21600">
                <a:moveTo>
                  <a:pt x="0" y="0"/>
                </a:moveTo>
                <a:lnTo>
                  <a:pt x="26232" y="0"/>
                </a:lnTo>
                <a:lnTo>
                  <a:pt x="24832" y="1400"/>
                </a:lnTo>
                <a:lnTo>
                  <a:pt x="1400" y="1400"/>
                </a:lnTo>
                <a:close/>
              </a:path>
              <a:path fill="darken" w="26232" h="21600">
                <a:moveTo>
                  <a:pt x="26232" y="0"/>
                </a:moveTo>
                <a:lnTo>
                  <a:pt x="26232" y="21600"/>
                </a:lnTo>
                <a:lnTo>
                  <a:pt x="24832" y="20200"/>
                </a:lnTo>
                <a:lnTo>
                  <a:pt x="24832" y="1400"/>
                </a:lnTo>
                <a:close/>
              </a:path>
              <a:path fill="darkenLess" w="26232" h="21600">
                <a:moveTo>
                  <a:pt x="262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32" y="20200"/>
                </a:lnTo>
                <a:close/>
              </a:path>
              <a:path fill="lighten" w="262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32" h="21600">
                <a:moveTo>
                  <a:pt x="6109" y="10800"/>
                </a:moveTo>
                <a:lnTo>
                  <a:pt x="20122" y="3794"/>
                </a:lnTo>
                <a:lnTo>
                  <a:pt x="20122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9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2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5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Kans dat sonde niet op juiste plaats zi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oor opboeren, braken, hoesten kan sonde verplaats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Calibri"/>
              </a:rPr>
              <a:t>Acti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oor elke voeding aansluiting sonde controler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-   Lucht in maag spuit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-   Lakmoespapiertj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Actieknop: Terug of Vorige 3"/>
          <p:cNvSpPr/>
          <p:nvPr/>
        </p:nvSpPr>
        <p:spPr>
          <a:xfrm>
            <a:off x="1187280" y="5732640"/>
            <a:ext cx="682920" cy="504720"/>
          </a:xfrm>
          <a:custGeom>
            <a:avLst/>
            <a:gdLst>
              <a:gd name="textAreaLeft" fmla="*/ 32400 w 682920"/>
              <a:gd name="textAreaRight" fmla="*/ 650520 w 6829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9221" h="21600">
                <a:moveTo>
                  <a:pt x="0" y="0"/>
                </a:moveTo>
                <a:lnTo>
                  <a:pt x="29221" y="0"/>
                </a:lnTo>
                <a:lnTo>
                  <a:pt x="29221" y="21600"/>
                </a:lnTo>
                <a:lnTo>
                  <a:pt x="0" y="21600"/>
                </a:lnTo>
                <a:close/>
              </a:path>
              <a:path fill="lightenLess" w="29221" h="21600">
                <a:moveTo>
                  <a:pt x="0" y="0"/>
                </a:moveTo>
                <a:lnTo>
                  <a:pt x="29221" y="0"/>
                </a:lnTo>
                <a:lnTo>
                  <a:pt x="27821" y="1400"/>
                </a:lnTo>
                <a:lnTo>
                  <a:pt x="1400" y="1400"/>
                </a:lnTo>
                <a:close/>
              </a:path>
              <a:path fill="darken" w="29221" h="21600">
                <a:moveTo>
                  <a:pt x="29221" y="0"/>
                </a:moveTo>
                <a:lnTo>
                  <a:pt x="29221" y="21600"/>
                </a:lnTo>
                <a:lnTo>
                  <a:pt x="27821" y="20200"/>
                </a:lnTo>
                <a:lnTo>
                  <a:pt x="27821" y="1400"/>
                </a:lnTo>
                <a:close/>
              </a:path>
              <a:path fill="darkenLess" w="29221" h="21600">
                <a:moveTo>
                  <a:pt x="292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21" y="20200"/>
                </a:lnTo>
                <a:close/>
              </a:path>
              <a:path fill="lighten" w="292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221" h="21600">
                <a:moveTo>
                  <a:pt x="7604" y="10800"/>
                </a:moveTo>
                <a:lnTo>
                  <a:pt x="21617" y="3794"/>
                </a:lnTo>
                <a:lnTo>
                  <a:pt x="21617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2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5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8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Kans op verstopping van son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oeding koekt aan in de son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Calibri"/>
              </a:rPr>
              <a:t>Acti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tart en eindigen met 20 ml lauw wa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Minimaal 6x per dag sonde doorspoel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Actieknop: Terug of Vorige 3"/>
          <p:cNvSpPr/>
          <p:nvPr/>
        </p:nvSpPr>
        <p:spPr>
          <a:xfrm>
            <a:off x="971640" y="4221000"/>
            <a:ext cx="610920" cy="503280"/>
          </a:xfrm>
          <a:custGeom>
            <a:avLst/>
            <a:gdLst>
              <a:gd name="textAreaLeft" fmla="*/ 32400 w 610920"/>
              <a:gd name="textAreaRight" fmla="*/ 578520 w 610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6216" h="21600">
                <a:moveTo>
                  <a:pt x="0" y="0"/>
                </a:moveTo>
                <a:lnTo>
                  <a:pt x="26216" y="0"/>
                </a:lnTo>
                <a:lnTo>
                  <a:pt x="26216" y="21600"/>
                </a:lnTo>
                <a:lnTo>
                  <a:pt x="0" y="21600"/>
                </a:lnTo>
                <a:close/>
              </a:path>
              <a:path fill="lightenLess" w="26216" h="21600">
                <a:moveTo>
                  <a:pt x="0" y="0"/>
                </a:moveTo>
                <a:lnTo>
                  <a:pt x="26216" y="0"/>
                </a:lnTo>
                <a:lnTo>
                  <a:pt x="24816" y="1400"/>
                </a:lnTo>
                <a:lnTo>
                  <a:pt x="1400" y="1400"/>
                </a:lnTo>
                <a:close/>
              </a:path>
              <a:path fill="darken" w="26216" h="21600">
                <a:moveTo>
                  <a:pt x="26216" y="0"/>
                </a:moveTo>
                <a:lnTo>
                  <a:pt x="26216" y="21600"/>
                </a:lnTo>
                <a:lnTo>
                  <a:pt x="24816" y="20200"/>
                </a:lnTo>
                <a:lnTo>
                  <a:pt x="24816" y="1400"/>
                </a:lnTo>
                <a:close/>
              </a:path>
              <a:path fill="darkenLess" w="26216" h="21600">
                <a:moveTo>
                  <a:pt x="262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16" y="20200"/>
                </a:lnTo>
                <a:close/>
              </a:path>
              <a:path fill="lighten" w="262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16" h="21600">
                <a:moveTo>
                  <a:pt x="6102" y="10800"/>
                </a:moveTo>
                <a:lnTo>
                  <a:pt x="20115" y="3794"/>
                </a:lnTo>
                <a:lnTo>
                  <a:pt x="20115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5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8" dur="5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. Scheltens-Flink</dc:creator>
  <dc:description/>
  <dc:language>en-US</dc:language>
  <cp:lastModifiedBy>E. Scheltens-Flink</cp:lastModifiedBy>
  <dcterms:modified xsi:type="dcterms:W3CDTF">2015-09-16T17:59:22Z</dcterms:modified>
  <cp:revision>17</cp:revision>
  <dc:subject/>
  <dc:title>Sondevoeding</dc:title>
</cp:coreProperties>
</file>