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0062-5232-42D9-8A2E-BEC666D6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B41F-4DAD-4676-B3C1-1771171A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A275-3035-4872-9393-3E59E517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2C26-BB82-4E41-9502-7B93B5FB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2662-EF06-4BFF-8CC5-EBB64909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BE3A-903B-45C0-932F-3F56A650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1B4D-CC93-4EB1-9DB1-E49E0839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6D81-D5DF-4BCF-BF90-E0EFFB1E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3EDE-C045-45CF-A038-45FFD613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F7BB-5411-40FA-8526-E9879E2E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3196-09B4-4B4A-A5B4-5ED3B993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7A64-6862-4091-93EB-10F204D2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3036-CE00-4BF6-8182-FF74F84CCB2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ndevoe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940360" y="333360"/>
            <a:ext cx="26481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bederven van 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ngdurig aangebroken en buiten de ko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ing tussendoor in de koeling leg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ctieknop: Terug of Vorige 3"/>
          <p:cNvSpPr/>
          <p:nvPr/>
        </p:nvSpPr>
        <p:spPr>
          <a:xfrm>
            <a:off x="1042920" y="4292640"/>
            <a:ext cx="682560" cy="504720"/>
          </a:xfrm>
          <a:custGeom>
            <a:avLst/>
            <a:gdLst>
              <a:gd name="textAreaLeft" fmla="*/ 32400 w 682560"/>
              <a:gd name="textAreaRight" fmla="*/ 650160 w 682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05" h="21600">
                <a:moveTo>
                  <a:pt x="0" y="0"/>
                </a:moveTo>
                <a:lnTo>
                  <a:pt x="29205" y="0"/>
                </a:lnTo>
                <a:lnTo>
                  <a:pt x="29205" y="21600"/>
                </a:lnTo>
                <a:lnTo>
                  <a:pt x="0" y="21600"/>
                </a:lnTo>
                <a:close/>
              </a:path>
              <a:path fill="lightenLess" w="29205" h="21600">
                <a:moveTo>
                  <a:pt x="0" y="0"/>
                </a:moveTo>
                <a:lnTo>
                  <a:pt x="29205" y="0"/>
                </a:lnTo>
                <a:lnTo>
                  <a:pt x="27805" y="1400"/>
                </a:lnTo>
                <a:lnTo>
                  <a:pt x="1400" y="1400"/>
                </a:lnTo>
                <a:close/>
              </a:path>
              <a:path fill="darken" w="29205" h="21600">
                <a:moveTo>
                  <a:pt x="29205" y="0"/>
                </a:moveTo>
                <a:lnTo>
                  <a:pt x="29205" y="21600"/>
                </a:lnTo>
                <a:lnTo>
                  <a:pt x="27805" y="20200"/>
                </a:lnTo>
                <a:lnTo>
                  <a:pt x="27805" y="1400"/>
                </a:lnTo>
                <a:close/>
              </a:path>
              <a:path fill="darkenLess" w="29205" h="21600">
                <a:moveTo>
                  <a:pt x="29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5" y="20200"/>
                </a:lnTo>
                <a:close/>
              </a:path>
              <a:path fill="lighten" w="29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5" h="21600">
                <a:moveTo>
                  <a:pt x="7596" y="10800"/>
                </a:moveTo>
                <a:lnTo>
                  <a:pt x="21609" y="3794"/>
                </a:lnTo>
                <a:lnTo>
                  <a:pt x="2160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ist sociaal moment met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rijgt geen maaltijden aangebo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voeding bolussen geven op voedingstij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bolussen wel honger gevo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continu sondevoeding geen hongergevo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ctieknop: Verder of Volgende 3"/>
          <p:cNvSpPr/>
          <p:nvPr/>
        </p:nvSpPr>
        <p:spPr>
          <a:xfrm>
            <a:off x="1042920" y="5300640"/>
            <a:ext cx="755640" cy="504720"/>
          </a:xfrm>
          <a:custGeom>
            <a:avLst/>
            <a:gdLst>
              <a:gd name="textAreaLeft" fmla="*/ 32400 w 755640"/>
              <a:gd name="textAreaRight" fmla="*/ 723240 w 755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2331" h="21600">
                <a:moveTo>
                  <a:pt x="0" y="0"/>
                </a:moveTo>
                <a:lnTo>
                  <a:pt x="32331" y="0"/>
                </a:lnTo>
                <a:lnTo>
                  <a:pt x="32331" y="21600"/>
                </a:lnTo>
                <a:lnTo>
                  <a:pt x="0" y="21600"/>
                </a:lnTo>
                <a:close/>
              </a:path>
              <a:path fill="lightenLess" w="32331" h="21600">
                <a:moveTo>
                  <a:pt x="0" y="0"/>
                </a:moveTo>
                <a:lnTo>
                  <a:pt x="32331" y="0"/>
                </a:lnTo>
                <a:lnTo>
                  <a:pt x="30931" y="1400"/>
                </a:lnTo>
                <a:lnTo>
                  <a:pt x="1400" y="1400"/>
                </a:lnTo>
                <a:close/>
              </a:path>
              <a:path fill="darken" w="32331" h="21600">
                <a:moveTo>
                  <a:pt x="32331" y="0"/>
                </a:moveTo>
                <a:lnTo>
                  <a:pt x="32331" y="21600"/>
                </a:lnTo>
                <a:lnTo>
                  <a:pt x="30931" y="20200"/>
                </a:lnTo>
                <a:lnTo>
                  <a:pt x="30931" y="1400"/>
                </a:lnTo>
                <a:close/>
              </a:path>
              <a:path fill="darkenLess" w="32331" h="21600">
                <a:moveTo>
                  <a:pt x="323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1" y="20200"/>
                </a:lnTo>
                <a:close/>
              </a:path>
              <a:path fill="lighten" w="323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1" h="21600">
                <a:moveTo>
                  <a:pt x="9159" y="3794"/>
                </a:moveTo>
                <a:lnTo>
                  <a:pt x="23172" y="10800"/>
                </a:lnTo>
                <a:lnTo>
                  <a:pt x="915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zorgen van PEG/P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Pas aangeleg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: extra hygië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anden fistel genez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esinfecter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x per dag draai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tadine jodiu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teriele splitga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Na 6 weken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einigen water zee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teriele splitga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x per dag draai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Afbeelding 3" descr="PEG.bmp"/>
          <p:cNvPicPr/>
          <p:nvPr/>
        </p:nvPicPr>
        <p:blipFill>
          <a:blip r:embed="rId1"/>
          <a:stretch/>
        </p:blipFill>
        <p:spPr>
          <a:xfrm>
            <a:off x="5867280" y="1052640"/>
            <a:ext cx="2952720" cy="2724120"/>
          </a:xfrm>
          <a:prstGeom prst="rect">
            <a:avLst/>
          </a:prstGeom>
          <a:ln w="0">
            <a:noFill/>
          </a:ln>
        </p:spPr>
      </p:pic>
      <p:pic>
        <p:nvPicPr>
          <p:cNvPr id="78" name="Afbeelding 6" descr="peg 2.jpg"/>
          <p:cNvPicPr/>
          <p:nvPr/>
        </p:nvPicPr>
        <p:blipFill>
          <a:blip r:embed="rId2"/>
          <a:stretch/>
        </p:blipFill>
        <p:spPr>
          <a:xfrm>
            <a:off x="4788000" y="3789360"/>
            <a:ext cx="40780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ickey but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81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82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rekenen hoeveelhe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veelheid ml SV x druppels per m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------------------------------------------------ = aantal druppels per minuu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tal uren SV gegeven x 60 m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dracht: arts spreekt 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liter sondevoeding per 24 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t is de druppelsnelhei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lt = 2000 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2000 x 2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4000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28 druppels per minuu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24 x 60            14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rts spreekt af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liter in 8 uur (alleen ‘s nach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lt = 1000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1000 x 2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2000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41 druppels per minu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8 x 60           4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t is sondevoed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loeibare voeding die geven wordt via kunstmatige verbinding met de maag/duoden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vo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medicij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anieren van sonde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eusson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EG (percutane endoscopische gastrostomi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EJ (percutane endoscopische jejunostomi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olu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Continu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pu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ystee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nneer sondevoeding geve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eigende ondervoeding met een goed functionerend maagdarmkan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vulling op di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doeningen: slikken/kauwen,slokdarm,maa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minderde eetl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lechte lichamelijke condi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ngdurig voedselweigering (ki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Zorgproblem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eigende stomat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decubitus aan n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dat sonde niet op de juist plaats z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verstopping van s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bederven van 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st sociaal moment met et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ctieknop: Verder of Volgende 3">
            <a:hlinkClick r:id="" action="ppaction://hlinkshowjump?jump=nextslide"/>
          </p:cNvPr>
          <p:cNvSpPr/>
          <p:nvPr/>
        </p:nvSpPr>
        <p:spPr>
          <a:xfrm>
            <a:off x="4643280" y="1700280"/>
            <a:ext cx="538200" cy="360360"/>
          </a:xfrm>
          <a:custGeom>
            <a:avLst/>
            <a:gdLst>
              <a:gd name="textAreaLeft" fmla="*/ 23040 w 538200"/>
              <a:gd name="textAreaRight" fmla="*/ 515160 w 5382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249" h="21600">
                <a:moveTo>
                  <a:pt x="0" y="0"/>
                </a:moveTo>
                <a:lnTo>
                  <a:pt x="32249" y="0"/>
                </a:lnTo>
                <a:lnTo>
                  <a:pt x="32249" y="21600"/>
                </a:lnTo>
                <a:lnTo>
                  <a:pt x="0" y="21600"/>
                </a:lnTo>
                <a:close/>
              </a:path>
              <a:path fill="lightenLess" w="32249" h="21600">
                <a:moveTo>
                  <a:pt x="0" y="0"/>
                </a:moveTo>
                <a:lnTo>
                  <a:pt x="32249" y="0"/>
                </a:lnTo>
                <a:lnTo>
                  <a:pt x="30849" y="1400"/>
                </a:lnTo>
                <a:lnTo>
                  <a:pt x="1400" y="1400"/>
                </a:lnTo>
                <a:close/>
              </a:path>
              <a:path fill="darken" w="32249" h="21600">
                <a:moveTo>
                  <a:pt x="32249" y="0"/>
                </a:moveTo>
                <a:lnTo>
                  <a:pt x="32249" y="21600"/>
                </a:lnTo>
                <a:lnTo>
                  <a:pt x="30849" y="20200"/>
                </a:lnTo>
                <a:lnTo>
                  <a:pt x="30849" y="1400"/>
                </a:lnTo>
                <a:close/>
              </a:path>
              <a:path fill="darkenLess" w="32249" h="21600">
                <a:moveTo>
                  <a:pt x="32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49" y="20200"/>
                </a:lnTo>
                <a:close/>
              </a:path>
              <a:path fill="lighten" w="32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49" h="21600">
                <a:moveTo>
                  <a:pt x="9118" y="3794"/>
                </a:moveTo>
                <a:lnTo>
                  <a:pt x="23131" y="10800"/>
                </a:lnTo>
                <a:lnTo>
                  <a:pt x="911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ctieknop: Verder of Volgende 4">
            <a:hlinkClick r:id="rId1" action="ppaction://hlinksldjump"/>
          </p:cNvPr>
          <p:cNvSpPr/>
          <p:nvPr/>
        </p:nvSpPr>
        <p:spPr>
          <a:xfrm>
            <a:off x="5796000" y="2205000"/>
            <a:ext cx="611280" cy="432000"/>
          </a:xfrm>
          <a:custGeom>
            <a:avLst/>
            <a:gdLst>
              <a:gd name="textAreaLeft" fmla="*/ 27720 w 611280"/>
              <a:gd name="textAreaRight" fmla="*/ 583560 w 611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0557" h="21600">
                <a:moveTo>
                  <a:pt x="0" y="0"/>
                </a:moveTo>
                <a:lnTo>
                  <a:pt x="30557" y="0"/>
                </a:lnTo>
                <a:lnTo>
                  <a:pt x="30557" y="21600"/>
                </a:lnTo>
                <a:lnTo>
                  <a:pt x="0" y="21600"/>
                </a:lnTo>
                <a:close/>
              </a:path>
              <a:path fill="lightenLess" w="30557" h="21600">
                <a:moveTo>
                  <a:pt x="0" y="0"/>
                </a:moveTo>
                <a:lnTo>
                  <a:pt x="30557" y="0"/>
                </a:lnTo>
                <a:lnTo>
                  <a:pt x="29157" y="1400"/>
                </a:lnTo>
                <a:lnTo>
                  <a:pt x="1400" y="1400"/>
                </a:lnTo>
                <a:close/>
              </a:path>
              <a:path fill="darken" w="30557" h="21600">
                <a:moveTo>
                  <a:pt x="30557" y="0"/>
                </a:moveTo>
                <a:lnTo>
                  <a:pt x="30557" y="21600"/>
                </a:lnTo>
                <a:lnTo>
                  <a:pt x="29157" y="20200"/>
                </a:lnTo>
                <a:lnTo>
                  <a:pt x="29157" y="1400"/>
                </a:lnTo>
                <a:close/>
              </a:path>
              <a:path fill="darkenLess" w="30557" h="21600">
                <a:moveTo>
                  <a:pt x="30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57" y="20200"/>
                </a:lnTo>
                <a:close/>
              </a:path>
              <a:path fill="lighten" w="30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57" h="21600">
                <a:moveTo>
                  <a:pt x="8272" y="3794"/>
                </a:moveTo>
                <a:lnTo>
                  <a:pt x="22285" y="10800"/>
                </a:lnTo>
                <a:lnTo>
                  <a:pt x="827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ctieknop: Verder of Volgende 5"/>
          <p:cNvSpPr/>
          <p:nvPr/>
        </p:nvSpPr>
        <p:spPr>
          <a:xfrm>
            <a:off x="7740720" y="2852640"/>
            <a:ext cx="609480" cy="432000"/>
          </a:xfrm>
          <a:custGeom>
            <a:avLst/>
            <a:gdLst>
              <a:gd name="textAreaLeft" fmla="*/ 27720 w 609480"/>
              <a:gd name="textAreaRight" fmla="*/ 581760 w 6094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0467" h="21600">
                <a:moveTo>
                  <a:pt x="0" y="0"/>
                </a:moveTo>
                <a:lnTo>
                  <a:pt x="30467" y="0"/>
                </a:lnTo>
                <a:lnTo>
                  <a:pt x="30467" y="21600"/>
                </a:lnTo>
                <a:lnTo>
                  <a:pt x="0" y="21600"/>
                </a:lnTo>
                <a:close/>
              </a:path>
              <a:path fill="lightenLess" w="30467" h="21600">
                <a:moveTo>
                  <a:pt x="0" y="0"/>
                </a:moveTo>
                <a:lnTo>
                  <a:pt x="30467" y="0"/>
                </a:lnTo>
                <a:lnTo>
                  <a:pt x="29067" y="1400"/>
                </a:lnTo>
                <a:lnTo>
                  <a:pt x="1400" y="1400"/>
                </a:lnTo>
                <a:close/>
              </a:path>
              <a:path fill="darken" w="30467" h="21600">
                <a:moveTo>
                  <a:pt x="30467" y="0"/>
                </a:moveTo>
                <a:lnTo>
                  <a:pt x="30467" y="21600"/>
                </a:lnTo>
                <a:lnTo>
                  <a:pt x="29067" y="20200"/>
                </a:lnTo>
                <a:lnTo>
                  <a:pt x="29067" y="1400"/>
                </a:lnTo>
                <a:close/>
              </a:path>
              <a:path fill="darkenLess" w="30467" h="21600">
                <a:moveTo>
                  <a:pt x="30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67" y="20200"/>
                </a:lnTo>
                <a:close/>
              </a:path>
              <a:path fill="lighten" w="30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67" h="21600">
                <a:moveTo>
                  <a:pt x="8227" y="3794"/>
                </a:moveTo>
                <a:lnTo>
                  <a:pt x="22240" y="10800"/>
                </a:lnTo>
                <a:lnTo>
                  <a:pt x="822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ctieknop: Verder of Volgende 6"/>
          <p:cNvSpPr/>
          <p:nvPr/>
        </p:nvSpPr>
        <p:spPr>
          <a:xfrm>
            <a:off x="6372360" y="3429000"/>
            <a:ext cx="609480" cy="504720"/>
          </a:xfrm>
          <a:custGeom>
            <a:avLst/>
            <a:gdLst>
              <a:gd name="textAreaLeft" fmla="*/ 32400 w 609480"/>
              <a:gd name="textAreaRight" fmla="*/ 577080 w 6094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6080" h="21600">
                <a:moveTo>
                  <a:pt x="0" y="0"/>
                </a:moveTo>
                <a:lnTo>
                  <a:pt x="26080" y="0"/>
                </a:lnTo>
                <a:lnTo>
                  <a:pt x="26080" y="21600"/>
                </a:lnTo>
                <a:lnTo>
                  <a:pt x="0" y="21600"/>
                </a:lnTo>
                <a:close/>
              </a:path>
              <a:path fill="lightenLess" w="26080" h="21600">
                <a:moveTo>
                  <a:pt x="0" y="0"/>
                </a:moveTo>
                <a:lnTo>
                  <a:pt x="26080" y="0"/>
                </a:lnTo>
                <a:lnTo>
                  <a:pt x="24680" y="1400"/>
                </a:lnTo>
                <a:lnTo>
                  <a:pt x="1400" y="1400"/>
                </a:lnTo>
                <a:close/>
              </a:path>
              <a:path fill="darken" w="26080" h="21600">
                <a:moveTo>
                  <a:pt x="26080" y="0"/>
                </a:moveTo>
                <a:lnTo>
                  <a:pt x="26080" y="21600"/>
                </a:lnTo>
                <a:lnTo>
                  <a:pt x="24680" y="20200"/>
                </a:lnTo>
                <a:lnTo>
                  <a:pt x="24680" y="1400"/>
                </a:lnTo>
                <a:close/>
              </a:path>
              <a:path fill="darkenLess" w="26080" h="21600">
                <a:moveTo>
                  <a:pt x="2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0" y="20200"/>
                </a:lnTo>
                <a:close/>
              </a:path>
              <a:path fill="lighten" w="2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0" h="21600">
                <a:moveTo>
                  <a:pt x="6034" y="3794"/>
                </a:moveTo>
                <a:lnTo>
                  <a:pt x="20047" y="10800"/>
                </a:lnTo>
                <a:lnTo>
                  <a:pt x="603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ctieknop: Verder of Volgende 7"/>
          <p:cNvSpPr/>
          <p:nvPr/>
        </p:nvSpPr>
        <p:spPr>
          <a:xfrm>
            <a:off x="6156360" y="4149720"/>
            <a:ext cx="609480" cy="3589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6664" h="21600">
                <a:moveTo>
                  <a:pt x="0" y="0"/>
                </a:moveTo>
                <a:lnTo>
                  <a:pt x="36664" y="0"/>
                </a:lnTo>
                <a:lnTo>
                  <a:pt x="36664" y="21600"/>
                </a:lnTo>
                <a:lnTo>
                  <a:pt x="0" y="21600"/>
                </a:lnTo>
                <a:close/>
              </a:path>
              <a:path fill="lightenLess" w="36664" h="21600">
                <a:moveTo>
                  <a:pt x="0" y="0"/>
                </a:moveTo>
                <a:lnTo>
                  <a:pt x="36664" y="0"/>
                </a:lnTo>
                <a:lnTo>
                  <a:pt x="35264" y="1400"/>
                </a:lnTo>
                <a:lnTo>
                  <a:pt x="1400" y="1400"/>
                </a:lnTo>
                <a:close/>
              </a:path>
              <a:path fill="darken" w="36664" h="21600">
                <a:moveTo>
                  <a:pt x="36664" y="0"/>
                </a:moveTo>
                <a:lnTo>
                  <a:pt x="36664" y="21600"/>
                </a:lnTo>
                <a:lnTo>
                  <a:pt x="35264" y="20200"/>
                </a:lnTo>
                <a:lnTo>
                  <a:pt x="35264" y="1400"/>
                </a:lnTo>
                <a:close/>
              </a:path>
              <a:path fill="darkenLess" w="36664" h="21600">
                <a:moveTo>
                  <a:pt x="36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64" y="20200"/>
                </a:lnTo>
                <a:close/>
              </a:path>
              <a:path fill="lighten" w="36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64" h="21600">
                <a:moveTo>
                  <a:pt x="11325" y="3794"/>
                </a:moveTo>
                <a:lnTo>
                  <a:pt x="25338" y="10800"/>
                </a:lnTo>
                <a:lnTo>
                  <a:pt x="1132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reigende stomat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uwfunctie valt weg, gevolg mondslijmvlies droogt uit, slijmvlies beschadigd, bacteriën in zitten, gevolg ontste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eekselproductie la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ondverzo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tiënt op iets laten kauwen/zui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ctieknop: Terug of Vorige 3">
            <a:hlinkClick r:id="" action="ppaction://hlinkshowjump?jump=previousslide"/>
          </p:cNvPr>
          <p:cNvSpPr/>
          <p:nvPr/>
        </p:nvSpPr>
        <p:spPr>
          <a:xfrm>
            <a:off x="1042920" y="5732640"/>
            <a:ext cx="682560" cy="576000"/>
          </a:xfrm>
          <a:custGeom>
            <a:avLst/>
            <a:gdLst>
              <a:gd name="textAreaLeft" fmla="*/ 37080 w 682560"/>
              <a:gd name="textAreaRight" fmla="*/ 645480 w 682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5594" h="21600">
                <a:moveTo>
                  <a:pt x="0" y="0"/>
                </a:moveTo>
                <a:lnTo>
                  <a:pt x="25594" y="0"/>
                </a:lnTo>
                <a:lnTo>
                  <a:pt x="25594" y="21600"/>
                </a:lnTo>
                <a:lnTo>
                  <a:pt x="0" y="21600"/>
                </a:lnTo>
                <a:close/>
              </a:path>
              <a:path fill="lightenLess" w="25594" h="21600">
                <a:moveTo>
                  <a:pt x="0" y="0"/>
                </a:moveTo>
                <a:lnTo>
                  <a:pt x="25594" y="0"/>
                </a:lnTo>
                <a:lnTo>
                  <a:pt x="24194" y="1400"/>
                </a:lnTo>
                <a:lnTo>
                  <a:pt x="1400" y="1400"/>
                </a:lnTo>
                <a:close/>
              </a:path>
              <a:path fill="darken" w="25594" h="21600">
                <a:moveTo>
                  <a:pt x="25594" y="0"/>
                </a:moveTo>
                <a:lnTo>
                  <a:pt x="25594" y="21600"/>
                </a:lnTo>
                <a:lnTo>
                  <a:pt x="24194" y="20200"/>
                </a:lnTo>
                <a:lnTo>
                  <a:pt x="24194" y="1400"/>
                </a:lnTo>
                <a:close/>
              </a:path>
              <a:path fill="darkenLess" w="25594" h="21600">
                <a:moveTo>
                  <a:pt x="25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4" y="20200"/>
                </a:lnTo>
                <a:close/>
              </a:path>
              <a:path fill="lighten" w="25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94" h="21600">
                <a:moveTo>
                  <a:pt x="5790" y="10800"/>
                </a:moveTo>
                <a:lnTo>
                  <a:pt x="19803" y="3794"/>
                </a:lnTo>
                <a:lnTo>
                  <a:pt x="198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decubi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 zit te strak tegen neusvleug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ke dag controle/ observ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ke dag pleister versch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leister op juiste wijze plak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ctieknop: Terug of Vorige 3"/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Kans dat sonde niet op juiste plaats z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 opboeren, braken, hoesten kan sonde verplaat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 elke voeding aansluiting sonde control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  Lucht in maag spui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  Lakmoespapiert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ctieknop: Terug of Vorige 3"/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verstopping van 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ing koekt aan in de s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art en eindigen met 20 ml lauw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nimaal 6x per dag sonde doorspo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ctieknop: Terug of Vorige 3"/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E. Scheltens-Flink</cp:lastModifiedBy>
  <dcterms:modified xsi:type="dcterms:W3CDTF">2015-09-16T17:59:22Z</dcterms:modified>
  <cp:revision>17</cp:revision>
  <dc:subject/>
  <dc:title>Sondevoeding</dc:title>
</cp:coreProperties>
</file>