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3.jpeg" ContentType="image/jpeg"/>
  <Override PartName="/ppt/media/image1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FE1-8B9F-4BF9-B4F5-5EE22ECB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8AE-FFDC-48EF-8109-5E9A5B73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4F2-EA1C-444D-9BEB-CFF3D7EA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1B0-6C97-47E0-9A63-45063A12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885E-21E2-4C7E-803F-36A80757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B309-ECE7-4FB7-AA2F-BC9C28D2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44FE-74CE-462D-A943-60190429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16FF-85F7-4679-97DB-57E029FE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B87B-EDA8-4A9F-AEC5-EAFC0491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8E92-90FA-41A9-B5EB-496CE206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0600-9A4A-4B2D-9224-28DA50A1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182-05BA-4899-B878-581C7EEF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CC83-1AE7-4D10-8B6F-67DEBDFE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407A-85AC-4299-B716-C70B633E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B7DA-6B93-4D81-95BA-332FD184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9519-5F6C-423F-9628-42DC69CC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8004-85B8-4328-B198-C6911F5A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81A7-ADFD-4081-A071-0000E005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3F2F0-DC56-4235-B19F-F9289A22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26E61-3BE3-4FA2-857C-3A189039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D43F-9E14-4F7C-9B5D-8107989E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B2F5A-140E-4A89-86C6-44A9A9AE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D79-0E22-4027-879D-AB59A0FF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4FF89-D549-47A6-B8D7-62203097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F367D-82C8-4C1B-A9CB-37ABA1DE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8155E-C485-4DCE-9E35-898B8924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60149-0375-4FB9-ABE3-D57DC0F3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7A093-C473-453B-B53A-34EF1C9A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C70D0-5C09-4FA1-88C5-86631189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7BE84-821B-4759-B08D-49D7F90B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FDB-348F-47A6-A0DB-FC1FE2A4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8D2-E76F-4D1E-ADE5-BD9E656B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E68-550C-4349-B2B2-EFD2C954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660-CB21-4069-B10A-89DE2AC9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B3E-33BE-4C4B-B609-337B2C10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076-89ED-4DAB-9AB0-8DACFFFD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hthoe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hthoe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hthoe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hthoe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hthoe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hthoe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hthoe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hthoe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F5E6-22BD-4F59-B463-99EBA3CD8C20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00EF-48C7-4312-87BA-E1A9812E428A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hthoe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hthoe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hthoe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hthoe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hthoe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hthoe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hthoe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hthoe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hthoe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9FFD-58F1-470F-BA6D-947524830960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-inc.nl/uploads/photos/5596_distributiecentrum_tnt_post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2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Object 32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914400" y="304920"/>
            <a:ext cx="6835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  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2133720"/>
          <a:ext cx="5181480" cy="447804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  <a:gridCol w="91440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14400" y="304920"/>
            <a:ext cx="6835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  TK = Totale ko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2133720"/>
          <a:ext cx="5181480" cy="447804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  <a:gridCol w="91440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Object 68"/>
          <p:cNvGraphicFramePr/>
          <p:nvPr/>
        </p:nvGraphicFramePr>
        <p:xfrm>
          <a:off x="5791320" y="0"/>
          <a:ext cx="310968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0"/>
                    <a:ext cx="31096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IJL-LINKS 72"/>
          <p:cNvSpPr/>
          <p:nvPr/>
        </p:nvSpPr>
        <p:spPr>
          <a:xfrm>
            <a:off x="5867280" y="3352680"/>
            <a:ext cx="1143000" cy="304920"/>
          </a:xfrm>
          <a:prstGeom prst="leftArrow">
            <a:avLst>
              <a:gd name="adj1" fmla="val 50000"/>
              <a:gd name="adj2" fmla="val 4998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kstvak 73"/>
          <p:cNvSpPr/>
          <p:nvPr/>
        </p:nvSpPr>
        <p:spPr>
          <a:xfrm>
            <a:off x="7238880" y="33526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eak even p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457200" y="274680"/>
          <a:ext cx="6705720" cy="3036960"/>
        </p:xfrm>
        <a:graphic>
          <a:graphicData uri="http://schemas.openxmlformats.org/drawingml/2006/table">
            <a:tbl>
              <a:tblPr/>
              <a:tblGrid>
                <a:gridCol w="461880"/>
                <a:gridCol w="693720"/>
                <a:gridCol w="927360"/>
                <a:gridCol w="847440"/>
                <a:gridCol w="1001880"/>
                <a:gridCol w="693720"/>
                <a:gridCol w="770040"/>
                <a:gridCol w="617400"/>
                <a:gridCol w="692280"/>
              </a:tblGrid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Object 98"/>
          <p:cNvGraphicFramePr/>
          <p:nvPr/>
        </p:nvGraphicFramePr>
        <p:xfrm>
          <a:off x="457200" y="3809880"/>
          <a:ext cx="311004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31100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99"/>
          <p:cNvGraphicFramePr/>
          <p:nvPr/>
        </p:nvGraphicFramePr>
        <p:xfrm>
          <a:off x="4419720" y="3809880"/>
          <a:ext cx="310968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809880"/>
                    <a:ext cx="31096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012680" y="685800"/>
            <a:ext cx="6836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P*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= de prij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91120" y="1676520"/>
          <a:ext cx="4038480" cy="4140000"/>
        </p:xfrm>
        <a:graphic>
          <a:graphicData uri="http://schemas.openxmlformats.org/drawingml/2006/table">
            <a:tbl>
              <a:tblPr/>
              <a:tblGrid>
                <a:gridCol w="1922400"/>
                <a:gridCol w="211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50"/>
          <p:cNvGraphicFramePr/>
          <p:nvPr/>
        </p:nvGraphicFramePr>
        <p:xfrm>
          <a:off x="4800600" y="3809880"/>
          <a:ext cx="402444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9880"/>
                    <a:ext cx="40244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209680"/>
          <a:ext cx="4038480" cy="4478400"/>
        </p:xfrm>
        <a:graphic>
          <a:graphicData uri="http://schemas.openxmlformats.org/drawingml/2006/table">
            <a:tbl>
              <a:tblPr/>
              <a:tblGrid>
                <a:gridCol w="1922400"/>
                <a:gridCol w="211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Object 57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50"/>
          <p:cNvGraphicFramePr/>
          <p:nvPr/>
        </p:nvGraphicFramePr>
        <p:xfrm>
          <a:off x="4800600" y="3809880"/>
          <a:ext cx="402444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9880"/>
                    <a:ext cx="40244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71800" y="3108240"/>
            <a:ext cx="14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i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otale koste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stante 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Huur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vaste loon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ariabele 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materiaal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inkop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50" name="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1981080"/>
            <a:ext cx="2438280" cy="1981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705720" y="4572000"/>
            <a:ext cx="2438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bruiker</cp:lastModifiedBy>
  <dcterms:modified xsi:type="dcterms:W3CDTF">2011-11-15T08:21:0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