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71E64-8942-4AD0-9361-36CC6ED53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44BF6-BEA0-4BD2-88E6-EE2002DA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C3728-B49B-46C0-BC35-CF3C70850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D6020-2272-4513-8CF9-DD3C1D07D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94C1-F850-4907-8596-C5DFF5265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C4AB-2908-4C23-8E66-405F1C68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33CF-EF89-46DE-A973-CB67AF15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9211-DC8A-4DB5-9D74-FAD30B6C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6DB7-5ECC-4EBD-8BF3-2A4C05FD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1707-C77D-4E77-A946-5A6969A8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BD1A-A23E-44D8-8433-8937C0D7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715D8-8AF0-408E-BA8A-EF535F71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AA0C-DC16-4D83-956E-0133DA65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E53D-507D-4129-BC29-0D0E64A9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D80E-7C34-47A3-83CC-EAC070C1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B022-7E4C-47C9-BE0B-BEF5F3643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E308-0D5D-4B47-906F-31643D002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541D9-4AF2-4DAF-9F52-C6B08DC4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73E81-CA3F-4B3C-81EA-6F74B28D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F36BE-29E2-4EE1-9558-74A02FEB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1071A-9DBB-4E2C-9E29-98E85576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6553E-9434-4A95-A0DB-C02FC075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7CCE3-CAF9-4572-BDDA-1DFD4A56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02E52-08E0-4F5F-92C7-29A8052D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FE00-522E-40CD-A319-82404B17F19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514"/>
                  </a:gs>
                  <a:gs pos="100000">
                    <a:srgbClr val="00051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514"/>
                  </a:gs>
                  <a:gs pos="100000">
                    <a:srgbClr val="00051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410"/>
                  </a:gs>
                  <a:gs pos="100000">
                    <a:srgbClr val="00051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412"/>
                  </a:gs>
                  <a:gs pos="100000">
                    <a:srgbClr val="00051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411"/>
                </a:gs>
                <a:gs pos="100000">
                  <a:srgbClr val="000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514"/>
                  </a:gs>
                  <a:gs pos="100000">
                    <a:srgbClr val="00051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514"/>
                  </a:gs>
                  <a:gs pos="100000">
                    <a:srgbClr val="00051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410"/>
                  </a:gs>
                  <a:gs pos="100000">
                    <a:srgbClr val="00051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412"/>
                  </a:gs>
                  <a:gs pos="100000">
                    <a:srgbClr val="00051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411"/>
                </a:gs>
                <a:gs pos="100000">
                  <a:srgbClr val="000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0BE5-0C7B-4B4F-91C3-75725547A31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26920" y="1676160"/>
            <a:ext cx="684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Vaak moet je een reeks getallen (bijvoorbeeld de omzet van een bedrijf in de periode 2008 t/m 2011) met elkaar vergelijke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Ander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omzet van Filiaal B in de periode 2008 – 2011. In 2011 bedroeg de omzet € 130.9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00000" y="3213000"/>
          <a:ext cx="7848720" cy="1849680"/>
        </p:xfrm>
        <a:graphic>
          <a:graphicData uri="http://schemas.openxmlformats.org/drawingml/2006/table">
            <a:tbl>
              <a:tblPr/>
              <a:tblGrid>
                <a:gridCol w="1224000"/>
                <a:gridCol w="1916280"/>
                <a:gridCol w="1468440"/>
                <a:gridCol w="1871640"/>
                <a:gridCol w="1368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B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Ander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omzet van Filiaal B in de periode 2008 – 2011. In 2011 bedroeg de omzet € 130.9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00000" y="3213000"/>
          <a:ext cx="7848720" cy="1849680"/>
        </p:xfrm>
        <a:graphic>
          <a:graphicData uri="http://schemas.openxmlformats.org/drawingml/2006/table">
            <a:tbl>
              <a:tblPr/>
              <a:tblGrid>
                <a:gridCol w="1224000"/>
                <a:gridCol w="1916280"/>
                <a:gridCol w="1468440"/>
                <a:gridCol w="1871640"/>
                <a:gridCol w="1368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B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30.9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Ander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omzet van Filiaal B in de periode 2008 – 2011. In 2011 bedroeg de omzet € 130.9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00000" y="3213000"/>
          <a:ext cx="7848720" cy="1849680"/>
        </p:xfrm>
        <a:graphic>
          <a:graphicData uri="http://schemas.openxmlformats.org/drawingml/2006/table">
            <a:tbl>
              <a:tblPr/>
              <a:tblGrid>
                <a:gridCol w="1224000"/>
                <a:gridCol w="1916280"/>
                <a:gridCol w="1468440"/>
                <a:gridCol w="1871640"/>
                <a:gridCol w="1368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B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12.2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30.9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sp>
        <p:nvSpPr>
          <p:cNvPr id="138" name="Tekstvak 2"/>
          <p:cNvSpPr/>
          <p:nvPr/>
        </p:nvSpPr>
        <p:spPr>
          <a:xfrm>
            <a:off x="826920" y="58770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</a:rPr>
              <a:t>De omzet in 2010 is € 130.900 / 119 x 102 = € 112.200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Ander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omzet van Filiaal B in de periode 2008 – 2011. In 2011 bedroeg de omzet € 130.9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00000" y="3213000"/>
          <a:ext cx="7848720" cy="1849680"/>
        </p:xfrm>
        <a:graphic>
          <a:graphicData uri="http://schemas.openxmlformats.org/drawingml/2006/table">
            <a:tbl>
              <a:tblPr/>
              <a:tblGrid>
                <a:gridCol w="1224000"/>
                <a:gridCol w="1916280"/>
                <a:gridCol w="1468440"/>
                <a:gridCol w="1871640"/>
                <a:gridCol w="1368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B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24.3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2.2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30.9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sp>
        <p:nvSpPr>
          <p:cNvPr id="142" name="Tekstvak 2"/>
          <p:cNvSpPr/>
          <p:nvPr/>
        </p:nvSpPr>
        <p:spPr>
          <a:xfrm>
            <a:off x="826920" y="58770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</a:rPr>
              <a:t>De omzet in 2009 is € 130.900 / 119 x 113 = € 124.300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Ander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omzet van Filiaal B in de periode 2008 – 2011. In 2011 bedroeg de omzet € 130.9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00000" y="3213000"/>
          <a:ext cx="7848720" cy="1849680"/>
        </p:xfrm>
        <a:graphic>
          <a:graphicData uri="http://schemas.openxmlformats.org/drawingml/2006/table">
            <a:tbl>
              <a:tblPr/>
              <a:tblGrid>
                <a:gridCol w="1224000"/>
                <a:gridCol w="1916280"/>
                <a:gridCol w="1468440"/>
                <a:gridCol w="1871640"/>
                <a:gridCol w="1368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B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1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24.3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2.2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30.9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sp>
        <p:nvSpPr>
          <p:cNvPr id="146" name="Tekstvak 2"/>
          <p:cNvSpPr/>
          <p:nvPr/>
        </p:nvSpPr>
        <p:spPr>
          <a:xfrm>
            <a:off x="826920" y="58770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</a:rPr>
              <a:t>De omzet in 2008 (basisjaar) is € 130.900 / 119 x 100 = € 110.000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Ander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Door het gebruik van indexcijfers wordt vergelijken van de gegevens makkelijker …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900000" y="3213000"/>
          <a:ext cx="7848720" cy="1849680"/>
        </p:xfrm>
        <a:graphic>
          <a:graphicData uri="http://schemas.openxmlformats.org/drawingml/2006/table">
            <a:tbl>
              <a:tblPr/>
              <a:tblGrid>
                <a:gridCol w="1224000"/>
                <a:gridCol w="1916280"/>
                <a:gridCol w="1468440"/>
                <a:gridCol w="1871640"/>
                <a:gridCol w="1368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B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24.3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2.2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30.9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Ander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Omzet Filiaal B is met 19% gegroeid ten opzichte van het basisjaar    (Filiaal A met 11%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00000" y="3213000"/>
          <a:ext cx="7848720" cy="1849680"/>
        </p:xfrm>
        <a:graphic>
          <a:graphicData uri="http://schemas.openxmlformats.org/drawingml/2006/table">
            <a:tbl>
              <a:tblPr/>
              <a:tblGrid>
                <a:gridCol w="1224000"/>
                <a:gridCol w="1916280"/>
                <a:gridCol w="1468440"/>
                <a:gridCol w="1871640"/>
                <a:gridCol w="1368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B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24.3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2.2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30.9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Ander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Filiaal B heeft nooit een lagere omzet dan basisjaar behaald (geen index onder de 100) en Filiaal A wel (index 94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900000" y="3213000"/>
          <a:ext cx="7848720" cy="1849680"/>
        </p:xfrm>
        <a:graphic>
          <a:graphicData uri="http://schemas.openxmlformats.org/drawingml/2006/table">
            <a:tbl>
              <a:tblPr/>
              <a:tblGrid>
                <a:gridCol w="1224000"/>
                <a:gridCol w="1916280"/>
                <a:gridCol w="1468440"/>
                <a:gridCol w="1871640"/>
                <a:gridCol w="1368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B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24.3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2.2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30.9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Laatste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</a:rPr>
              <a:t>Soms wordt het basisjaar veranderd…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00000" y="3213000"/>
          <a:ext cx="6096240" cy="18543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Laatste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Bereken de indexcijfers opnieuw maar nu met 2010 als basisjaar …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Indexcijfer 2010 wordt nu 100 …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900000" y="3213000"/>
          <a:ext cx="6096240" cy="18543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Vaak moet je een reeks getallen (bijvoorbeeld de omzet van een bedrijf in de periode 2008 t/m 2011) met elkaar vergelijke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Het werken met indexcijfers maakt het makkelijker getallen te vergelijken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Laatste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Bereken de indexcijfers opnieuw maar nu met 2010 als basisjaar …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Indexcijfer 2008 wordt nu € 220.000 / € 207.000 x 100 = 106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00000" y="3213000"/>
          <a:ext cx="6096240" cy="18543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06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Laatste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Bereken de indexcijfers opnieuw maar nu met 2010 als basisjaar …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Indexcijfers 2009 en 2011 worden nu 108 en 11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900000" y="3213000"/>
          <a:ext cx="6096240" cy="18543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6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1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4"/>
          <p:cNvSpPr txBox="1"/>
          <p:nvPr/>
        </p:nvSpPr>
        <p:spPr>
          <a:xfrm>
            <a:off x="3203640" y="2492280"/>
            <a:ext cx="302400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ind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Vaak moet je een reeks getallen (bijvoorbeeld de omzet van een bedrijf in de periode 2008 t/m 2011) met elkaar vergelijke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Het werken met indexcijfers maakt het makkelijker getallen te vergelijken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</a:t>
            </a: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indexcijfers van Filiaal A in de periode 2008 – 2011(met 2008 als basisjaar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00000" y="3213000"/>
          <a:ext cx="6096240" cy="18543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Voorbeeld 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indexcijfers van Filiaal A in de periode 2008 – 2011(met 2008 als basisjaar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Het jaar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 waarmee we alle andere periodes vergelijken noemen we het basisjaar. Dit basisjaar krijgt het indexcijfer 100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00000" y="3213000"/>
          <a:ext cx="6096240" cy="1849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cxnSp>
        <p:nvCxnSpPr>
          <p:cNvPr id="112" name="Rechte verbindingslijn met pijl 3"/>
          <p:cNvCxnSpPr/>
          <p:nvPr/>
        </p:nvCxnSpPr>
        <p:spPr>
          <a:xfrm flipV="1">
            <a:off x="1476360" y="3860280"/>
            <a:ext cx="3456720" cy="2305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Voorbeeld 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indexcijfers van Filiaal A in de periode 2008 – 2011(met 2008 als basisjaar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00000" y="3213000"/>
          <a:ext cx="6096240" cy="1849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sp>
        <p:nvSpPr>
          <p:cNvPr id="116" name="Tekstvak 2"/>
          <p:cNvSpPr/>
          <p:nvPr/>
        </p:nvSpPr>
        <p:spPr>
          <a:xfrm>
            <a:off x="900000" y="5805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Het indexcijfers van 2009 wordt :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Indexcijfer jaar 2009 = Waarde van jaar 2009 / Waarde basisjaar x 100 =          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                                                  </a:t>
            </a: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223.000       /  220.000              x 100 =  101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Voorbeeld 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indexcijfers van Filiaal A in de periode 2008 – 2011(met 2008 als basisjaar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00000" y="3213000"/>
          <a:ext cx="6096240" cy="1849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sp>
        <p:nvSpPr>
          <p:cNvPr id="120" name="Tekstvak 2"/>
          <p:cNvSpPr/>
          <p:nvPr/>
        </p:nvSpPr>
        <p:spPr>
          <a:xfrm>
            <a:off x="900000" y="5805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Het indexcijfers van 2010 wordt :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Indexcijfer jaar 2010 = Waarde van jaar 2010 / Waarde basisjaar x 100 =          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                                                  </a:t>
            </a: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207.000       /  220.000              x 100 =  94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Voorbeeld 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indexcijfers van Filiaal A in de periode 2008 – 2011(met 2008 als basisjaar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00000" y="3213000"/>
          <a:ext cx="6096240" cy="1849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sp>
        <p:nvSpPr>
          <p:cNvPr id="124" name="Tekstvak 2"/>
          <p:cNvSpPr/>
          <p:nvPr/>
        </p:nvSpPr>
        <p:spPr>
          <a:xfrm>
            <a:off x="900000" y="5805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Het indexcijfers van 2011 wordt :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Indexcijfer jaar 2011 = Waarde van jaar 2011 / Waarde basisjaar x 100 =          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                                                  </a:t>
            </a: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245.000       /  220.000              x 100 =  111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indexcijfers van Filiaal A in de periode 2008 – 2011(met 2008 als basisjaar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00000" y="3213000"/>
          <a:ext cx="6096240" cy="1849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sp>
        <p:nvSpPr>
          <p:cNvPr id="128" name="Tekstvak 2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Indexcijfers worden vaak afgerond op hele getallen (tenzij anders vermeld)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0:42:59Z</dcterms:created>
  <dc:creator/>
  <dc:description/>
  <dc:language>en-US</dc:language>
  <cp:lastModifiedBy>J. de Jong</cp:lastModifiedBy>
  <dcterms:modified xsi:type="dcterms:W3CDTF">2011-10-08T17:45:20Z</dcterms:modified>
  <cp:revision>39</cp:revision>
  <dc:subject/>
  <dc:title>Indexcijfers</dc:title>
</cp:coreProperties>
</file>