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D8E-39CF-4678-AD16-4A230677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7F1-6FD1-4907-A1CE-C4F0B878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B95-E69F-4C6B-97D7-86994A01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507-6FDC-4C6A-87C9-13724ABF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4E1-5902-4978-81E5-7E30EC3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011-0D0B-4FB3-9C8E-3112320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C50-1FFE-44FD-A824-EF31BA9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AA6-A6A6-4FFD-8908-C515ACB1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C03-00E9-4B15-B4A4-31FCD72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430-0352-4A2F-B5C6-99F1793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305-DE35-437B-9571-47E057E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BFC-56B6-4116-A9E3-B3C538B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E5C-9E3D-4B51-85C0-034E6BDEF2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k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ph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865080"/>
                <a:gridCol w="868320"/>
                <a:gridCol w="865080"/>
                <a:gridCol w="1119240"/>
                <a:gridCol w="8938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946080"/>
                <a:gridCol w="787320"/>
                <a:gridCol w="865080"/>
                <a:gridCol w="1119240"/>
                <a:gridCol w="893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524720" y="620640"/>
          <a:ext cx="1079640" cy="6381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8:43:47Z</dcterms:created>
  <dc:creator>gebruiker</dc:creator>
  <dc:description/>
  <dc:language>en-US</dc:language>
  <cp:lastModifiedBy>Alberts, R.J.</cp:lastModifiedBy>
  <dcterms:modified xsi:type="dcterms:W3CDTF">2015-11-04T13:23:17Z</dcterms:modified>
  <cp:revision>8</cp:revision>
  <dc:subject/>
  <dc:title>Marginale kosten en opbrengsten</dc:title>
</cp:coreProperties>
</file>