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8577-07DB-42AD-A447-E825FEE9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890A-7B81-438A-BB4E-804431E6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EE55-9A6B-490E-B8D8-8BD80D0D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BC8A-D6B6-4079-9111-BA672A10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0384-5712-4045-BB5B-E7F68F35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84D3-A4F3-456C-8828-3161E555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9DF2-A0B7-4CCF-B09A-A6C03639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5088-83CD-4064-B123-7DB90ED3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95A3-DD5E-4224-B3C9-36C85091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0432-0475-4556-A619-81ABBFAE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809A-9D4E-4DD1-A539-854DCE07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62C7-A2B0-4737-AA7B-6EA42D4F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8F3A-354F-46E1-9C35-F32FD46C913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Prijselasticiteit van de vraa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514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komenselasticite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5"/>
          <p:cNvSpPr/>
          <p:nvPr/>
        </p:nvSpPr>
        <p:spPr>
          <a:xfrm>
            <a:off x="5715000" y="2971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ls het inkomen toeneemt, wordt er meer gekocht van dit produ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7"/>
          <p:cNvSpPr/>
          <p:nvPr/>
        </p:nvSpPr>
        <p:spPr>
          <a:xfrm>
            <a:off x="13716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562720" y="5257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9,09% / 16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/3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% = 0,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38680" y="5791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Wat zegt deze uitkom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Object 41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Object 42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6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0,5 naar 1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47"/>
          <p:cNvSpPr/>
          <p:nvPr/>
        </p:nvSpPr>
        <p:spPr>
          <a:xfrm>
            <a:off x="4648320" y="502920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8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20% / 100% = -0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2 naar 2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2"/>
          <p:cNvSpPr/>
          <p:nvPr/>
        </p:nvSpPr>
        <p:spPr>
          <a:xfrm>
            <a:off x="4648320" y="327672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50% / 25% = 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2,5 naar 2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100% / -20% =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44"/>
          <p:cNvSpPr/>
          <p:nvPr/>
        </p:nvSpPr>
        <p:spPr>
          <a:xfrm>
            <a:off x="4800600" y="327672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41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1 naar 0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25% / -50% = -0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4724280" y="502920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an</dc:creator>
  <dc:description/>
  <dc:language>en-US</dc:language>
  <cp:lastModifiedBy>Alberts, Johan</cp:lastModifiedBy>
  <dcterms:modified xsi:type="dcterms:W3CDTF">2014-10-01T13:37:5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