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jpeg" ContentType="image/jpeg"/>
  <Override PartName="/ppt/media/image5.wmf" ContentType="image/x-wmf"/>
  <Override PartName="/ppt/media/image28.wmf" ContentType="image/x-wmf"/>
  <Override PartName="/ppt/media/image2.wmf" ContentType="image/x-wmf"/>
  <Override PartName="/ppt/media/image25.wmf" ContentType="image/x-wmf"/>
  <Override PartName="/ppt/media/image3.jpeg" ContentType="image/jpeg"/>
  <Override PartName="/ppt/media/image1.png" ContentType="image/png"/>
  <Override PartName="/ppt/media/image27.wmf" ContentType="image/x-wmf"/>
  <Override PartName="/ppt/media/image15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D4B9-3E00-433D-B05D-46BFE2164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DD3D-EBE2-4435-A60F-A6339E4D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9F51-57CA-4E90-89E0-7EF39D62C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196F-8894-4852-BA5E-8E6BBC8DF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CE9C-A58F-4E9E-8F53-57EA07048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7845-C94D-452E-9273-C207BEF6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DCA3-241C-4C1F-A6D4-E7212C2B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9C3D-9683-4FB1-869D-4930C8C1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1EA4-770B-4561-BD3A-62247E9E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8F98-F737-4504-90DA-109A51C8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81F9-DCF9-467C-AF17-9996F78B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0B7A-7F97-4A18-8CD2-39E7D3F5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7D61-9D56-4B3E-B43E-54E2B6EB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30E1D-6AB6-4A39-AA64-0C550EF2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E52C-8465-43C2-B8CE-8E0BB8BF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D2BF-B99F-47A4-A40F-AACF42207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0738-CFF3-4FB9-BE62-36B927BFD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96338-EE4D-4894-8756-76E7976D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C0AB4-9CF5-41A6-BB9B-C1E2FB01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C8D32-F972-4FFE-8102-999C5D4B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74C76-EB6D-4793-95C5-4B93331F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AF127-2554-4563-999E-B50861F9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52EC-6380-4900-A870-7F7461B3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3DBFE-BE87-4A56-9797-4A51850B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49B2D-401F-4AB8-8C56-0CE4DF4E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CBF80-0441-4A3D-A0C9-EAB48601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156ED-4B0B-4F5A-9A0E-9E41D8BD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23AAA-1719-4B0E-B397-FD8F6744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0502C-D64D-4FB8-A133-A69690154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06A8D-B3B9-4F4E-93E9-9FFBC1C1C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56D2-0879-4C92-8CD1-D27F3BF0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85C6-E880-4619-94A7-3C9CD096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AAE1-7306-4F1D-8A6B-E779254D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2C61-C3FF-4F0B-97B8-4B745DB8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D320-D476-44E5-AA47-1B0D8A5E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3374-8C3B-47FB-BC3C-7C9D63D4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hoek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hthoek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hthoek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hthoek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hthoek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hthoek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hthoek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hthoek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hthoek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0774-F4AE-4962-8B3A-2464F136ACB4}" type="slidenum">
              <a:rPr b="0" lang="nl-NL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A019-CC2D-4138-A87E-C81820D8793F}" type="slidenum">
              <a:rPr b="0" lang="nl-NL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hthoek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hthoek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hthoek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hthoek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hthoek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hthoek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hthoek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hthoek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hthoek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E1C8-9668-4064-A46E-BCA51A994B40}" type="slidenum">
              <a:rPr b="0" lang="nl-NL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-inc.nl/uploads/photos/5596_distributiecentrum_tnt_post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Rectangle 2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012680" y="685800"/>
            <a:ext cx="6836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 +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57200" y="2209680"/>
          <a:ext cx="3581280" cy="44784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720"/>
                <a:gridCol w="99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Object 32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914400" y="304920"/>
            <a:ext cx="6835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= 8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 +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= Totale opbrengst  TK = Totale kosten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7200" y="2133720"/>
          <a:ext cx="5181480" cy="447804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  <a:gridCol w="914400"/>
                <a:gridCol w="990720"/>
                <a:gridCol w="990720"/>
                <a:gridCol w="99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914400" y="304920"/>
            <a:ext cx="6835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= 8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 +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= Totale opbrengst  TK = Totale kost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2133720"/>
          <a:ext cx="5181480" cy="447804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  <a:gridCol w="914400"/>
                <a:gridCol w="990720"/>
                <a:gridCol w="990720"/>
                <a:gridCol w="99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Object 68"/>
          <p:cNvGraphicFramePr/>
          <p:nvPr/>
        </p:nvGraphicFramePr>
        <p:xfrm>
          <a:off x="5791320" y="0"/>
          <a:ext cx="310968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6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0"/>
                    <a:ext cx="310968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PIJL-LINKS 72"/>
          <p:cNvSpPr/>
          <p:nvPr/>
        </p:nvSpPr>
        <p:spPr>
          <a:xfrm>
            <a:off x="5867280" y="3352680"/>
            <a:ext cx="1143000" cy="304920"/>
          </a:xfrm>
          <a:prstGeom prst="leftArrow">
            <a:avLst>
              <a:gd name="adj1" fmla="val 50000"/>
              <a:gd name="adj2" fmla="val 49980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kstvak 73"/>
          <p:cNvSpPr/>
          <p:nvPr/>
        </p:nvSpPr>
        <p:spPr>
          <a:xfrm>
            <a:off x="7238880" y="335268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reak even pu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457200" y="274680"/>
          <a:ext cx="6705720" cy="5851440"/>
        </p:xfrm>
        <a:graphic>
          <a:graphicData uri="http://schemas.openxmlformats.org/drawingml/2006/table">
            <a:tbl>
              <a:tblPr/>
              <a:tblGrid>
                <a:gridCol w="457200"/>
                <a:gridCol w="685800"/>
                <a:gridCol w="914400"/>
                <a:gridCol w="838080"/>
                <a:gridCol w="990720"/>
                <a:gridCol w="685800"/>
                <a:gridCol w="762120"/>
                <a:gridCol w="609480"/>
                <a:gridCol w="76212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O/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/M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457200" y="274680"/>
          <a:ext cx="6705720" cy="5851440"/>
        </p:xfrm>
        <a:graphic>
          <a:graphicData uri="http://schemas.openxmlformats.org/drawingml/2006/table">
            <a:tbl>
              <a:tblPr/>
              <a:tblGrid>
                <a:gridCol w="457200"/>
                <a:gridCol w="685800"/>
                <a:gridCol w="914400"/>
                <a:gridCol w="838080"/>
                <a:gridCol w="990720"/>
                <a:gridCol w="685800"/>
                <a:gridCol w="762120"/>
                <a:gridCol w="609480"/>
                <a:gridCol w="76212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O/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/M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457200" y="274680"/>
          <a:ext cx="6705720" cy="5851440"/>
        </p:xfrm>
        <a:graphic>
          <a:graphicData uri="http://schemas.openxmlformats.org/drawingml/2006/table">
            <a:tbl>
              <a:tblPr/>
              <a:tblGrid>
                <a:gridCol w="457200"/>
                <a:gridCol w="685800"/>
                <a:gridCol w="914400"/>
                <a:gridCol w="838080"/>
                <a:gridCol w="990720"/>
                <a:gridCol w="685800"/>
                <a:gridCol w="762120"/>
                <a:gridCol w="609480"/>
                <a:gridCol w="76212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O/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/M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457200" y="274680"/>
          <a:ext cx="6705720" cy="5851440"/>
        </p:xfrm>
        <a:graphic>
          <a:graphicData uri="http://schemas.openxmlformats.org/drawingml/2006/table">
            <a:tbl>
              <a:tblPr/>
              <a:tblGrid>
                <a:gridCol w="457200"/>
                <a:gridCol w="685800"/>
                <a:gridCol w="914400"/>
                <a:gridCol w="838080"/>
                <a:gridCol w="990720"/>
                <a:gridCol w="685800"/>
                <a:gridCol w="762120"/>
                <a:gridCol w="609480"/>
                <a:gridCol w="76212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O/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/M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457200" y="274680"/>
          <a:ext cx="6705720" cy="5851440"/>
        </p:xfrm>
        <a:graphic>
          <a:graphicData uri="http://schemas.openxmlformats.org/drawingml/2006/table">
            <a:tbl>
              <a:tblPr/>
              <a:tblGrid>
                <a:gridCol w="457200"/>
                <a:gridCol w="685800"/>
                <a:gridCol w="914400"/>
                <a:gridCol w="838080"/>
                <a:gridCol w="990720"/>
                <a:gridCol w="685800"/>
                <a:gridCol w="762120"/>
                <a:gridCol w="609480"/>
                <a:gridCol w="76212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O/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/M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457200" y="274680"/>
          <a:ext cx="6705720" cy="3036960"/>
        </p:xfrm>
        <a:graphic>
          <a:graphicData uri="http://schemas.openxmlformats.org/drawingml/2006/table">
            <a:tbl>
              <a:tblPr/>
              <a:tblGrid>
                <a:gridCol w="461880"/>
                <a:gridCol w="693720"/>
                <a:gridCol w="927360"/>
                <a:gridCol w="847440"/>
                <a:gridCol w="1001880"/>
                <a:gridCol w="693720"/>
                <a:gridCol w="770040"/>
                <a:gridCol w="617400"/>
                <a:gridCol w="692280"/>
              </a:tblGrid>
              <a:tr h="38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O/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/M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8" name="Object 98"/>
          <p:cNvGraphicFramePr/>
          <p:nvPr/>
        </p:nvGraphicFramePr>
        <p:xfrm>
          <a:off x="457200" y="3809880"/>
          <a:ext cx="311004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9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9880"/>
                    <a:ext cx="311004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Object 99"/>
          <p:cNvGraphicFramePr/>
          <p:nvPr/>
        </p:nvGraphicFramePr>
        <p:xfrm>
          <a:off x="4419720" y="3809880"/>
          <a:ext cx="3109680" cy="268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Object 9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3809880"/>
                    <a:ext cx="31096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niet proportioneel variabel, maar pro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1012680" y="685800"/>
            <a:ext cx="68360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= P*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= 8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= Totale opbreng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 = de prij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191120" y="1676520"/>
          <a:ext cx="4038480" cy="4140000"/>
        </p:xfrm>
        <a:graphic>
          <a:graphicData uri="http://schemas.openxmlformats.org/drawingml/2006/table">
            <a:tbl>
              <a:tblPr/>
              <a:tblGrid>
                <a:gridCol w="1922400"/>
                <a:gridCol w="2116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niet proportioneel variabel, maar pro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niet proportioneel variabel, maar pro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3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niet proportioneel variabel, maar pro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8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niet proportioneel variabel, maar pro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3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niet proportioneel variabel, maar pro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8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523880" y="380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j progressief variabele kosten zijn de gemiddelde variabele kosten niet gelijk aan de marginale kos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14400" y="1143000"/>
          <a:ext cx="3471840" cy="5553000"/>
        </p:xfrm>
        <a:graphic>
          <a:graphicData uri="http://schemas.openxmlformats.org/drawingml/2006/table">
            <a:tbl>
              <a:tblPr/>
              <a:tblGrid>
                <a:gridCol w="592200"/>
                <a:gridCol w="958680"/>
                <a:gridCol w="962280"/>
                <a:gridCol w="958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523880" y="380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j progressief variabele kosten zijn de gemiddelde variabele kosten niet gelijk aan de marginale kos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914400" y="1143000"/>
          <a:ext cx="3471840" cy="5553000"/>
        </p:xfrm>
        <a:graphic>
          <a:graphicData uri="http://schemas.openxmlformats.org/drawingml/2006/table">
            <a:tbl>
              <a:tblPr/>
              <a:tblGrid>
                <a:gridCol w="592200"/>
                <a:gridCol w="958680"/>
                <a:gridCol w="962280"/>
                <a:gridCol w="958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Object 50"/>
          <p:cNvGraphicFramePr/>
          <p:nvPr/>
        </p:nvGraphicFramePr>
        <p:xfrm>
          <a:off x="4800600" y="1143000"/>
          <a:ext cx="402444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143000"/>
                    <a:ext cx="40244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523880" y="380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j progressief variabele kosten zijn de gemiddelde variabele kosten niet gelijk aan de marginale kos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914400" y="1143000"/>
          <a:ext cx="3471840" cy="5553000"/>
        </p:xfrm>
        <a:graphic>
          <a:graphicData uri="http://schemas.openxmlformats.org/drawingml/2006/table">
            <a:tbl>
              <a:tblPr/>
              <a:tblGrid>
                <a:gridCol w="592200"/>
                <a:gridCol w="958680"/>
                <a:gridCol w="962280"/>
                <a:gridCol w="958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8" name="Object 50"/>
          <p:cNvGraphicFramePr/>
          <p:nvPr/>
        </p:nvGraphicFramePr>
        <p:xfrm>
          <a:off x="4800600" y="1143000"/>
          <a:ext cx="402444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143000"/>
                    <a:ext cx="40244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23880" y="380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j progressief variabele kosten zijn de gemiddelde variabele kosten niet gelijk aan de marginale kos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914400" y="1143000"/>
          <a:ext cx="3471840" cy="5553000"/>
        </p:xfrm>
        <a:graphic>
          <a:graphicData uri="http://schemas.openxmlformats.org/drawingml/2006/table">
            <a:tbl>
              <a:tblPr/>
              <a:tblGrid>
                <a:gridCol w="592200"/>
                <a:gridCol w="958680"/>
                <a:gridCol w="962280"/>
                <a:gridCol w="958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2" name="Object 50"/>
          <p:cNvGraphicFramePr/>
          <p:nvPr/>
        </p:nvGraphicFramePr>
        <p:xfrm>
          <a:off x="4800600" y="1143000"/>
          <a:ext cx="402444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143000"/>
                    <a:ext cx="40244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50"/>
          <p:cNvGraphicFramePr/>
          <p:nvPr/>
        </p:nvGraphicFramePr>
        <p:xfrm>
          <a:off x="4800600" y="3809880"/>
          <a:ext cx="4024440" cy="268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Object 5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809880"/>
                    <a:ext cx="402444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de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0,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1012680" y="685800"/>
            <a:ext cx="6836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= 8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= Totale opbreng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2209680"/>
          <a:ext cx="4038480" cy="4478400"/>
        </p:xfrm>
        <a:graphic>
          <a:graphicData uri="http://schemas.openxmlformats.org/drawingml/2006/table">
            <a:tbl>
              <a:tblPr/>
              <a:tblGrid>
                <a:gridCol w="1922400"/>
                <a:gridCol w="2116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6" name="Object 57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5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de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0,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de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0,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7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de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0,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2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de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0,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,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,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,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7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de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0,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,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,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,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2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523880" y="380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ok bij degressief variabele kosten zijn de gemiddelde variabele kosten niet gelijk aan de marginale kos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914400" y="1143000"/>
          <a:ext cx="3471840" cy="5553000"/>
        </p:xfrm>
        <a:graphic>
          <a:graphicData uri="http://schemas.openxmlformats.org/drawingml/2006/table">
            <a:tbl>
              <a:tblPr/>
              <a:tblGrid>
                <a:gridCol w="592200"/>
                <a:gridCol w="958680"/>
                <a:gridCol w="962280"/>
                <a:gridCol w="958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523880" y="380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ok bij degressief variabele kosten zijn de gemiddelde variabele kosten niet gelijk aan de marginale kos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914400" y="1143000"/>
          <a:ext cx="3471840" cy="5553000"/>
        </p:xfrm>
        <a:graphic>
          <a:graphicData uri="http://schemas.openxmlformats.org/drawingml/2006/table">
            <a:tbl>
              <a:tblPr/>
              <a:tblGrid>
                <a:gridCol w="592200"/>
                <a:gridCol w="958680"/>
                <a:gridCol w="962280"/>
                <a:gridCol w="958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8" name="Object 50"/>
          <p:cNvGraphicFramePr/>
          <p:nvPr/>
        </p:nvGraphicFramePr>
        <p:xfrm>
          <a:off x="4800600" y="1143000"/>
          <a:ext cx="402444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143000"/>
                    <a:ext cx="40244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23880" y="380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ok bij degressief variabele kosten zijn de gemiddelde variabele kosten niet gelijk aan de marginale kos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914400" y="1143000"/>
          <a:ext cx="3471840" cy="5553000"/>
        </p:xfrm>
        <a:graphic>
          <a:graphicData uri="http://schemas.openxmlformats.org/drawingml/2006/table">
            <a:tbl>
              <a:tblPr/>
              <a:tblGrid>
                <a:gridCol w="592200"/>
                <a:gridCol w="958680"/>
                <a:gridCol w="962280"/>
                <a:gridCol w="958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2" name="Object 50"/>
          <p:cNvGraphicFramePr/>
          <p:nvPr/>
        </p:nvGraphicFramePr>
        <p:xfrm>
          <a:off x="4800600" y="1143000"/>
          <a:ext cx="402444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143000"/>
                    <a:ext cx="40244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523880" y="380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ok bij degressief variabele kosten zijn de gemiddelde variabele kosten niet gelijk aan de marginale kos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914400" y="1143000"/>
          <a:ext cx="3471840" cy="5553000"/>
        </p:xfrm>
        <a:graphic>
          <a:graphicData uri="http://schemas.openxmlformats.org/drawingml/2006/table">
            <a:tbl>
              <a:tblPr/>
              <a:tblGrid>
                <a:gridCol w="592200"/>
                <a:gridCol w="958680"/>
                <a:gridCol w="962280"/>
                <a:gridCol w="958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6" name="Object 50"/>
          <p:cNvGraphicFramePr/>
          <p:nvPr/>
        </p:nvGraphicFramePr>
        <p:xfrm>
          <a:off x="4800600" y="1143000"/>
          <a:ext cx="402444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143000"/>
                    <a:ext cx="40244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50"/>
          <p:cNvGraphicFramePr/>
          <p:nvPr/>
        </p:nvGraphicFramePr>
        <p:xfrm>
          <a:off x="4800600" y="3809880"/>
          <a:ext cx="4024440" cy="268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Object 5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809880"/>
                    <a:ext cx="402444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71800" y="3108240"/>
            <a:ext cx="1400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in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Totale koste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nstante koste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Huurkoste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vaste loonkoste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Variabele koste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materiaalkoste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inkope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50" name="" descr="Bekijk de afbeelding op ware groot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1981080"/>
            <a:ext cx="2438280" cy="19814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705720" y="4572000"/>
            <a:ext cx="24382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1012680" y="685800"/>
            <a:ext cx="6836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 +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57200" y="2209680"/>
          <a:ext cx="3581280" cy="44784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720"/>
                <a:gridCol w="99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012680" y="685800"/>
            <a:ext cx="6836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 +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57200" y="2209680"/>
          <a:ext cx="3581280" cy="44784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720"/>
                <a:gridCol w="99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6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012680" y="685800"/>
            <a:ext cx="6836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 +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2209680"/>
          <a:ext cx="3581280" cy="44784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720"/>
                <a:gridCol w="99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1012680" y="685800"/>
            <a:ext cx="6836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 +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7200" y="2209680"/>
          <a:ext cx="3581280" cy="44784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720"/>
                <a:gridCol w="99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4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1012680" y="685800"/>
            <a:ext cx="6836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 +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2209680"/>
          <a:ext cx="3581280" cy="44784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720"/>
                <a:gridCol w="99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8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bruiker</cp:lastModifiedBy>
  <dcterms:modified xsi:type="dcterms:W3CDTF">2011-11-15T08:21:08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