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9C926-A264-43CD-8CEA-665E6855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AB108-5B01-44E7-84EC-901C97B3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583DC-79FD-42C6-A391-89FC94FD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9AADF-30C2-4443-85B4-8A635B33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0F65-6099-4070-8CF4-46E1189A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4645-C7EB-453D-BFD9-142DE669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CE21-59FE-4B91-AE76-1F3F8C30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AC4F-C91F-4493-ABD9-E62110A4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E598-0B93-4AEB-B06D-7DD3E4F9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81F9-D96C-40C2-8FE4-4ED982F0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D9BD-D89A-4C17-B902-19926C84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9C665-D604-4C28-ABBF-FCA8A65D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96CC-2022-4769-AFEF-9BA9261F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BC74-AD63-4D12-A19A-772C79E6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DBC3-1713-4476-AC8E-AD320CD4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5563-40E9-4D46-A249-E3413152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C836-778D-4553-832C-67CD9BBC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F9EAE-2806-4186-B15E-06AB53CF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71DDD-5466-4357-960E-7D246C40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FE463-1AB1-4604-B51C-20E43984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6C30C-F374-4312-9039-05353C97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01DFB-EB87-43AF-AA88-CB319A60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AC551-D171-4ABA-8A08-24669720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4DE45-A51D-4278-9D6A-6FED8CB2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5BEC-5B0C-486B-B9CD-1EA32B0C60D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0"/>
                  </a:gs>
                  <a:gs pos="100000">
                    <a:srgbClr val="0005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2"/>
                  </a:gs>
                  <a:gs pos="100000">
                    <a:srgbClr val="00051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411"/>
                </a:gs>
                <a:gs pos="100000">
                  <a:srgbClr val="000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0"/>
                  </a:gs>
                  <a:gs pos="100000">
                    <a:srgbClr val="0005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2"/>
                  </a:gs>
                  <a:gs pos="100000">
                    <a:srgbClr val="00051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411"/>
                </a:gs>
                <a:gs pos="100000">
                  <a:srgbClr val="000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3F0C-708B-4E98-B51E-B22A708CBA8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26920" y="1676160"/>
            <a:ext cx="68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Vaak moet je een reeks getallen (bijvoorbeeld de omzet van een bedrijf in de periode 2008 t/m 2011) met elkaar vergelijke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omzet van Filiaal B in de periode 2008 – 2011. In 2011 bedroeg de omzet € 130.9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omzet van Filiaal B in de periode 2008 – 2011. In 2011 bedroeg de omzet € 130.9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omzet van Filiaal B in de periode 2008 – 2011. In 2011 bedroeg de omzet € 130.9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38" name="Tekstvak 2"/>
          <p:cNvSpPr/>
          <p:nvPr/>
        </p:nvSpPr>
        <p:spPr>
          <a:xfrm>
            <a:off x="826920" y="5877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</a:rPr>
              <a:t>De omzet in 2010 is € 130.900 / 119 x 102 = € 112.200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omzet van Filiaal B in de periode 2008 – 2011. In 2011 bedroeg de omzet € 130.9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24.3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42" name="Tekstvak 2"/>
          <p:cNvSpPr/>
          <p:nvPr/>
        </p:nvSpPr>
        <p:spPr>
          <a:xfrm>
            <a:off x="826920" y="5877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</a:rPr>
              <a:t>De omzet in 2009 is € 130.900 / 119 x 113 = € 124.300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omzet van Filiaal B in de periode 2008 – 2011. In 2011 bedroeg de omzet € 130.9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24.3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46" name="Tekstvak 2"/>
          <p:cNvSpPr/>
          <p:nvPr/>
        </p:nvSpPr>
        <p:spPr>
          <a:xfrm>
            <a:off x="826920" y="5877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</a:rPr>
              <a:t>De omzet in 2008 (basisjaar) is € 130.900 / 119 x 100 = € 110.000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Door het gebruik van indexcijfers wordt vergelijken van de gegevens makkelijker 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24.3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Omzet Filiaal B is met 19% gegroeid ten opzichte van het basisjaar    (Filiaal A met 11%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24.3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Filiaal B heeft nooit een lagere omzet dan basisjaar behaald (geen index onder de 100) en Filiaal A wel (index 94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24.3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Laatste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</a:rPr>
              <a:t>Soms wordt het basisjaar veranderd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00000" y="3213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Laatste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Bereken de indexcijfers opnieuw maar nu met 2010 als basisjaar 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 2010 wordt nu 100 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00000" y="3213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aak moet je een reeks getallen (bijvoorbeeld de omzet van een bedrijf in de periode 2008 t/m 2011) met elkaar vergelijke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Het werken met indexcijfers maakt het makkelijker getallen te vergelijken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Laatste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Bereken de indexcijfers opnieuw maar nu met 2010 als basisjaar 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 2008 wordt nu € 220.000 / € 207.000 x 100 = 10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00000" y="3213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Laatste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Bereken de indexcijfers opnieuw maar nu met 2010 als basisjaar 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s 2009 en 2011 worden nu 108 en 11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00000" y="3213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4"/>
          <p:cNvSpPr txBox="1"/>
          <p:nvPr/>
        </p:nvSpPr>
        <p:spPr>
          <a:xfrm>
            <a:off x="3203640" y="2492280"/>
            <a:ext cx="3024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ind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aak moet je een reeks getallen (bijvoorbeeld de omzet van een bedrijf in de periode 2008 t/m 2011) met elkaar vergelijke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Het werken met indexcijfers maakt het makkelijker getallen te vergelijken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</a:t>
            </a: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00000" y="3213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 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Het jaar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waarmee we alle andere periodes vergelijken noemen we het basisjaar. Dit basisjaar krijgt het indexcijfer 100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3213000"/>
          <a:ext cx="6096240" cy="1849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cxnSp>
        <p:nvCxnSpPr>
          <p:cNvPr id="112" name="Rechte verbindingslijn met pijl 3"/>
          <p:cNvCxnSpPr/>
          <p:nvPr/>
        </p:nvCxnSpPr>
        <p:spPr>
          <a:xfrm flipV="1">
            <a:off x="1476360" y="3860280"/>
            <a:ext cx="3456720" cy="2305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 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00000" y="3213000"/>
          <a:ext cx="6096240" cy="1849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16" name="Tekstvak 2"/>
          <p:cNvSpPr/>
          <p:nvPr/>
        </p:nvSpPr>
        <p:spPr>
          <a:xfrm>
            <a:off x="900000" y="5805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Het indexcijfers van 2009 wordt :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 jaar 2009 = Waarde van jaar 2009 / Waarde basisjaar x 100 =          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                                                 </a:t>
            </a: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223.000       /  220.000              x 100 =  101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 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3213000"/>
          <a:ext cx="6096240" cy="1849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20" name="Tekstvak 2"/>
          <p:cNvSpPr/>
          <p:nvPr/>
        </p:nvSpPr>
        <p:spPr>
          <a:xfrm>
            <a:off x="900000" y="5805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Het indexcijfers van 2010 wordt :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 jaar 2010 = Waarde van jaar 2010 / Waarde basisjaar x 100 =          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                                                 </a:t>
            </a: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207.000       /  220.000              x 100 =  94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 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00000" y="3213000"/>
          <a:ext cx="6096240" cy="1849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24" name="Tekstvak 2"/>
          <p:cNvSpPr/>
          <p:nvPr/>
        </p:nvSpPr>
        <p:spPr>
          <a:xfrm>
            <a:off x="900000" y="5805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Het indexcijfers van 2011 wordt :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 jaar 2011 = Waarde van jaar 2011 / Waarde basisjaar x 100 =          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                                                 </a:t>
            </a: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245.000       /  220.000              x 100 =  111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00000" y="3213000"/>
          <a:ext cx="6096240" cy="1849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28" name="Tekstvak 2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s worden vaak afgerond op hele getallen (tenzij anders vermeld)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0:42:59Z</dcterms:created>
  <dc:creator/>
  <dc:description/>
  <dc:language>en-US</dc:language>
  <cp:lastModifiedBy>J. de Jong</cp:lastModifiedBy>
  <dcterms:modified xsi:type="dcterms:W3CDTF">2011-10-08T17:45:20Z</dcterms:modified>
  <cp:revision>39</cp:revision>
  <dc:subject/>
  <dc:title>Indexcijfers</dc:title>
</cp:coreProperties>
</file>