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C2ED6-0E3C-4CB1-9225-F72FAB1D6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B58C1-6F66-455C-9F3D-C628B17F6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C93B4-30F6-402E-8723-447BD7F20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FA333-5920-44E8-9DC2-A37205499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15C08-533B-4B47-A681-DFF578550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F1E8E-8ADD-4903-BFB0-85F9C279D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815F7-93A4-448B-A84A-913F07F17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285FF-4BE2-4046-AA2D-4DE21E36A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B19CC-5A40-40C5-9D9A-FA13C5CCD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1D164-FEA6-4E0F-8A16-A5B646D5D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A6A42-DDCD-4C2B-A467-AEDE7C7DE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8F2CF-3542-44A7-9BED-B5AD4EBA3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31E6E-5CD8-4961-8A6C-1031A6E8550D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168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Markt</a:t>
            </a:r>
            <a:br>
              <a:rPr sz="4400"/>
            </a:b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Ipho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332000" y="1773360"/>
          <a:ext cx="6400800" cy="3627360"/>
        </p:xfrm>
        <a:graphic>
          <a:graphicData uri="http://schemas.openxmlformats.org/drawingml/2006/table">
            <a:tbl>
              <a:tblPr/>
              <a:tblGrid>
                <a:gridCol w="922320"/>
                <a:gridCol w="866880"/>
                <a:gridCol w="865080"/>
                <a:gridCol w="868320"/>
                <a:gridCol w="865080"/>
                <a:gridCol w="1119240"/>
                <a:gridCol w="893880"/>
              </a:tblGrid>
              <a:tr h="517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T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519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16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1332000" y="1773360"/>
          <a:ext cx="6400800" cy="3627360"/>
        </p:xfrm>
        <a:graphic>
          <a:graphicData uri="http://schemas.openxmlformats.org/drawingml/2006/table">
            <a:tbl>
              <a:tblPr/>
              <a:tblGrid>
                <a:gridCol w="922320"/>
                <a:gridCol w="866880"/>
                <a:gridCol w="946080"/>
                <a:gridCol w="787320"/>
                <a:gridCol w="865080"/>
                <a:gridCol w="1119240"/>
                <a:gridCol w="89388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T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826920" y="620640"/>
          <a:ext cx="6696360" cy="6362640"/>
        </p:xfrm>
        <a:graphic>
          <a:graphicData uri="http://schemas.openxmlformats.org/drawingml/2006/table">
            <a:tbl>
              <a:tblPr/>
              <a:tblGrid>
                <a:gridCol w="922680"/>
                <a:gridCol w="866520"/>
                <a:gridCol w="946080"/>
                <a:gridCol w="793800"/>
                <a:gridCol w="1079640"/>
                <a:gridCol w="1008000"/>
                <a:gridCol w="1079640"/>
              </a:tblGrid>
              <a:tr h="530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in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530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0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0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9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0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0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0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0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0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0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9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CK: 500 VK: 15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826920" y="620640"/>
          <a:ext cx="6696360" cy="6362640"/>
        </p:xfrm>
        <a:graphic>
          <a:graphicData uri="http://schemas.openxmlformats.org/drawingml/2006/table">
            <a:tbl>
              <a:tblPr/>
              <a:tblGrid>
                <a:gridCol w="922680"/>
                <a:gridCol w="866520"/>
                <a:gridCol w="946080"/>
                <a:gridCol w="793800"/>
                <a:gridCol w="1079640"/>
                <a:gridCol w="1008000"/>
                <a:gridCol w="1079640"/>
              </a:tblGrid>
              <a:tr h="530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in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530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0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0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9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0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0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0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0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0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0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9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CK: 500 VK: 15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826920" y="620640"/>
          <a:ext cx="6696360" cy="6362640"/>
        </p:xfrm>
        <a:graphic>
          <a:graphicData uri="http://schemas.openxmlformats.org/drawingml/2006/table">
            <a:tbl>
              <a:tblPr/>
              <a:tblGrid>
                <a:gridCol w="922680"/>
                <a:gridCol w="866520"/>
                <a:gridCol w="946080"/>
                <a:gridCol w="793800"/>
                <a:gridCol w="1079640"/>
                <a:gridCol w="1008000"/>
                <a:gridCol w="1079640"/>
              </a:tblGrid>
              <a:tr h="530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in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530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0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0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9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0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0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0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0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0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0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9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CK: 500 VK: 15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826920" y="620640"/>
          <a:ext cx="6696360" cy="6362640"/>
        </p:xfrm>
        <a:graphic>
          <a:graphicData uri="http://schemas.openxmlformats.org/drawingml/2006/table">
            <a:tbl>
              <a:tblPr/>
              <a:tblGrid>
                <a:gridCol w="922680"/>
                <a:gridCol w="866520"/>
                <a:gridCol w="946080"/>
                <a:gridCol w="793800"/>
                <a:gridCol w="1079640"/>
                <a:gridCol w="1008000"/>
                <a:gridCol w="1079640"/>
              </a:tblGrid>
              <a:tr h="530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in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530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0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0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9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0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0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0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0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0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0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9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CK: 500 VK: 15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826920" y="620640"/>
          <a:ext cx="6696360" cy="6362640"/>
        </p:xfrm>
        <a:graphic>
          <a:graphicData uri="http://schemas.openxmlformats.org/drawingml/2006/table">
            <a:tbl>
              <a:tblPr/>
              <a:tblGrid>
                <a:gridCol w="922680"/>
                <a:gridCol w="866520"/>
                <a:gridCol w="946080"/>
                <a:gridCol w="793800"/>
                <a:gridCol w="1079640"/>
                <a:gridCol w="1008000"/>
                <a:gridCol w="1079640"/>
              </a:tblGrid>
              <a:tr h="530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in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530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0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0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9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0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0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0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0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0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0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9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CK: 500 VK: 15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826920" y="620640"/>
          <a:ext cx="6696360" cy="6362640"/>
        </p:xfrm>
        <a:graphic>
          <a:graphicData uri="http://schemas.openxmlformats.org/drawingml/2006/table">
            <a:tbl>
              <a:tblPr/>
              <a:tblGrid>
                <a:gridCol w="922680"/>
                <a:gridCol w="866520"/>
                <a:gridCol w="946080"/>
                <a:gridCol w="793800"/>
                <a:gridCol w="1079640"/>
                <a:gridCol w="1008000"/>
                <a:gridCol w="1079640"/>
              </a:tblGrid>
              <a:tr h="530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in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530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0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0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9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0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0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0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0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0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0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9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7524720" y="620640"/>
          <a:ext cx="1079640" cy="6381720"/>
        </p:xfrm>
        <a:graphic>
          <a:graphicData uri="http://schemas.openxmlformats.org/drawingml/2006/table">
            <a:tbl>
              <a:tblPr/>
              <a:tblGrid>
                <a:gridCol w="1079640"/>
              </a:tblGrid>
              <a:tr h="518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5619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0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0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9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0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0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0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0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0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9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2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9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3T08:43:47Z</dcterms:created>
  <dc:creator>gebruiker</dc:creator>
  <dc:description/>
  <dc:language>en-US</dc:language>
  <cp:lastModifiedBy>Alberts, R.J.</cp:lastModifiedBy>
  <dcterms:modified xsi:type="dcterms:W3CDTF">2015-11-04T13:23:17Z</dcterms:modified>
  <cp:revision>8</cp:revision>
  <dc:subject/>
  <dc:title>Marginale kosten en opbrengsten</dc:title>
</cp:coreProperties>
</file>