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4.jpeg" ContentType="image/jpeg"/>
  <Override PartName="/ppt/media/image5.wmf" ContentType="image/x-wmf"/>
  <Override PartName="/ppt/media/image28.wmf" ContentType="image/x-wmf"/>
  <Override PartName="/ppt/media/image2.wmf" ContentType="image/x-wmf"/>
  <Override PartName="/ppt/media/image25.wmf" ContentType="image/x-wmf"/>
  <Override PartName="/ppt/media/image3.jpeg" ContentType="image/jpeg"/>
  <Override PartName="/ppt/media/image1.png" ContentType="image/png"/>
  <Override PartName="/ppt/media/image27.wmf" ContentType="image/x-wmf"/>
  <Override PartName="/ppt/media/image15.wmf" ContentType="image/x-wmf"/>
  <Override PartName="/ppt/media/image26.wmf" ContentType="image/x-wmf"/>
  <Override PartName="/ppt/media/image14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09C59-89A8-4CF7-9303-EF3B13FAA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17767-9310-4B9F-BA6A-3E56C0885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2CF51-3420-4AB0-A4F9-411D3E4A0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EC75D-25CE-4CB4-AAD6-474CA44DD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5D3C2-02F9-4DC0-AC98-C5795AB4E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0F57A-A481-4D68-AAF2-88CF8A9A8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21837-371E-4367-85F9-A576D57CF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FAFB5-D8D2-4CC8-A110-1D4641869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C808E-C229-4D85-AF22-B6BD8DD10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B31F2-CC5A-48F8-BA55-5CC485C33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7C8A6-A323-4A59-B0E7-C98857301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0DE9A-C2FF-45A0-BDAF-61BABF414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57F34-0D6A-4FB9-952F-5D33FA564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8BBEA-220B-440C-855D-0D5D96895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E6189-2FE2-4B37-ABC5-41DDD534B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1DF5D-D6C2-463E-A5A8-E23EA1875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9B43E-CC85-45E6-BFD9-544259104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FEE4B3-D178-459D-BC43-92C967904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4873BD-698E-44DF-B754-B5447CB27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D4064D-6483-4BF2-8EC2-D1C1DA423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1F89FF-C7B3-40C9-8242-9B6A38DFC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72B3CA-E571-4745-8B3F-AD92EC988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9AC97-52DC-47C2-AC3D-979B64F47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42B7F2-5468-475E-826F-F89CD0C7B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9D303C-1E5A-4185-B81D-B1A5E1760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173B16-7F1F-4AD7-BDA7-F3EE78765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E399F6-261E-41C6-A641-6760870B2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4B4162-BF0A-4468-87B4-752D0C6C9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1FB301-2867-420D-900D-E0B0DE48F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DF3C70-48B8-4715-9856-52BF5CD12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5D0FD-97EA-4AE5-A691-213ED5D73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8B879-E59F-4B30-AE3F-0BE6E03A7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E76ED-64BE-4C7B-8D26-E307CA218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1D163-F945-4445-A598-25F838A7C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6C7A8-3B23-429A-A692-7A5D3380D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D7B47-DE22-409E-A7B6-33ACB0A6B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hthoek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Rechthoek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Rechthoek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Rechthoek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Rechthoek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Rechthoek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Rechthoek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Rechthoek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Rechthoek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d6ec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F4FE5-59CD-470F-AAC7-392B1FC6E074}" type="slidenum">
              <a:rPr b="0" lang="nl-NL" sz="1200" spc="-1" strike="noStrike">
                <a:solidFill>
                  <a:srgbClr val="d6e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d6ec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B413C-631F-4EA0-BE44-C0482F507C3A}" type="slidenum">
              <a:rPr b="0" lang="nl-NL" sz="1200" spc="-1" strike="noStrike">
                <a:solidFill>
                  <a:srgbClr val="d6e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hthoek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Rechthoek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Rechthoek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hthoek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Rechthoek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Rechthoek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Rechthoek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Rechthoek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Rechthoek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d6ec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6702A-98C3-4327-BD7A-824C929ABD6E}" type="slidenum">
              <a:rPr b="0" lang="nl-NL" sz="1200" spc="-1" strike="noStrike">
                <a:solidFill>
                  <a:srgbClr val="d6e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wmf"/><Relationship Id="rId5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p-inc.nl/uploads/photos/5596_distributiecentrum_tnt_post.jpg" TargetMode="Externa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Rectangle 2" descr=""/>
          <p:cNvPicPr/>
          <p:nvPr/>
        </p:nvPicPr>
        <p:blipFill>
          <a:blip r:embed="rId1"/>
          <a:stretch/>
        </p:blipFill>
        <p:spPr>
          <a:xfrm>
            <a:off x="682560" y="4237200"/>
            <a:ext cx="8010720" cy="2090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2"/>
          <p:cNvSpPr/>
          <p:nvPr/>
        </p:nvSpPr>
        <p:spPr>
          <a:xfrm>
            <a:off x="1012680" y="685800"/>
            <a:ext cx="683604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K = 2q + 1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K = Totale kos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 = hoeveelhe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457200" y="2209680"/>
          <a:ext cx="3581280" cy="4478400"/>
        </p:xfrm>
        <a:graphic>
          <a:graphicData uri="http://schemas.openxmlformats.org/drawingml/2006/table">
            <a:tbl>
              <a:tblPr/>
              <a:tblGrid>
                <a:gridCol w="609480"/>
                <a:gridCol w="990720"/>
                <a:gridCol w="990720"/>
                <a:gridCol w="9903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q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V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C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2" name="Object 32"/>
          <p:cNvGraphicFramePr/>
          <p:nvPr/>
        </p:nvGraphicFramePr>
        <p:xfrm>
          <a:off x="4876920" y="2438280"/>
          <a:ext cx="4024080" cy="2686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3" name="Object 3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76920" y="2438280"/>
                    <a:ext cx="4024080" cy="268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 Box 2"/>
          <p:cNvSpPr/>
          <p:nvPr/>
        </p:nvSpPr>
        <p:spPr>
          <a:xfrm>
            <a:off x="914400" y="304920"/>
            <a:ext cx="683568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 = 8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K = 2q + 1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 = Totale opbrengst  TK = Totale kosten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 = hoeveelhe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457200" y="2133720"/>
          <a:ext cx="5181480" cy="4478040"/>
        </p:xfrm>
        <a:graphic>
          <a:graphicData uri="http://schemas.openxmlformats.org/drawingml/2006/table">
            <a:tbl>
              <a:tblPr/>
              <a:tblGrid>
                <a:gridCol w="609480"/>
                <a:gridCol w="685800"/>
                <a:gridCol w="914400"/>
                <a:gridCol w="990720"/>
                <a:gridCol w="990720"/>
                <a:gridCol w="9903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q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V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C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5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2"/>
          <p:cNvSpPr/>
          <p:nvPr/>
        </p:nvSpPr>
        <p:spPr>
          <a:xfrm>
            <a:off x="914400" y="304920"/>
            <a:ext cx="683568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 = 8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K = 2q + 1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 = Totale opbrengst  TK = Totale koste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 = hoeveelhe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457200" y="2133720"/>
          <a:ext cx="5181480" cy="4478040"/>
        </p:xfrm>
        <a:graphic>
          <a:graphicData uri="http://schemas.openxmlformats.org/drawingml/2006/table">
            <a:tbl>
              <a:tblPr/>
              <a:tblGrid>
                <a:gridCol w="609480"/>
                <a:gridCol w="685800"/>
                <a:gridCol w="914400"/>
                <a:gridCol w="990720"/>
                <a:gridCol w="990720"/>
                <a:gridCol w="9903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q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V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C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-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8" name="Object 68"/>
          <p:cNvGraphicFramePr/>
          <p:nvPr/>
        </p:nvGraphicFramePr>
        <p:xfrm>
          <a:off x="5791320" y="0"/>
          <a:ext cx="3109680" cy="268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9" name="Object 6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91320" y="0"/>
                    <a:ext cx="3109680" cy="268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0" name="PIJL-LINKS 72"/>
          <p:cNvSpPr/>
          <p:nvPr/>
        </p:nvSpPr>
        <p:spPr>
          <a:xfrm>
            <a:off x="5867280" y="3352680"/>
            <a:ext cx="1143000" cy="304920"/>
          </a:xfrm>
          <a:prstGeom prst="leftArrow">
            <a:avLst>
              <a:gd name="adj1" fmla="val 50000"/>
              <a:gd name="adj2" fmla="val 49980"/>
            </a:avLst>
          </a:prstGeom>
          <a:solidFill>
            <a:srgbClr val="7fd13b"/>
          </a:solidFill>
          <a:ln w="19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kstvak 73"/>
          <p:cNvSpPr/>
          <p:nvPr/>
        </p:nvSpPr>
        <p:spPr>
          <a:xfrm>
            <a:off x="7238880" y="3352680"/>
            <a:ext cx="175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reak even pu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2" name=""/>
          <p:cNvGraphicFramePr/>
          <p:nvPr/>
        </p:nvGraphicFramePr>
        <p:xfrm>
          <a:off x="457200" y="274680"/>
          <a:ext cx="6705720" cy="5851440"/>
        </p:xfrm>
        <a:graphic>
          <a:graphicData uri="http://schemas.openxmlformats.org/drawingml/2006/table">
            <a:tbl>
              <a:tblPr/>
              <a:tblGrid>
                <a:gridCol w="457200"/>
                <a:gridCol w="685800"/>
                <a:gridCol w="914400"/>
                <a:gridCol w="838080"/>
                <a:gridCol w="990720"/>
                <a:gridCol w="685800"/>
                <a:gridCol w="762120"/>
                <a:gridCol w="609480"/>
                <a:gridCol w="762120"/>
              </a:tblGrid>
              <a:tr h="67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q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GO/M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VK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GVK/MK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CK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GCK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K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GTK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4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3" name=""/>
          <p:cNvGraphicFramePr/>
          <p:nvPr/>
        </p:nvGraphicFramePr>
        <p:xfrm>
          <a:off x="457200" y="274680"/>
          <a:ext cx="6705720" cy="5851440"/>
        </p:xfrm>
        <a:graphic>
          <a:graphicData uri="http://schemas.openxmlformats.org/drawingml/2006/table">
            <a:tbl>
              <a:tblPr/>
              <a:tblGrid>
                <a:gridCol w="457200"/>
                <a:gridCol w="685800"/>
                <a:gridCol w="914400"/>
                <a:gridCol w="838080"/>
                <a:gridCol w="990720"/>
                <a:gridCol w="685800"/>
                <a:gridCol w="762120"/>
                <a:gridCol w="609480"/>
                <a:gridCol w="762120"/>
              </a:tblGrid>
              <a:tr h="67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q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GO/M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VK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GVK/MK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CK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GCK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K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GTK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4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4" name=""/>
          <p:cNvGraphicFramePr/>
          <p:nvPr/>
        </p:nvGraphicFramePr>
        <p:xfrm>
          <a:off x="457200" y="274680"/>
          <a:ext cx="6705720" cy="5851440"/>
        </p:xfrm>
        <a:graphic>
          <a:graphicData uri="http://schemas.openxmlformats.org/drawingml/2006/table">
            <a:tbl>
              <a:tblPr/>
              <a:tblGrid>
                <a:gridCol w="457200"/>
                <a:gridCol w="685800"/>
                <a:gridCol w="914400"/>
                <a:gridCol w="838080"/>
                <a:gridCol w="990720"/>
                <a:gridCol w="685800"/>
                <a:gridCol w="762120"/>
                <a:gridCol w="609480"/>
                <a:gridCol w="762120"/>
              </a:tblGrid>
              <a:tr h="67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q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GO/M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VK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GVK/MK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CK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GCK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K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GTK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4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5" name=""/>
          <p:cNvGraphicFramePr/>
          <p:nvPr/>
        </p:nvGraphicFramePr>
        <p:xfrm>
          <a:off x="457200" y="274680"/>
          <a:ext cx="6705720" cy="5851440"/>
        </p:xfrm>
        <a:graphic>
          <a:graphicData uri="http://schemas.openxmlformats.org/drawingml/2006/table">
            <a:tbl>
              <a:tblPr/>
              <a:tblGrid>
                <a:gridCol w="457200"/>
                <a:gridCol w="685800"/>
                <a:gridCol w="914400"/>
                <a:gridCol w="838080"/>
                <a:gridCol w="990720"/>
                <a:gridCol w="685800"/>
                <a:gridCol w="762120"/>
                <a:gridCol w="609480"/>
                <a:gridCol w="762120"/>
              </a:tblGrid>
              <a:tr h="67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q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GO/M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VK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GVK/MK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CK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GCK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K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GTK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,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4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,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6" name=""/>
          <p:cNvGraphicFramePr/>
          <p:nvPr/>
        </p:nvGraphicFramePr>
        <p:xfrm>
          <a:off x="457200" y="274680"/>
          <a:ext cx="6705720" cy="5851440"/>
        </p:xfrm>
        <a:graphic>
          <a:graphicData uri="http://schemas.openxmlformats.org/drawingml/2006/table">
            <a:tbl>
              <a:tblPr/>
              <a:tblGrid>
                <a:gridCol w="457200"/>
                <a:gridCol w="685800"/>
                <a:gridCol w="914400"/>
                <a:gridCol w="838080"/>
                <a:gridCol w="990720"/>
                <a:gridCol w="685800"/>
                <a:gridCol w="762120"/>
                <a:gridCol w="609480"/>
                <a:gridCol w="762120"/>
              </a:tblGrid>
              <a:tr h="67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q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GO/M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VK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GVK/MK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CK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GCK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K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GTK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,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,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4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,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,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7" name=""/>
          <p:cNvGraphicFramePr/>
          <p:nvPr/>
        </p:nvGraphicFramePr>
        <p:xfrm>
          <a:off x="457200" y="274680"/>
          <a:ext cx="6705720" cy="3036960"/>
        </p:xfrm>
        <a:graphic>
          <a:graphicData uri="http://schemas.openxmlformats.org/drawingml/2006/table">
            <a:tbl>
              <a:tblPr/>
              <a:tblGrid>
                <a:gridCol w="461880"/>
                <a:gridCol w="693720"/>
                <a:gridCol w="927360"/>
                <a:gridCol w="847440"/>
                <a:gridCol w="1001880"/>
                <a:gridCol w="693720"/>
                <a:gridCol w="770040"/>
                <a:gridCol w="617400"/>
                <a:gridCol w="692280"/>
              </a:tblGrid>
              <a:tr h="38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q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GO/M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VK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GVK/MK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CK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GCK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K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GTK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,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,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,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,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8" name="Object 98"/>
          <p:cNvGraphicFramePr/>
          <p:nvPr/>
        </p:nvGraphicFramePr>
        <p:xfrm>
          <a:off x="457200" y="3809880"/>
          <a:ext cx="3110040" cy="2686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9" name="Object 9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809880"/>
                    <a:ext cx="3110040" cy="268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Object 99"/>
          <p:cNvGraphicFramePr/>
          <p:nvPr/>
        </p:nvGraphicFramePr>
        <p:xfrm>
          <a:off x="4419720" y="3809880"/>
          <a:ext cx="3109680" cy="2686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1" name="Object 9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19720" y="3809880"/>
                    <a:ext cx="3109680" cy="268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600200" y="53352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 het volgende voorbeeld zijn de variabele kosten niet proportioneel variabel, maar progressief variab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 Box 2"/>
          <p:cNvSpPr/>
          <p:nvPr/>
        </p:nvSpPr>
        <p:spPr>
          <a:xfrm>
            <a:off x="1600200" y="1295280"/>
            <a:ext cx="683568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K = 2q</a:t>
            </a:r>
            <a:r>
              <a:rPr b="0" lang="en-US" sz="1600" spc="-1" strike="noStrike" baseline="6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+ 5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K = Totale kos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 = hoeveelhe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762120" y="2743200"/>
          <a:ext cx="3581280" cy="3645000"/>
        </p:xfrm>
        <a:graphic>
          <a:graphicData uri="http://schemas.openxmlformats.org/drawingml/2006/table">
            <a:tbl>
              <a:tblPr/>
              <a:tblGrid>
                <a:gridCol w="609480"/>
                <a:gridCol w="990720"/>
                <a:gridCol w="990360"/>
                <a:gridCol w="9907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q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VK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CK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K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5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2"/>
          <p:cNvSpPr/>
          <p:nvPr/>
        </p:nvSpPr>
        <p:spPr>
          <a:xfrm>
            <a:off x="1012680" y="685800"/>
            <a:ext cx="6836040" cy="27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 = P*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 = 8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 = Totale opbreng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 = hoeveelhe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8 = de prij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4191120" y="1676520"/>
          <a:ext cx="4038480" cy="4140000"/>
        </p:xfrm>
        <a:graphic>
          <a:graphicData uri="http://schemas.openxmlformats.org/drawingml/2006/table">
            <a:tbl>
              <a:tblPr/>
              <a:tblGrid>
                <a:gridCol w="1922400"/>
                <a:gridCol w="21160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q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1600200" y="53352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 het volgende voorbeeld zijn de variabele kosten niet proportioneel variabel, maar progressief variab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Text Box 2"/>
          <p:cNvSpPr/>
          <p:nvPr/>
        </p:nvSpPr>
        <p:spPr>
          <a:xfrm>
            <a:off x="1600200" y="1295280"/>
            <a:ext cx="683568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K = 2q</a:t>
            </a:r>
            <a:r>
              <a:rPr b="0" lang="en-US" sz="1600" spc="-1" strike="noStrike" baseline="6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+ 5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K = Totale kos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 = hoeveelhe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762120" y="2743200"/>
          <a:ext cx="3581280" cy="3645000"/>
        </p:xfrm>
        <a:graphic>
          <a:graphicData uri="http://schemas.openxmlformats.org/drawingml/2006/table">
            <a:tbl>
              <a:tblPr/>
              <a:tblGrid>
                <a:gridCol w="609480"/>
                <a:gridCol w="990720"/>
                <a:gridCol w="990360"/>
                <a:gridCol w="9907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q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VK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CK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K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8" name="Object 50"/>
          <p:cNvGraphicFramePr/>
          <p:nvPr/>
        </p:nvGraphicFramePr>
        <p:xfrm>
          <a:off x="4876920" y="2438280"/>
          <a:ext cx="4024080" cy="2686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9" name="Object 5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76920" y="2438280"/>
                    <a:ext cx="4024080" cy="268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600200" y="53352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 het volgende voorbeeld zijn de variabele kosten niet proportioneel variabel, maar progressief variab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Text Box 2"/>
          <p:cNvSpPr/>
          <p:nvPr/>
        </p:nvSpPr>
        <p:spPr>
          <a:xfrm>
            <a:off x="1600200" y="1295280"/>
            <a:ext cx="683568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K = 2q</a:t>
            </a:r>
            <a:r>
              <a:rPr b="0" lang="en-US" sz="1600" spc="-1" strike="noStrike" baseline="6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+ 5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K = Totale kos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 = hoeveelhe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762120" y="2743200"/>
          <a:ext cx="3581280" cy="3645000"/>
        </p:xfrm>
        <a:graphic>
          <a:graphicData uri="http://schemas.openxmlformats.org/drawingml/2006/table">
            <a:tbl>
              <a:tblPr/>
              <a:tblGrid>
                <a:gridCol w="609480"/>
                <a:gridCol w="990720"/>
                <a:gridCol w="990360"/>
                <a:gridCol w="9907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q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VK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CK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K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3" name="Object 50"/>
          <p:cNvGraphicFramePr/>
          <p:nvPr/>
        </p:nvGraphicFramePr>
        <p:xfrm>
          <a:off x="4876920" y="2438280"/>
          <a:ext cx="4024080" cy="2686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4" name="Object 5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76920" y="2438280"/>
                    <a:ext cx="4024080" cy="268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1600200" y="53352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 het volgende voorbeeld zijn de variabele kosten niet proportioneel variabel, maar progressief variab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Text Box 2"/>
          <p:cNvSpPr/>
          <p:nvPr/>
        </p:nvSpPr>
        <p:spPr>
          <a:xfrm>
            <a:off x="1600200" y="1295280"/>
            <a:ext cx="683568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K = 2q</a:t>
            </a:r>
            <a:r>
              <a:rPr b="0" lang="en-US" sz="1600" spc="-1" strike="noStrike" baseline="6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+ 5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K = Totale kos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 = hoeveelhe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762120" y="2743200"/>
          <a:ext cx="3581280" cy="3645000"/>
        </p:xfrm>
        <a:graphic>
          <a:graphicData uri="http://schemas.openxmlformats.org/drawingml/2006/table">
            <a:tbl>
              <a:tblPr/>
              <a:tblGrid>
                <a:gridCol w="609480"/>
                <a:gridCol w="990720"/>
                <a:gridCol w="990360"/>
                <a:gridCol w="9907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q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VK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CK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K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8" name="Object 50"/>
          <p:cNvGraphicFramePr/>
          <p:nvPr/>
        </p:nvGraphicFramePr>
        <p:xfrm>
          <a:off x="4876920" y="2438280"/>
          <a:ext cx="4024080" cy="2686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9" name="Object 5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76920" y="2438280"/>
                    <a:ext cx="4024080" cy="268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1600200" y="53352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 het volgende voorbeeld zijn de variabele kosten niet proportioneel variabel, maar progressief variab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Text Box 2"/>
          <p:cNvSpPr/>
          <p:nvPr/>
        </p:nvSpPr>
        <p:spPr>
          <a:xfrm>
            <a:off x="1600200" y="1295280"/>
            <a:ext cx="683568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K = 2q</a:t>
            </a:r>
            <a:r>
              <a:rPr b="0" lang="en-US" sz="1600" spc="-1" strike="noStrike" baseline="6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+ 5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K = Totale kos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 = hoeveelhe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762120" y="2743200"/>
          <a:ext cx="3581280" cy="3645000"/>
        </p:xfrm>
        <a:graphic>
          <a:graphicData uri="http://schemas.openxmlformats.org/drawingml/2006/table">
            <a:tbl>
              <a:tblPr/>
              <a:tblGrid>
                <a:gridCol w="609480"/>
                <a:gridCol w="990720"/>
                <a:gridCol w="990360"/>
                <a:gridCol w="9907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q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VK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CK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K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4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3" name="Object 50"/>
          <p:cNvGraphicFramePr/>
          <p:nvPr/>
        </p:nvGraphicFramePr>
        <p:xfrm>
          <a:off x="4876920" y="2438280"/>
          <a:ext cx="4024080" cy="2686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4" name="Object 5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76920" y="2438280"/>
                    <a:ext cx="4024080" cy="268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1600200" y="53352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 het volgende voorbeeld zijn de variabele kosten niet proportioneel variabel, maar progressief variab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Text Box 2"/>
          <p:cNvSpPr/>
          <p:nvPr/>
        </p:nvSpPr>
        <p:spPr>
          <a:xfrm>
            <a:off x="1600200" y="1295280"/>
            <a:ext cx="683568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K = 2q</a:t>
            </a:r>
            <a:r>
              <a:rPr b="0" lang="en-US" sz="1600" spc="-1" strike="noStrike" baseline="6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+ 5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K = Totale kos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 = hoeveelhe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762120" y="2743200"/>
          <a:ext cx="3581280" cy="3645000"/>
        </p:xfrm>
        <a:graphic>
          <a:graphicData uri="http://schemas.openxmlformats.org/drawingml/2006/table">
            <a:tbl>
              <a:tblPr/>
              <a:tblGrid>
                <a:gridCol w="609480"/>
                <a:gridCol w="990720"/>
                <a:gridCol w="990360"/>
                <a:gridCol w="9907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q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VK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CK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K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4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8" name="Object 50"/>
          <p:cNvGraphicFramePr/>
          <p:nvPr/>
        </p:nvGraphicFramePr>
        <p:xfrm>
          <a:off x="4876920" y="2438280"/>
          <a:ext cx="4024080" cy="2686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9" name="Object 5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76920" y="2438280"/>
                    <a:ext cx="4024080" cy="268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1523880" y="38088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ij progressief variabele kosten zijn de gemiddelde variabele kosten niet gelijk aan de marginale koste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914400" y="1143000"/>
          <a:ext cx="3471840" cy="5553000"/>
        </p:xfrm>
        <a:graphic>
          <a:graphicData uri="http://schemas.openxmlformats.org/drawingml/2006/table">
            <a:tbl>
              <a:tblPr/>
              <a:tblGrid>
                <a:gridCol w="592200"/>
                <a:gridCol w="958680"/>
                <a:gridCol w="962280"/>
                <a:gridCol w="958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q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V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GV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1523880" y="38088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ij progressief variabele kosten zijn de gemiddelde variabele kosten niet gelijk aan de marginale koste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914400" y="1143000"/>
          <a:ext cx="3471840" cy="5553000"/>
        </p:xfrm>
        <a:graphic>
          <a:graphicData uri="http://schemas.openxmlformats.org/drawingml/2006/table">
            <a:tbl>
              <a:tblPr/>
              <a:tblGrid>
                <a:gridCol w="592200"/>
                <a:gridCol w="958680"/>
                <a:gridCol w="962280"/>
                <a:gridCol w="958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q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V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GV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24" name="Object 50"/>
          <p:cNvGraphicFramePr/>
          <p:nvPr/>
        </p:nvGraphicFramePr>
        <p:xfrm>
          <a:off x="4800600" y="1143000"/>
          <a:ext cx="4024440" cy="268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5" name="Object 5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00600" y="1143000"/>
                    <a:ext cx="4024440" cy="268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1523880" y="38088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ij progressief variabele kosten zijn de gemiddelde variabele kosten niet gelijk aan de marginale koste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914400" y="1143000"/>
          <a:ext cx="3471840" cy="5553000"/>
        </p:xfrm>
        <a:graphic>
          <a:graphicData uri="http://schemas.openxmlformats.org/drawingml/2006/table">
            <a:tbl>
              <a:tblPr/>
              <a:tblGrid>
                <a:gridCol w="592200"/>
                <a:gridCol w="958680"/>
                <a:gridCol w="962280"/>
                <a:gridCol w="958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q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V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GV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28" name="Object 50"/>
          <p:cNvGraphicFramePr/>
          <p:nvPr/>
        </p:nvGraphicFramePr>
        <p:xfrm>
          <a:off x="4800600" y="1143000"/>
          <a:ext cx="4024440" cy="268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9" name="Object 5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00600" y="1143000"/>
                    <a:ext cx="4024440" cy="268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523880" y="38088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ij progressief variabele kosten zijn de gemiddelde variabele kosten niet gelijk aan de marginale koste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914400" y="1143000"/>
          <a:ext cx="3471840" cy="5553000"/>
        </p:xfrm>
        <a:graphic>
          <a:graphicData uri="http://schemas.openxmlformats.org/drawingml/2006/table">
            <a:tbl>
              <a:tblPr/>
              <a:tblGrid>
                <a:gridCol w="592200"/>
                <a:gridCol w="958680"/>
                <a:gridCol w="962280"/>
                <a:gridCol w="958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q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V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GV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32" name="Object 50"/>
          <p:cNvGraphicFramePr/>
          <p:nvPr/>
        </p:nvGraphicFramePr>
        <p:xfrm>
          <a:off x="4800600" y="1143000"/>
          <a:ext cx="4024440" cy="268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3" name="Object 5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00600" y="1143000"/>
                    <a:ext cx="4024440" cy="268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4" name="Object 50"/>
          <p:cNvGraphicFramePr/>
          <p:nvPr/>
        </p:nvGraphicFramePr>
        <p:xfrm>
          <a:off x="4800600" y="3809880"/>
          <a:ext cx="4024440" cy="2686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5" name="Object 5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00600" y="3809880"/>
                    <a:ext cx="4024440" cy="268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1600200" y="53352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 het volgende voorbeeld zijn de variabele kosten degressief variab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Text Box 2"/>
          <p:cNvSpPr/>
          <p:nvPr/>
        </p:nvSpPr>
        <p:spPr>
          <a:xfrm>
            <a:off x="1600200" y="1295280"/>
            <a:ext cx="683568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K = 2q</a:t>
            </a:r>
            <a:r>
              <a:rPr b="0" lang="en-US" sz="1600" spc="-1" strike="noStrike" baseline="60000">
                <a:solidFill>
                  <a:srgbClr val="ffffff"/>
                </a:solidFill>
                <a:latin typeface="Arial"/>
              </a:rPr>
              <a:t>0,8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+ 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K = Totale kos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 = hoeveelhe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762120" y="2743200"/>
          <a:ext cx="3581280" cy="3645000"/>
        </p:xfrm>
        <a:graphic>
          <a:graphicData uri="http://schemas.openxmlformats.org/drawingml/2006/table">
            <a:tbl>
              <a:tblPr/>
              <a:tblGrid>
                <a:gridCol w="609480"/>
                <a:gridCol w="990720"/>
                <a:gridCol w="990360"/>
                <a:gridCol w="9907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q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VK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CK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K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0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4"/>
          <p:cNvSpPr/>
          <p:nvPr/>
        </p:nvSpPr>
        <p:spPr>
          <a:xfrm>
            <a:off x="1012680" y="685800"/>
            <a:ext cx="683604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 = 8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 = Totale opbreng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 = hoeveelhe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457200" y="2209680"/>
          <a:ext cx="4038480" cy="4478400"/>
        </p:xfrm>
        <a:graphic>
          <a:graphicData uri="http://schemas.openxmlformats.org/drawingml/2006/table">
            <a:tbl>
              <a:tblPr/>
              <a:tblGrid>
                <a:gridCol w="1922400"/>
                <a:gridCol w="21160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q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6" name="Object 57"/>
          <p:cNvGraphicFramePr/>
          <p:nvPr/>
        </p:nvGraphicFramePr>
        <p:xfrm>
          <a:off x="4876920" y="2438280"/>
          <a:ext cx="4024080" cy="2686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Object 5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76920" y="2438280"/>
                    <a:ext cx="4024080" cy="268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1600200" y="53352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 het volgende voorbeeld zijn de variabele kosten degressief variab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 Box 2"/>
          <p:cNvSpPr/>
          <p:nvPr/>
        </p:nvSpPr>
        <p:spPr>
          <a:xfrm>
            <a:off x="1600200" y="1295280"/>
            <a:ext cx="683568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K = 2q</a:t>
            </a:r>
            <a:r>
              <a:rPr b="0" lang="en-US" sz="1600" spc="-1" strike="noStrike" baseline="60000">
                <a:solidFill>
                  <a:srgbClr val="ffffff"/>
                </a:solidFill>
                <a:latin typeface="Arial"/>
              </a:rPr>
              <a:t>0,8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+ 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K = Totale kos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 = hoeveelhe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762120" y="2743200"/>
          <a:ext cx="3581280" cy="3645000"/>
        </p:xfrm>
        <a:graphic>
          <a:graphicData uri="http://schemas.openxmlformats.org/drawingml/2006/table">
            <a:tbl>
              <a:tblPr/>
              <a:tblGrid>
                <a:gridCol w="609480"/>
                <a:gridCol w="990720"/>
                <a:gridCol w="990360"/>
                <a:gridCol w="9907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q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VK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CK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K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,4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,8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,0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,2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,3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,4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2" name="Object 50"/>
          <p:cNvGraphicFramePr/>
          <p:nvPr/>
        </p:nvGraphicFramePr>
        <p:xfrm>
          <a:off x="4876920" y="2438280"/>
          <a:ext cx="4024080" cy="2686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3" name="Object 5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76920" y="2438280"/>
                    <a:ext cx="4024080" cy="268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1600200" y="53352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 het volgende voorbeeld zijn de variabele kosten degressief variab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Text Box 2"/>
          <p:cNvSpPr/>
          <p:nvPr/>
        </p:nvSpPr>
        <p:spPr>
          <a:xfrm>
            <a:off x="1600200" y="1295280"/>
            <a:ext cx="683568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K = 2q</a:t>
            </a:r>
            <a:r>
              <a:rPr b="0" lang="en-US" sz="1600" spc="-1" strike="noStrike" baseline="60000">
                <a:solidFill>
                  <a:srgbClr val="ffffff"/>
                </a:solidFill>
                <a:latin typeface="Arial"/>
              </a:rPr>
              <a:t>0,8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+ 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K = Totale kos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 = hoeveelhe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762120" y="2743200"/>
          <a:ext cx="3581280" cy="3645000"/>
        </p:xfrm>
        <a:graphic>
          <a:graphicData uri="http://schemas.openxmlformats.org/drawingml/2006/table">
            <a:tbl>
              <a:tblPr/>
              <a:tblGrid>
                <a:gridCol w="609480"/>
                <a:gridCol w="990720"/>
                <a:gridCol w="990360"/>
                <a:gridCol w="9907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q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VK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CK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K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,4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,8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,0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,2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,3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,4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7" name="Object 50"/>
          <p:cNvGraphicFramePr/>
          <p:nvPr/>
        </p:nvGraphicFramePr>
        <p:xfrm>
          <a:off x="4876920" y="2438280"/>
          <a:ext cx="4024080" cy="2686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8" name="Object 5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76920" y="2438280"/>
                    <a:ext cx="4024080" cy="268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1600200" y="53352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 het volgende voorbeeld zijn de variabele kosten degressief variab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Text Box 2"/>
          <p:cNvSpPr/>
          <p:nvPr/>
        </p:nvSpPr>
        <p:spPr>
          <a:xfrm>
            <a:off x="1600200" y="1295280"/>
            <a:ext cx="683568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K = 2q</a:t>
            </a:r>
            <a:r>
              <a:rPr b="0" lang="en-US" sz="1600" spc="-1" strike="noStrike" baseline="60000">
                <a:solidFill>
                  <a:srgbClr val="ffffff"/>
                </a:solidFill>
                <a:latin typeface="Arial"/>
              </a:rPr>
              <a:t>0,8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+ 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K = Totale kos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 = hoeveelhe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1" name=""/>
          <p:cNvGraphicFramePr/>
          <p:nvPr/>
        </p:nvGraphicFramePr>
        <p:xfrm>
          <a:off x="762120" y="2743200"/>
          <a:ext cx="3581280" cy="3645000"/>
        </p:xfrm>
        <a:graphic>
          <a:graphicData uri="http://schemas.openxmlformats.org/drawingml/2006/table">
            <a:tbl>
              <a:tblPr/>
              <a:tblGrid>
                <a:gridCol w="609480"/>
                <a:gridCol w="990720"/>
                <a:gridCol w="990360"/>
                <a:gridCol w="9907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q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VK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CK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K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,4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,8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,0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,2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,3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,4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52" name="Object 50"/>
          <p:cNvGraphicFramePr/>
          <p:nvPr/>
        </p:nvGraphicFramePr>
        <p:xfrm>
          <a:off x="4876920" y="2438280"/>
          <a:ext cx="4024080" cy="2686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3" name="Object 5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76920" y="2438280"/>
                    <a:ext cx="4024080" cy="268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1600200" y="53352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 het volgende voorbeeld zijn de variabele kosten degressief variab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Text Box 2"/>
          <p:cNvSpPr/>
          <p:nvPr/>
        </p:nvSpPr>
        <p:spPr>
          <a:xfrm>
            <a:off x="1600200" y="1295280"/>
            <a:ext cx="683568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K = 2q</a:t>
            </a:r>
            <a:r>
              <a:rPr b="0" lang="en-US" sz="1600" spc="-1" strike="noStrike" baseline="60000">
                <a:solidFill>
                  <a:srgbClr val="ffffff"/>
                </a:solidFill>
                <a:latin typeface="Arial"/>
              </a:rPr>
              <a:t>0,8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+ 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K = Totale kos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 = hoeveelhe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6" name=""/>
          <p:cNvGraphicFramePr/>
          <p:nvPr/>
        </p:nvGraphicFramePr>
        <p:xfrm>
          <a:off x="762120" y="2743200"/>
          <a:ext cx="3581280" cy="3645000"/>
        </p:xfrm>
        <a:graphic>
          <a:graphicData uri="http://schemas.openxmlformats.org/drawingml/2006/table">
            <a:tbl>
              <a:tblPr/>
              <a:tblGrid>
                <a:gridCol w="609480"/>
                <a:gridCol w="990720"/>
                <a:gridCol w="990360"/>
                <a:gridCol w="9907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q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VK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CK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K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,4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,4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,8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,8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,0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,0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,2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1,2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,3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,3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,4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3,4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57" name="Object 50"/>
          <p:cNvGraphicFramePr/>
          <p:nvPr/>
        </p:nvGraphicFramePr>
        <p:xfrm>
          <a:off x="4876920" y="2438280"/>
          <a:ext cx="4024080" cy="2686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8" name="Object 5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76920" y="2438280"/>
                    <a:ext cx="4024080" cy="268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1600200" y="53352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 het volgende voorbeeld zijn de variabele kosten degressief variab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Text Box 2"/>
          <p:cNvSpPr/>
          <p:nvPr/>
        </p:nvSpPr>
        <p:spPr>
          <a:xfrm>
            <a:off x="1600200" y="1295280"/>
            <a:ext cx="683568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K = 2q</a:t>
            </a:r>
            <a:r>
              <a:rPr b="0" lang="en-US" sz="1600" spc="-1" strike="noStrike" baseline="60000">
                <a:solidFill>
                  <a:srgbClr val="ffffff"/>
                </a:solidFill>
                <a:latin typeface="Arial"/>
              </a:rPr>
              <a:t>0,8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+ 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K = Totale kos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 = hoeveelhe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61" name=""/>
          <p:cNvGraphicFramePr/>
          <p:nvPr/>
        </p:nvGraphicFramePr>
        <p:xfrm>
          <a:off x="762120" y="2743200"/>
          <a:ext cx="3581280" cy="3645000"/>
        </p:xfrm>
        <a:graphic>
          <a:graphicData uri="http://schemas.openxmlformats.org/drawingml/2006/table">
            <a:tbl>
              <a:tblPr/>
              <a:tblGrid>
                <a:gridCol w="609480"/>
                <a:gridCol w="990720"/>
                <a:gridCol w="990360"/>
                <a:gridCol w="9907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q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VK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CK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K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,4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,4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,8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,8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,0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,0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,2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1,2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,3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,3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,4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3,4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62" name="Object 50"/>
          <p:cNvGraphicFramePr/>
          <p:nvPr/>
        </p:nvGraphicFramePr>
        <p:xfrm>
          <a:off x="4876920" y="2438280"/>
          <a:ext cx="4024080" cy="2686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3" name="Object 5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76920" y="2438280"/>
                    <a:ext cx="4024080" cy="268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1523880" y="38088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ok bij degressief variabele kosten zijn de gemiddelde variabele kosten niet gelijk aan de marginale koste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65" name=""/>
          <p:cNvGraphicFramePr/>
          <p:nvPr/>
        </p:nvGraphicFramePr>
        <p:xfrm>
          <a:off x="914400" y="1143000"/>
          <a:ext cx="3471840" cy="5553000"/>
        </p:xfrm>
        <a:graphic>
          <a:graphicData uri="http://schemas.openxmlformats.org/drawingml/2006/table">
            <a:tbl>
              <a:tblPr/>
              <a:tblGrid>
                <a:gridCol w="592200"/>
                <a:gridCol w="958680"/>
                <a:gridCol w="962280"/>
                <a:gridCol w="958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q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V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GV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,4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,8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,0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,2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,3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,4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3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1523880" y="38088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ok bij degressief variabele kosten zijn de gemiddelde variabele kosten niet gelijk aan de marginale koste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67" name=""/>
          <p:cNvGraphicFramePr/>
          <p:nvPr/>
        </p:nvGraphicFramePr>
        <p:xfrm>
          <a:off x="914400" y="1143000"/>
          <a:ext cx="3471840" cy="5553000"/>
        </p:xfrm>
        <a:graphic>
          <a:graphicData uri="http://schemas.openxmlformats.org/drawingml/2006/table">
            <a:tbl>
              <a:tblPr/>
              <a:tblGrid>
                <a:gridCol w="592200"/>
                <a:gridCol w="958680"/>
                <a:gridCol w="962280"/>
                <a:gridCol w="958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q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V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GV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,4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,8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,0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,2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,3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,4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68" name="Object 50"/>
          <p:cNvGraphicFramePr/>
          <p:nvPr/>
        </p:nvGraphicFramePr>
        <p:xfrm>
          <a:off x="4800600" y="1143000"/>
          <a:ext cx="4024440" cy="268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9" name="Object 5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00600" y="1143000"/>
                    <a:ext cx="4024440" cy="268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1523880" y="38088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ok bij degressief variabele kosten zijn de gemiddelde variabele kosten niet gelijk aan de marginale koste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1" name=""/>
          <p:cNvGraphicFramePr/>
          <p:nvPr/>
        </p:nvGraphicFramePr>
        <p:xfrm>
          <a:off x="914400" y="1143000"/>
          <a:ext cx="3471840" cy="5553000"/>
        </p:xfrm>
        <a:graphic>
          <a:graphicData uri="http://schemas.openxmlformats.org/drawingml/2006/table">
            <a:tbl>
              <a:tblPr/>
              <a:tblGrid>
                <a:gridCol w="592200"/>
                <a:gridCol w="958680"/>
                <a:gridCol w="962280"/>
                <a:gridCol w="958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q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V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GV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,4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,7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,8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,6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,0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,5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,2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,4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,3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,4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,4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,3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2" name="Object 50"/>
          <p:cNvGraphicFramePr/>
          <p:nvPr/>
        </p:nvGraphicFramePr>
        <p:xfrm>
          <a:off x="4800600" y="1143000"/>
          <a:ext cx="4024440" cy="268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3" name="Object 5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00600" y="1143000"/>
                    <a:ext cx="4024440" cy="268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1523880" y="38088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ok bij degressief variabele kosten zijn de gemiddelde variabele kosten niet gelijk aan de marginale koste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5" name=""/>
          <p:cNvGraphicFramePr/>
          <p:nvPr/>
        </p:nvGraphicFramePr>
        <p:xfrm>
          <a:off x="914400" y="1143000"/>
          <a:ext cx="3471840" cy="5553000"/>
        </p:xfrm>
        <a:graphic>
          <a:graphicData uri="http://schemas.openxmlformats.org/drawingml/2006/table">
            <a:tbl>
              <a:tblPr/>
              <a:tblGrid>
                <a:gridCol w="592200"/>
                <a:gridCol w="958680"/>
                <a:gridCol w="962280"/>
                <a:gridCol w="958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q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V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GV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,4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,4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,7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,3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,8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,6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,2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,0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,5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,1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,2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,4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,1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,3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,4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,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,4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,3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6" name="Object 50"/>
          <p:cNvGraphicFramePr/>
          <p:nvPr/>
        </p:nvGraphicFramePr>
        <p:xfrm>
          <a:off x="4800600" y="1143000"/>
          <a:ext cx="4024440" cy="268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7" name="Object 5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00600" y="1143000"/>
                    <a:ext cx="4024440" cy="268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8" name="Object 50"/>
          <p:cNvGraphicFramePr/>
          <p:nvPr/>
        </p:nvGraphicFramePr>
        <p:xfrm>
          <a:off x="4800600" y="3809880"/>
          <a:ext cx="4024440" cy="2686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9" name="Object 5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00600" y="3809880"/>
                    <a:ext cx="4024440" cy="268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 txBox="1"/>
          <p:nvPr/>
        </p:nvSpPr>
        <p:spPr>
          <a:xfrm>
            <a:off x="3871800" y="3108240"/>
            <a:ext cx="14004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Eind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Totale kosten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onstante kosten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- Huurkosten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- vaste loonkosten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Variabele kosten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- materiaalkosten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- inkopen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150" name="" descr="Bekijk de afbeelding op ware groott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705720" y="1981080"/>
            <a:ext cx="2438280" cy="198144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6705720" y="4572000"/>
            <a:ext cx="243828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2"/>
          <p:cNvSpPr/>
          <p:nvPr/>
        </p:nvSpPr>
        <p:spPr>
          <a:xfrm>
            <a:off x="1012680" y="685800"/>
            <a:ext cx="683604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K = 2q + 1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K = Totale kos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 = hoeveelhe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57200" y="2209680"/>
          <a:ext cx="3581280" cy="4478400"/>
        </p:xfrm>
        <a:graphic>
          <a:graphicData uri="http://schemas.openxmlformats.org/drawingml/2006/table">
            <a:tbl>
              <a:tblPr/>
              <a:tblGrid>
                <a:gridCol w="609480"/>
                <a:gridCol w="990720"/>
                <a:gridCol w="990720"/>
                <a:gridCol w="9903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q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V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C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2"/>
          <p:cNvSpPr/>
          <p:nvPr/>
        </p:nvSpPr>
        <p:spPr>
          <a:xfrm>
            <a:off x="1012680" y="685800"/>
            <a:ext cx="683604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K = 2q + 1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K = Totale kosten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 = hoeveelhe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457200" y="2209680"/>
          <a:ext cx="3581280" cy="4478400"/>
        </p:xfrm>
        <a:graphic>
          <a:graphicData uri="http://schemas.openxmlformats.org/drawingml/2006/table">
            <a:tbl>
              <a:tblPr/>
              <a:tblGrid>
                <a:gridCol w="609480"/>
                <a:gridCol w="990720"/>
                <a:gridCol w="990720"/>
                <a:gridCol w="9903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q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V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C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6" name="Object 50"/>
          <p:cNvGraphicFramePr/>
          <p:nvPr/>
        </p:nvGraphicFramePr>
        <p:xfrm>
          <a:off x="4876920" y="2438280"/>
          <a:ext cx="4024080" cy="2686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Object 5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76920" y="2438280"/>
                    <a:ext cx="4024080" cy="268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2"/>
          <p:cNvSpPr/>
          <p:nvPr/>
        </p:nvSpPr>
        <p:spPr>
          <a:xfrm>
            <a:off x="1012680" y="685800"/>
            <a:ext cx="683604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K = 2q + 1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K = Totale kosten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 = hoeveelhe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457200" y="2209680"/>
          <a:ext cx="3581280" cy="4478400"/>
        </p:xfrm>
        <a:graphic>
          <a:graphicData uri="http://schemas.openxmlformats.org/drawingml/2006/table">
            <a:tbl>
              <a:tblPr/>
              <a:tblGrid>
                <a:gridCol w="609480"/>
                <a:gridCol w="990720"/>
                <a:gridCol w="990720"/>
                <a:gridCol w="9903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q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V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C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0" name="Object 50"/>
          <p:cNvGraphicFramePr/>
          <p:nvPr/>
        </p:nvGraphicFramePr>
        <p:xfrm>
          <a:off x="4876920" y="2438280"/>
          <a:ext cx="4024080" cy="2686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1" name="Object 5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76920" y="2438280"/>
                    <a:ext cx="4024080" cy="268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2"/>
          <p:cNvSpPr/>
          <p:nvPr/>
        </p:nvSpPr>
        <p:spPr>
          <a:xfrm>
            <a:off x="1012680" y="685800"/>
            <a:ext cx="683604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K = 2q + 1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K = Totale kos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 = hoeveelhe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457200" y="2209680"/>
          <a:ext cx="3581280" cy="4478400"/>
        </p:xfrm>
        <a:graphic>
          <a:graphicData uri="http://schemas.openxmlformats.org/drawingml/2006/table">
            <a:tbl>
              <a:tblPr/>
              <a:tblGrid>
                <a:gridCol w="609480"/>
                <a:gridCol w="990720"/>
                <a:gridCol w="990720"/>
                <a:gridCol w="9903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q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V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C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4" name="Object 50"/>
          <p:cNvGraphicFramePr/>
          <p:nvPr/>
        </p:nvGraphicFramePr>
        <p:xfrm>
          <a:off x="4876920" y="2438280"/>
          <a:ext cx="4024080" cy="2686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5" name="Object 5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76920" y="2438280"/>
                    <a:ext cx="4024080" cy="268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2"/>
          <p:cNvSpPr/>
          <p:nvPr/>
        </p:nvSpPr>
        <p:spPr>
          <a:xfrm>
            <a:off x="1012680" y="685800"/>
            <a:ext cx="683604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K = 2q + 1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K = Totale kos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 = hoeveelhe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457200" y="2209680"/>
          <a:ext cx="3581280" cy="4478400"/>
        </p:xfrm>
        <a:graphic>
          <a:graphicData uri="http://schemas.openxmlformats.org/drawingml/2006/table">
            <a:tbl>
              <a:tblPr/>
              <a:tblGrid>
                <a:gridCol w="609480"/>
                <a:gridCol w="990720"/>
                <a:gridCol w="990720"/>
                <a:gridCol w="9903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q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V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C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8" name="Object 50"/>
          <p:cNvGraphicFramePr/>
          <p:nvPr/>
        </p:nvGraphicFramePr>
        <p:xfrm>
          <a:off x="4876920" y="2438280"/>
          <a:ext cx="4024080" cy="2686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Object 5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76920" y="2438280"/>
                    <a:ext cx="4024080" cy="268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bruiker</cp:lastModifiedBy>
  <dcterms:modified xsi:type="dcterms:W3CDTF">2011-11-15T08:21:08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