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6BF29-39EB-49F7-A4DF-2665E869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33B11-DC3F-418E-8C8C-F37D2085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50316-7BB9-4115-A8F2-15B918AB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21653-DE13-44C8-BC9D-41879196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E27E-C731-4D77-B7D3-E617FFC1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CB40-0EFC-4265-A29A-7E4A89B0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628F-00B0-4CDD-A6DF-4E0AA08C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A360-4C8E-492E-A2A2-869F66EE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3E36-FB02-4E64-BABA-604485E9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E610-AA91-41EA-BA99-B1520447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DC7F-9E2B-4A66-9E57-4AC21DA2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1D357-9A52-4FEC-9220-D4E9F2EE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E2CA-5E00-421E-A2D4-29E3B447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1472-BD75-4429-9138-A9A16F4E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0070-A919-49F9-B6D5-FEECCF54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D7FE-446F-48FE-809C-8FD94636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E236-FECD-47E9-A8BD-C1ABB621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91238-1669-4B15-B1EF-2A33CC16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A462B-5AB9-471D-A19F-FD18C180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E5D2C-2F20-4D14-B197-2B90D475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E845E-4FEB-429F-A2A3-578F0248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AC8C9-519A-4B13-85C6-A0ECC293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DE871-7AFF-41E2-B19B-CE91B126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A3674-E750-4BE7-8AC3-698E81FF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D5DB-8C44-480E-BF42-0136C7888D9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0"/>
                  </a:gs>
                  <a:gs pos="100000">
                    <a:srgbClr val="0005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2"/>
                  </a:gs>
                  <a:gs pos="100000">
                    <a:srgbClr val="00051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411"/>
                </a:gs>
                <a:gs pos="100000">
                  <a:srgbClr val="000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0"/>
                  </a:gs>
                  <a:gs pos="100000">
                    <a:srgbClr val="0005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2"/>
                  </a:gs>
                  <a:gs pos="100000">
                    <a:srgbClr val="00051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411"/>
                </a:gs>
                <a:gs pos="100000">
                  <a:srgbClr val="000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AB07-699D-4908-9C53-A8294478C92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26920" y="1676160"/>
            <a:ext cx="68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Vaak moet je een reeks getallen (bijvoorbeeld de omzet van een bedrijf in de periode 2008 t/m 2011) met elkaar vergelijke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38" name="Tekstvak 2"/>
          <p:cNvSpPr/>
          <p:nvPr/>
        </p:nvSpPr>
        <p:spPr>
          <a:xfrm>
            <a:off x="82692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</a:rPr>
              <a:t>De omzet in 2010 is € 130.900 / 119 x 102 = € 112.200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42" name="Tekstvak 2"/>
          <p:cNvSpPr/>
          <p:nvPr/>
        </p:nvSpPr>
        <p:spPr>
          <a:xfrm>
            <a:off x="82692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</a:rPr>
              <a:t>De omzet in 2009 is € 130.900 / 119 x 113 = € 124.300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46" name="Tekstvak 2"/>
          <p:cNvSpPr/>
          <p:nvPr/>
        </p:nvSpPr>
        <p:spPr>
          <a:xfrm>
            <a:off x="82692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</a:rPr>
              <a:t>De omzet in 2008 (basisjaar) is € 130.900 / 119 x 100 = € 110.000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Door het gebruik van indexcijfers wordt vergelijken van de gegevens makkelijker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Omzet Filiaal B is met 19% gegroeid ten opzichte van het basisjaar    (Filiaal A met 11%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Filiaal B heeft nooit een lagere omzet dan basisjaar behaald (geen index onder de 100) en Filiaal A wel (index 94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Laatste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</a:rPr>
              <a:t>Soms wordt het basisjaar veranderd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Laatste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Bereken de indexcijfers opnieuw maar nu met 2010 als basisjaar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2010 wordt nu 100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aak moet je een reeks getallen (bijvoorbeeld de omzet van een bedrijf in de periode 2008 t/m 2011) met elkaar vergelijke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werken met indexcijfers maakt het makkelijker getallen te vergelijken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Laatste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Bereken de indexcijfers opnieuw maar nu met 2010 als basisjaar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2008 wordt nu € 220.000 / € 207.000 x 100 = 10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Laatste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Bereken de indexcijfers opnieuw maar nu met 2010 als basisjaar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s 2009 en 2011 worden nu 108 en 11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4"/>
          <p:cNvSpPr txBox="1"/>
          <p:nvPr/>
        </p:nvSpPr>
        <p:spPr>
          <a:xfrm>
            <a:off x="3203640" y="2492280"/>
            <a:ext cx="3024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ind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aak moet je een reeks getallen (bijvoorbeeld de omzet van een bedrijf in de periode 2008 t/m 2011) met elkaar vergelijke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Het werken met indexcijfers maakt het makkelijker getallen te vergelijken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</a:t>
            </a: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 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jaar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waarmee we alle andere periodes vergelijken noemen we het basisjaar. Dit basisjaar krijgt het indexcijfer 100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cxnSp>
        <p:nvCxnSpPr>
          <p:cNvPr id="112" name="Rechte verbindingslijn met pijl 3"/>
          <p:cNvCxnSpPr/>
          <p:nvPr/>
        </p:nvCxnSpPr>
        <p:spPr>
          <a:xfrm flipV="1">
            <a:off x="1476360" y="3860280"/>
            <a:ext cx="3456720" cy="2305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 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16" name="Tekstvak 2"/>
          <p:cNvSpPr/>
          <p:nvPr/>
        </p:nvSpPr>
        <p:spPr>
          <a:xfrm>
            <a:off x="900000" y="5805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indexcijfers van 2009 wordt :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jaar 2009 = Waarde van jaar 2009 / Waarde basisjaar x 100 =          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                                                 </a:t>
            </a: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223.000       /  220.000              x 100 =  101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 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20" name="Tekstvak 2"/>
          <p:cNvSpPr/>
          <p:nvPr/>
        </p:nvSpPr>
        <p:spPr>
          <a:xfrm>
            <a:off x="900000" y="5805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indexcijfers van 2010 wordt :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jaar 2010 = Waarde van jaar 2010 / Waarde basisjaar x 100 =          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                                                 </a:t>
            </a: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207.000       /  220.000              x 100 =  94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 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24" name="Tekstvak 2"/>
          <p:cNvSpPr/>
          <p:nvPr/>
        </p:nvSpPr>
        <p:spPr>
          <a:xfrm>
            <a:off x="900000" y="5805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indexcijfers van 2011 wordt :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jaar 2011 = Waarde van jaar 2011 / Waarde basisjaar x 100 =          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                                                 </a:t>
            </a: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245.000       /  220.000              x 100 =  111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28" name="Tekstvak 2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s worden vaak afgerond op hele getallen (tenzij anders vermeld)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0:42:59Z</dcterms:created>
  <dc:creator/>
  <dc:description/>
  <dc:language>en-US</dc:language>
  <cp:lastModifiedBy>J. de Jong</cp:lastModifiedBy>
  <dcterms:modified xsi:type="dcterms:W3CDTF">2011-10-08T17:45:20Z</dcterms:modified>
  <cp:revision>39</cp:revision>
  <dc:subject/>
  <dc:title>Indexcijfers</dc:title>
</cp:coreProperties>
</file>