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391-B584-4040-8DDC-04102B3D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FCC-533C-4457-9993-0BA7FE3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BC3-2B05-47A3-8169-221D7210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B81-479E-4EE6-AAC8-B87F468A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567-AB6F-4693-BA2D-70B9A784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3CE-C06C-450B-9C5A-5490BC1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08A-28AA-4150-A332-5DA01CB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AAF-68BF-445C-9D70-B496A45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19B-C311-4F2D-8C31-C0B9CC8F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B44-6EE6-4C10-A2E6-1CF01F0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5FA-254D-48FC-85F0-05FF59AD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60E-2EC9-471E-8913-34FC2B2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D542-FEFC-4DC0-ADF8-8F92044632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k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ph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865080"/>
                <a:gridCol w="868320"/>
                <a:gridCol w="865080"/>
                <a:gridCol w="1119240"/>
                <a:gridCol w="8938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946080"/>
                <a:gridCol w="787320"/>
                <a:gridCol w="865080"/>
                <a:gridCol w="1119240"/>
                <a:gridCol w="89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24720" y="620640"/>
          <a:ext cx="1079640" cy="6381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43:47Z</dcterms:created>
  <dc:creator>gebruiker</dc:creator>
  <dc:description/>
  <dc:language>en-US</dc:language>
  <cp:lastModifiedBy>Alberts, R.J.</cp:lastModifiedBy>
  <dcterms:modified xsi:type="dcterms:W3CDTF">2015-11-04T13:23:17Z</dcterms:modified>
  <cp:revision>8</cp:revision>
  <dc:subject/>
  <dc:title>Marginale kosten en opbrengsten</dc:title>
</cp:coreProperties>
</file>