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jpeg" ContentType="image/jpeg"/>
  <Override PartName="/ppt/media/image5.wmf" ContentType="image/x-wmf"/>
  <Override PartName="/ppt/media/image28.wmf" ContentType="image/x-wmf"/>
  <Override PartName="/ppt/media/image2.wmf" ContentType="image/x-wmf"/>
  <Override PartName="/ppt/media/image25.wmf" ContentType="image/x-wmf"/>
  <Override PartName="/ppt/media/image3.jpeg" ContentType="image/jpeg"/>
  <Override PartName="/ppt/media/image1.png" ContentType="image/png"/>
  <Override PartName="/ppt/media/image27.wmf" ContentType="image/x-wmf"/>
  <Override PartName="/ppt/media/image15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7116-98BC-4A12-A52E-64B86EB30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92E4-05D8-4C69-A55F-7762B8E0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3E51-22B3-4B2C-A99B-85EFCB920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9E2D-86B4-4ECB-983A-A5D1FD9C5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2E8A-8F71-4FFF-9B39-2B20ED486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8F2B-ED37-400A-89C6-61468252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3F30-DB52-4BF6-BE91-CF27E241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B63E-0881-46D9-85D5-D199243C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39CF-8823-4433-8DC7-D6E9F59B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0085-968F-482E-A41C-01CDD0D6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6906-407E-43AC-BFBA-7CEAB4C2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E9D0-EF80-4A78-9DEE-44103127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0ED6-850C-41F0-90F9-A8B2B7A2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17A4-9E9D-415C-83AA-DC9374D1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2EE6-C868-429E-BCE6-EE46CB04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F212-B987-481A-94F8-42C35A252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F386-8DE7-432C-A61D-8E3882488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DB478-7FB4-490F-85C9-C8051C82F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B8F49-BF33-49E8-8DCE-AD6FFCB8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8F999-6164-4830-AE17-EFA067B0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CE15A-D33B-4D79-973F-8C42A70F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A0F52-FF86-44E7-B412-7A40C4AD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68E1-942C-4192-90D4-4F8CC87D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5ADE4-0D3B-4B6B-87C0-647F1B31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B05C1-FC0C-43F6-9F1B-546DD66C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B1356-05BA-45AA-9E39-1F569F41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E534D-29DA-4EE4-BCD2-9C5FD377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D0D0E-ADA6-4038-8252-DDB5524D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E2D49-C48B-4BF8-A94C-32EF11CE0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D2BC2-C99C-4A7B-B3FB-E03D78549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A0D0-9483-4CAD-8124-E658EE1D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B6C1-028F-416F-8C6A-DCE6718D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E13B-4BA4-4178-A1F9-DBD803FA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5845-89FF-412C-BF6C-D1BD062C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AB86-2656-4D6C-B99C-DDECDECE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660B-C95B-4F94-8CCB-E3EF5C64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hthoek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hthoek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hthoek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hthoek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hthoek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hthoek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hthoek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hthoek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09E7-B2D6-486B-B133-45B1897B1A9B}" type="slidenum">
              <a:rPr b="0" lang="nl-NL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B2B5-B791-4125-8A73-92618CF55845}" type="slidenum">
              <a:rPr b="0" lang="nl-NL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hthoe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hthoe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hthoe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hthoe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hthoe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hthoe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hthoe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hthoe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hthoe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15D2-3849-4DAF-9446-79E816F8D595}" type="slidenum">
              <a:rPr b="0" lang="nl-NL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-inc.nl/uploads/photos/5596_distributiecentrum_tnt_post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Rectangle 2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012680" y="685800"/>
            <a:ext cx="6836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 +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57200" y="2209680"/>
          <a:ext cx="3581280" cy="44784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720"/>
                <a:gridCol w="99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Object 32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914400" y="304920"/>
            <a:ext cx="6835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= 8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 +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= Totale opbrengst  TK = Totale kosten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7200" y="2133720"/>
          <a:ext cx="5181480" cy="447804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  <a:gridCol w="914400"/>
                <a:gridCol w="990720"/>
                <a:gridCol w="990720"/>
                <a:gridCol w="99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914400" y="304920"/>
            <a:ext cx="6835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= 8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 +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= Totale opbrengst  TK = Totale kost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2133720"/>
          <a:ext cx="5181480" cy="447804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  <a:gridCol w="914400"/>
                <a:gridCol w="990720"/>
                <a:gridCol w="990720"/>
                <a:gridCol w="99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Object 68"/>
          <p:cNvGraphicFramePr/>
          <p:nvPr/>
        </p:nvGraphicFramePr>
        <p:xfrm>
          <a:off x="5791320" y="0"/>
          <a:ext cx="310968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6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0"/>
                    <a:ext cx="310968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PIJL-LINKS 72"/>
          <p:cNvSpPr/>
          <p:nvPr/>
        </p:nvSpPr>
        <p:spPr>
          <a:xfrm>
            <a:off x="5867280" y="3352680"/>
            <a:ext cx="1143000" cy="304920"/>
          </a:xfrm>
          <a:prstGeom prst="leftArrow">
            <a:avLst>
              <a:gd name="adj1" fmla="val 50000"/>
              <a:gd name="adj2" fmla="val 49980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kstvak 73"/>
          <p:cNvSpPr/>
          <p:nvPr/>
        </p:nvSpPr>
        <p:spPr>
          <a:xfrm>
            <a:off x="7238880" y="335268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reak even pu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457200" y="274680"/>
          <a:ext cx="6705720" cy="5851440"/>
        </p:xfrm>
        <a:graphic>
          <a:graphicData uri="http://schemas.openxmlformats.org/drawingml/2006/table">
            <a:tbl>
              <a:tblPr/>
              <a:tblGrid>
                <a:gridCol w="457200"/>
                <a:gridCol w="685800"/>
                <a:gridCol w="914400"/>
                <a:gridCol w="838080"/>
                <a:gridCol w="990720"/>
                <a:gridCol w="685800"/>
                <a:gridCol w="762120"/>
                <a:gridCol w="609480"/>
                <a:gridCol w="76212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O/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/M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457200" y="274680"/>
          <a:ext cx="6705720" cy="5851440"/>
        </p:xfrm>
        <a:graphic>
          <a:graphicData uri="http://schemas.openxmlformats.org/drawingml/2006/table">
            <a:tbl>
              <a:tblPr/>
              <a:tblGrid>
                <a:gridCol w="457200"/>
                <a:gridCol w="685800"/>
                <a:gridCol w="914400"/>
                <a:gridCol w="838080"/>
                <a:gridCol w="990720"/>
                <a:gridCol w="685800"/>
                <a:gridCol w="762120"/>
                <a:gridCol w="609480"/>
                <a:gridCol w="76212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O/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/M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457200" y="274680"/>
          <a:ext cx="6705720" cy="5851440"/>
        </p:xfrm>
        <a:graphic>
          <a:graphicData uri="http://schemas.openxmlformats.org/drawingml/2006/table">
            <a:tbl>
              <a:tblPr/>
              <a:tblGrid>
                <a:gridCol w="457200"/>
                <a:gridCol w="685800"/>
                <a:gridCol w="914400"/>
                <a:gridCol w="838080"/>
                <a:gridCol w="990720"/>
                <a:gridCol w="685800"/>
                <a:gridCol w="762120"/>
                <a:gridCol w="609480"/>
                <a:gridCol w="76212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O/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/M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457200" y="274680"/>
          <a:ext cx="6705720" cy="5851440"/>
        </p:xfrm>
        <a:graphic>
          <a:graphicData uri="http://schemas.openxmlformats.org/drawingml/2006/table">
            <a:tbl>
              <a:tblPr/>
              <a:tblGrid>
                <a:gridCol w="457200"/>
                <a:gridCol w="685800"/>
                <a:gridCol w="914400"/>
                <a:gridCol w="838080"/>
                <a:gridCol w="990720"/>
                <a:gridCol w="685800"/>
                <a:gridCol w="762120"/>
                <a:gridCol w="609480"/>
                <a:gridCol w="76212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O/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/M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457200" y="274680"/>
          <a:ext cx="6705720" cy="5851440"/>
        </p:xfrm>
        <a:graphic>
          <a:graphicData uri="http://schemas.openxmlformats.org/drawingml/2006/table">
            <a:tbl>
              <a:tblPr/>
              <a:tblGrid>
                <a:gridCol w="457200"/>
                <a:gridCol w="685800"/>
                <a:gridCol w="914400"/>
                <a:gridCol w="838080"/>
                <a:gridCol w="990720"/>
                <a:gridCol w="685800"/>
                <a:gridCol w="762120"/>
                <a:gridCol w="609480"/>
                <a:gridCol w="76212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O/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/M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457200" y="274680"/>
          <a:ext cx="6705720" cy="3036960"/>
        </p:xfrm>
        <a:graphic>
          <a:graphicData uri="http://schemas.openxmlformats.org/drawingml/2006/table">
            <a:tbl>
              <a:tblPr/>
              <a:tblGrid>
                <a:gridCol w="461880"/>
                <a:gridCol w="693720"/>
                <a:gridCol w="927360"/>
                <a:gridCol w="847440"/>
                <a:gridCol w="1001880"/>
                <a:gridCol w="693720"/>
                <a:gridCol w="770040"/>
                <a:gridCol w="617400"/>
                <a:gridCol w="692280"/>
              </a:tblGrid>
              <a:tr h="38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O/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/M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8" name="Object 98"/>
          <p:cNvGraphicFramePr/>
          <p:nvPr/>
        </p:nvGraphicFramePr>
        <p:xfrm>
          <a:off x="457200" y="3809880"/>
          <a:ext cx="311004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9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9880"/>
                    <a:ext cx="311004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99"/>
          <p:cNvGraphicFramePr/>
          <p:nvPr/>
        </p:nvGraphicFramePr>
        <p:xfrm>
          <a:off x="4419720" y="3809880"/>
          <a:ext cx="3109680" cy="268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Object 9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3809880"/>
                    <a:ext cx="31096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niet proportioneel variabel, maar pro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012680" y="685800"/>
            <a:ext cx="68360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= P*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= 8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= Totale opbreng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 = de prij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191120" y="1676520"/>
          <a:ext cx="4038480" cy="4140000"/>
        </p:xfrm>
        <a:graphic>
          <a:graphicData uri="http://schemas.openxmlformats.org/drawingml/2006/table">
            <a:tbl>
              <a:tblPr/>
              <a:tblGrid>
                <a:gridCol w="1922400"/>
                <a:gridCol w="2116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niet proportioneel variabel, maar pro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niet proportioneel variabel, maar pro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3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niet proportioneel variabel, maar pro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8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niet proportioneel variabel, maar pro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3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niet proportioneel variabel, maar pro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8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523880" y="380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j progressief variabele kosten zijn de gemiddelde variabele kosten niet gelijk aan de marginale kos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4400" y="1143000"/>
          <a:ext cx="3471840" cy="5553000"/>
        </p:xfrm>
        <a:graphic>
          <a:graphicData uri="http://schemas.openxmlformats.org/drawingml/2006/table">
            <a:tbl>
              <a:tblPr/>
              <a:tblGrid>
                <a:gridCol w="592200"/>
                <a:gridCol w="958680"/>
                <a:gridCol w="962280"/>
                <a:gridCol w="958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523880" y="380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j progressief variabele kosten zijn de gemiddelde variabele kosten niet gelijk aan de marginale kos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914400" y="1143000"/>
          <a:ext cx="3471840" cy="5553000"/>
        </p:xfrm>
        <a:graphic>
          <a:graphicData uri="http://schemas.openxmlformats.org/drawingml/2006/table">
            <a:tbl>
              <a:tblPr/>
              <a:tblGrid>
                <a:gridCol w="592200"/>
                <a:gridCol w="958680"/>
                <a:gridCol w="962280"/>
                <a:gridCol w="958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Object 50"/>
          <p:cNvGraphicFramePr/>
          <p:nvPr/>
        </p:nvGraphicFramePr>
        <p:xfrm>
          <a:off x="4800600" y="1143000"/>
          <a:ext cx="402444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143000"/>
                    <a:ext cx="40244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523880" y="380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j progressief variabele kosten zijn de gemiddelde variabele kosten niet gelijk aan de marginale kos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914400" y="1143000"/>
          <a:ext cx="3471840" cy="5553000"/>
        </p:xfrm>
        <a:graphic>
          <a:graphicData uri="http://schemas.openxmlformats.org/drawingml/2006/table">
            <a:tbl>
              <a:tblPr/>
              <a:tblGrid>
                <a:gridCol w="592200"/>
                <a:gridCol w="958680"/>
                <a:gridCol w="962280"/>
                <a:gridCol w="958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8" name="Object 50"/>
          <p:cNvGraphicFramePr/>
          <p:nvPr/>
        </p:nvGraphicFramePr>
        <p:xfrm>
          <a:off x="4800600" y="1143000"/>
          <a:ext cx="402444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143000"/>
                    <a:ext cx="40244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23880" y="380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j progressief variabele kosten zijn de gemiddelde variabele kosten niet gelijk aan de marginale kos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914400" y="1143000"/>
          <a:ext cx="3471840" cy="5553000"/>
        </p:xfrm>
        <a:graphic>
          <a:graphicData uri="http://schemas.openxmlformats.org/drawingml/2006/table">
            <a:tbl>
              <a:tblPr/>
              <a:tblGrid>
                <a:gridCol w="592200"/>
                <a:gridCol w="958680"/>
                <a:gridCol w="962280"/>
                <a:gridCol w="958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2" name="Object 50"/>
          <p:cNvGraphicFramePr/>
          <p:nvPr/>
        </p:nvGraphicFramePr>
        <p:xfrm>
          <a:off x="4800600" y="1143000"/>
          <a:ext cx="402444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143000"/>
                    <a:ext cx="40244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50"/>
          <p:cNvGraphicFramePr/>
          <p:nvPr/>
        </p:nvGraphicFramePr>
        <p:xfrm>
          <a:off x="4800600" y="3809880"/>
          <a:ext cx="4024440" cy="268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Object 5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809880"/>
                    <a:ext cx="402444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de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0,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1012680" y="685800"/>
            <a:ext cx="6836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= 8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= Totale opbreng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2209680"/>
          <a:ext cx="4038480" cy="4478400"/>
        </p:xfrm>
        <a:graphic>
          <a:graphicData uri="http://schemas.openxmlformats.org/drawingml/2006/table">
            <a:tbl>
              <a:tblPr/>
              <a:tblGrid>
                <a:gridCol w="1922400"/>
                <a:gridCol w="2116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6" name="Object 57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5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de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0,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de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0,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7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de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0,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2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de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0,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,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,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,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7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de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0,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,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,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,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2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523880" y="380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ok bij degressief variabele kosten zijn de gemiddelde variabele kosten niet gelijk aan de marginale kos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914400" y="1143000"/>
          <a:ext cx="3471840" cy="5553000"/>
        </p:xfrm>
        <a:graphic>
          <a:graphicData uri="http://schemas.openxmlformats.org/drawingml/2006/table">
            <a:tbl>
              <a:tblPr/>
              <a:tblGrid>
                <a:gridCol w="592200"/>
                <a:gridCol w="958680"/>
                <a:gridCol w="962280"/>
                <a:gridCol w="958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523880" y="380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ok bij degressief variabele kosten zijn de gemiddelde variabele kosten niet gelijk aan de marginale kos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914400" y="1143000"/>
          <a:ext cx="3471840" cy="5553000"/>
        </p:xfrm>
        <a:graphic>
          <a:graphicData uri="http://schemas.openxmlformats.org/drawingml/2006/table">
            <a:tbl>
              <a:tblPr/>
              <a:tblGrid>
                <a:gridCol w="592200"/>
                <a:gridCol w="958680"/>
                <a:gridCol w="962280"/>
                <a:gridCol w="958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8" name="Object 50"/>
          <p:cNvGraphicFramePr/>
          <p:nvPr/>
        </p:nvGraphicFramePr>
        <p:xfrm>
          <a:off x="4800600" y="1143000"/>
          <a:ext cx="402444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143000"/>
                    <a:ext cx="40244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23880" y="380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ok bij degressief variabele kosten zijn de gemiddelde variabele kosten niet gelijk aan de marginale kos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914400" y="1143000"/>
          <a:ext cx="3471840" cy="5553000"/>
        </p:xfrm>
        <a:graphic>
          <a:graphicData uri="http://schemas.openxmlformats.org/drawingml/2006/table">
            <a:tbl>
              <a:tblPr/>
              <a:tblGrid>
                <a:gridCol w="592200"/>
                <a:gridCol w="958680"/>
                <a:gridCol w="962280"/>
                <a:gridCol w="958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2" name="Object 50"/>
          <p:cNvGraphicFramePr/>
          <p:nvPr/>
        </p:nvGraphicFramePr>
        <p:xfrm>
          <a:off x="4800600" y="1143000"/>
          <a:ext cx="402444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143000"/>
                    <a:ext cx="40244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523880" y="380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ok bij degressief variabele kosten zijn de gemiddelde variabele kosten niet gelijk aan de marginale kos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914400" y="1143000"/>
          <a:ext cx="3471840" cy="5553000"/>
        </p:xfrm>
        <a:graphic>
          <a:graphicData uri="http://schemas.openxmlformats.org/drawingml/2006/table">
            <a:tbl>
              <a:tblPr/>
              <a:tblGrid>
                <a:gridCol w="592200"/>
                <a:gridCol w="958680"/>
                <a:gridCol w="962280"/>
                <a:gridCol w="958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6" name="Object 50"/>
          <p:cNvGraphicFramePr/>
          <p:nvPr/>
        </p:nvGraphicFramePr>
        <p:xfrm>
          <a:off x="4800600" y="1143000"/>
          <a:ext cx="402444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143000"/>
                    <a:ext cx="40244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50"/>
          <p:cNvGraphicFramePr/>
          <p:nvPr/>
        </p:nvGraphicFramePr>
        <p:xfrm>
          <a:off x="4800600" y="3809880"/>
          <a:ext cx="4024440" cy="268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Object 5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809880"/>
                    <a:ext cx="402444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71800" y="3108240"/>
            <a:ext cx="1400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in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Totale koste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nstante koste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Huurkoste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vaste loonkoste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Variabele koste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materiaalkoste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inkope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50" name="" descr="Bekijk de afbeelding op ware groot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1981080"/>
            <a:ext cx="2438280" cy="19814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705720" y="4572000"/>
            <a:ext cx="24382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1012680" y="685800"/>
            <a:ext cx="6836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 +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57200" y="2209680"/>
          <a:ext cx="3581280" cy="44784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720"/>
                <a:gridCol w="99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012680" y="685800"/>
            <a:ext cx="6836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 +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7200" y="2209680"/>
          <a:ext cx="3581280" cy="44784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720"/>
                <a:gridCol w="99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6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012680" y="685800"/>
            <a:ext cx="6836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 +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2209680"/>
          <a:ext cx="3581280" cy="44784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720"/>
                <a:gridCol w="99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012680" y="685800"/>
            <a:ext cx="6836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 +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7200" y="2209680"/>
          <a:ext cx="3581280" cy="44784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720"/>
                <a:gridCol w="99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1012680" y="685800"/>
            <a:ext cx="6836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 +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2209680"/>
          <a:ext cx="3581280" cy="44784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720"/>
                <a:gridCol w="99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8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bruiker</cp:lastModifiedBy>
  <dcterms:modified xsi:type="dcterms:W3CDTF">2011-11-15T08:21:08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