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3FF-F07A-4D63-9920-81B2BABB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91B-6686-4CCE-80D5-E0917F38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E09-C3FD-4B5D-8B2F-EA8EA654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AAA-CFD3-47B0-94B1-8058F2C1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3BF-147C-41F4-B303-0638D85B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8D8-51B3-4178-AA21-8F2C292F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C6F-E4A5-4C14-B80B-EBED2E03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ACF-8B78-4DF4-A7EA-62B0C790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380-84A6-40E5-9CE9-AB1DE437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1AB-0411-44F3-B1AE-FDB49D6F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6CD-44B9-4A8F-9AFF-CEB81F7D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019-E9EC-4BE4-A0AE-314D1109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FC19-F488-4EA6-99D6-A7549C2A59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rkt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pho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773360"/>
          <a:ext cx="6400800" cy="3627360"/>
        </p:xfrm>
        <a:graphic>
          <a:graphicData uri="http://schemas.openxmlformats.org/drawingml/2006/table">
            <a:tbl>
              <a:tblPr/>
              <a:tblGrid>
                <a:gridCol w="922320"/>
                <a:gridCol w="866880"/>
                <a:gridCol w="865080"/>
                <a:gridCol w="868320"/>
                <a:gridCol w="865080"/>
                <a:gridCol w="1119240"/>
                <a:gridCol w="89388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332000" y="1773360"/>
          <a:ext cx="6400800" cy="3627360"/>
        </p:xfrm>
        <a:graphic>
          <a:graphicData uri="http://schemas.openxmlformats.org/drawingml/2006/table">
            <a:tbl>
              <a:tblPr/>
              <a:tblGrid>
                <a:gridCol w="922320"/>
                <a:gridCol w="866880"/>
                <a:gridCol w="946080"/>
                <a:gridCol w="787320"/>
                <a:gridCol w="865080"/>
                <a:gridCol w="1119240"/>
                <a:gridCol w="893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524720" y="620640"/>
          <a:ext cx="1079640" cy="638172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8:43:47Z</dcterms:created>
  <dc:creator>gebruiker</dc:creator>
  <dc:description/>
  <dc:language>en-US</dc:language>
  <cp:lastModifiedBy>Alberts, R.J.</cp:lastModifiedBy>
  <dcterms:modified xsi:type="dcterms:W3CDTF">2015-11-04T13:23:17Z</dcterms:modified>
  <cp:revision>8</cp:revision>
  <dc:subject/>
  <dc:title>Marginale kosten en opbrengsten</dc:title>
</cp:coreProperties>
</file>