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3.jpeg" ContentType="image/jpeg"/>
  <Override PartName="/ppt/media/image1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A1C-51DA-49A5-A04A-F40AADD0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1492-95F5-48CE-BDBC-09E3D316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9A3-5A54-4EA3-A30C-8DB5E047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B16-85CD-4680-AF1A-20D9E680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47FE-8AD2-4A68-A01A-8251894A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CE8D-610C-47E5-9488-C5A05ED5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5F77-836C-4F69-BF44-5A6584EC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E000-D8EF-4E10-9AC2-469DBC46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D22A-CE06-4416-B37B-BDF0DE6B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B811-E0F4-44F4-B4EA-7476830F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D90C-135E-4DC7-900F-D620F6ED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1DF-63C9-4DE6-BF1E-7E1624E1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49CC-A75C-425C-99AF-C688A844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34F7-4818-4670-86AB-CFCF600C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4DF6-8953-49E0-BFDC-11CFE541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C351-2196-450B-ADDE-5E937EB3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967D-BBF1-4E6A-8853-BA8F612A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C214-1C8E-4F28-A09B-A6D7F54D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F0D6E-C300-460C-BE7B-FFC671B4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8A34-9E5E-4136-ABDE-AB004D59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1E49F-C825-40E6-9ECD-246A54C8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041B-B888-4B3B-936D-1E7C6920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605-7C9D-4C73-BD31-1854C2CC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6F4CB-3D69-4919-8637-0D919DEA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756BA-7C12-4880-9498-81C798D0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45CE2-3D62-43DC-B913-58111942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9A027-5C8B-4DB1-8513-EB391041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0D263-65A8-4E27-B78D-73C5F7B0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28415-2DBD-4A95-A62D-1172AE27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01609-1D7A-4FD3-83B7-531824A1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531-E42E-4DEA-AEFA-2207A078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9EF-5CC7-4D7C-B8D0-19FEC811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958-E5FF-494C-B364-4AF2C76E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C1A-6C0B-4839-A62D-A984005F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565-5050-4D23-83DC-8044D7A0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FD0-91FB-4AA3-A21F-F6BCF6D3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hthoe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hthoe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hthoe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hthoe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hthoe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hthoe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hthoe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hthoe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540B-CFD8-4A7B-8406-E5B233ADBD88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EBE1-23EA-4BB2-B11D-F624A9D01FA2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hthoe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hthoe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hthoe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hthoe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hthoe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hthoe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hthoe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hthoe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hthoe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360C-0717-49D2-B065-460F5DFEBC46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-inc.nl/uploads/photos/5596_distributiecentrum_tnt_post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2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Object 32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914400" y="304920"/>
            <a:ext cx="6835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  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2133720"/>
          <a:ext cx="5181480" cy="447804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  <a:gridCol w="91440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14400" y="304920"/>
            <a:ext cx="6835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  TK = Totale ko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2133720"/>
          <a:ext cx="5181480" cy="447804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  <a:gridCol w="91440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Object 68"/>
          <p:cNvGraphicFramePr/>
          <p:nvPr/>
        </p:nvGraphicFramePr>
        <p:xfrm>
          <a:off x="5791320" y="0"/>
          <a:ext cx="310968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0"/>
                    <a:ext cx="31096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IJL-LINKS 72"/>
          <p:cNvSpPr/>
          <p:nvPr/>
        </p:nvSpPr>
        <p:spPr>
          <a:xfrm>
            <a:off x="5867280" y="3352680"/>
            <a:ext cx="1143000" cy="304920"/>
          </a:xfrm>
          <a:prstGeom prst="leftArrow">
            <a:avLst>
              <a:gd name="adj1" fmla="val 50000"/>
              <a:gd name="adj2" fmla="val 4998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kstvak 73"/>
          <p:cNvSpPr/>
          <p:nvPr/>
        </p:nvSpPr>
        <p:spPr>
          <a:xfrm>
            <a:off x="7238880" y="33526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eak even p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457200" y="274680"/>
          <a:ext cx="6705720" cy="3036960"/>
        </p:xfrm>
        <a:graphic>
          <a:graphicData uri="http://schemas.openxmlformats.org/drawingml/2006/table">
            <a:tbl>
              <a:tblPr/>
              <a:tblGrid>
                <a:gridCol w="461880"/>
                <a:gridCol w="693720"/>
                <a:gridCol w="927360"/>
                <a:gridCol w="847440"/>
                <a:gridCol w="1001880"/>
                <a:gridCol w="693720"/>
                <a:gridCol w="770040"/>
                <a:gridCol w="617400"/>
                <a:gridCol w="692280"/>
              </a:tblGrid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Object 98"/>
          <p:cNvGraphicFramePr/>
          <p:nvPr/>
        </p:nvGraphicFramePr>
        <p:xfrm>
          <a:off x="457200" y="3809880"/>
          <a:ext cx="311004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31100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99"/>
          <p:cNvGraphicFramePr/>
          <p:nvPr/>
        </p:nvGraphicFramePr>
        <p:xfrm>
          <a:off x="4419720" y="3809880"/>
          <a:ext cx="310968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809880"/>
                    <a:ext cx="31096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012680" y="685800"/>
            <a:ext cx="6836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P*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= de prij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91120" y="1676520"/>
          <a:ext cx="4038480" cy="4140000"/>
        </p:xfrm>
        <a:graphic>
          <a:graphicData uri="http://schemas.openxmlformats.org/drawingml/2006/table">
            <a:tbl>
              <a:tblPr/>
              <a:tblGrid>
                <a:gridCol w="1922400"/>
                <a:gridCol w="211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50"/>
          <p:cNvGraphicFramePr/>
          <p:nvPr/>
        </p:nvGraphicFramePr>
        <p:xfrm>
          <a:off x="4800600" y="3809880"/>
          <a:ext cx="402444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9880"/>
                    <a:ext cx="40244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209680"/>
          <a:ext cx="4038480" cy="4478400"/>
        </p:xfrm>
        <a:graphic>
          <a:graphicData uri="http://schemas.openxmlformats.org/drawingml/2006/table">
            <a:tbl>
              <a:tblPr/>
              <a:tblGrid>
                <a:gridCol w="1922400"/>
                <a:gridCol w="211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Object 57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50"/>
          <p:cNvGraphicFramePr/>
          <p:nvPr/>
        </p:nvGraphicFramePr>
        <p:xfrm>
          <a:off x="4800600" y="3809880"/>
          <a:ext cx="402444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9880"/>
                    <a:ext cx="40244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71800" y="3108240"/>
            <a:ext cx="14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i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otale koste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stante 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Huur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vaste loon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ariabele 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materiaal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inkop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50" name="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1981080"/>
            <a:ext cx="2438280" cy="1981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705720" y="4572000"/>
            <a:ext cx="2438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bruiker</cp:lastModifiedBy>
  <dcterms:modified xsi:type="dcterms:W3CDTF">2011-11-15T08:21:0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