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90607-1499-4847-B426-2839972D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E46A7-3216-43B2-9E7C-ACFEC739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9A8FF-B8CF-4AD0-AC18-2B102DDB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E845E-70BC-44F6-97B7-BD41560C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5C63-99DF-4C73-825B-CC7B5461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553C-0227-44DA-8204-1C298898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52A0-1AC2-4218-A026-E0CCE1EB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339C-EB52-4D72-A37A-7EB56BD6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B45C-EEBD-403B-8B8A-4FFCA797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D4E0-767D-496E-8335-24F0494D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E5D9-3BDF-4C9D-8A0F-3705641F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FAA41-72B0-49F8-B4A4-40CE08CD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B388-C151-49FE-8925-EC3796FF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8C37-606A-48D9-B316-7497FD8F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F47B-4858-41A7-B7A7-6F46F4B1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086D-4F67-41C9-96AC-703517A3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A967-0EBE-4457-88FA-B5148593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CDCB1-C898-4CAD-A059-DA208C91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A9E27-E36A-4363-BD16-EF1A49DD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9543D-97C8-4AAE-99D8-F2BEBC42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3C67A-C8A1-4C1E-A392-E8E54038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896CF-5F16-4A7A-8278-ABCEDA82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C438B-C12D-4F1C-A28B-07A0EE4B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E4CCC-0876-4C75-883D-1C467232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D925-BD97-4931-87EA-1C9BB99DF58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0"/>
                  </a:gs>
                  <a:gs pos="100000">
                    <a:srgbClr val="0005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2"/>
                  </a:gs>
                  <a:gs pos="100000">
                    <a:srgbClr val="00051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411"/>
                </a:gs>
                <a:gs pos="100000">
                  <a:srgbClr val="000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0"/>
                  </a:gs>
                  <a:gs pos="100000">
                    <a:srgbClr val="0005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2"/>
                  </a:gs>
                  <a:gs pos="100000">
                    <a:srgbClr val="00051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411"/>
                </a:gs>
                <a:gs pos="100000">
                  <a:srgbClr val="000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718B-7265-4877-925A-7138D9A30E0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26920" y="1676160"/>
            <a:ext cx="68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Vaak moet je een reeks getallen (bijvoorbeeld de omzet van een bedrijf in de periode 2008 t/m 2011) met elkaar vergelijke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38" name="Tekstvak 2"/>
          <p:cNvSpPr/>
          <p:nvPr/>
        </p:nvSpPr>
        <p:spPr>
          <a:xfrm>
            <a:off x="82692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</a:rPr>
              <a:t>De omzet in 2010 is € 130.900 / 119 x 102 = € 112.200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42" name="Tekstvak 2"/>
          <p:cNvSpPr/>
          <p:nvPr/>
        </p:nvSpPr>
        <p:spPr>
          <a:xfrm>
            <a:off x="82692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</a:rPr>
              <a:t>De omzet in 2009 is € 130.900 / 119 x 113 = € 124.300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46" name="Tekstvak 2"/>
          <p:cNvSpPr/>
          <p:nvPr/>
        </p:nvSpPr>
        <p:spPr>
          <a:xfrm>
            <a:off x="82692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</a:rPr>
              <a:t>De omzet in 2008 (basisjaar) is € 130.900 / 119 x 100 = € 110.000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Door het gebruik van indexcijfers wordt vergelijken van de gegevens makkelijker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Omzet Filiaal B is met 19% gegroeid ten opzichte van het basisjaar    (Filiaal A met 11%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Filiaal B heeft nooit een lagere omzet dan basisjaar behaald (geen index onder de 100) en Filiaal A wel (index 94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Laatste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</a:rPr>
              <a:t>Soms wordt het basisjaar veranderd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Laatste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Bereken de indexcijfers opnieuw maar nu met 2010 als basisjaar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2010 wordt nu 100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aak moet je een reeks getallen (bijvoorbeeld de omzet van een bedrijf in de periode 2008 t/m 2011) met elkaar vergelijke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werken met indexcijfers maakt het makkelijker getallen te vergelijken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Laatste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Bereken de indexcijfers opnieuw maar nu met 2010 als basisjaar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2008 wordt nu € 220.000 / € 207.000 x 100 = 10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Laatste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Bereken de indexcijfers opnieuw maar nu met 2010 als basisjaar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s 2009 en 2011 worden nu 108 en 11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4"/>
          <p:cNvSpPr txBox="1"/>
          <p:nvPr/>
        </p:nvSpPr>
        <p:spPr>
          <a:xfrm>
            <a:off x="3203640" y="2492280"/>
            <a:ext cx="3024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ind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aak moet je een reeks getallen (bijvoorbeeld de omzet van een bedrijf in de periode 2008 t/m 2011) met elkaar vergelijke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Het werken met indexcijfers maakt het makkelijker getallen te vergelijken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</a:t>
            </a: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 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jaar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waarmee we alle andere periodes vergelijken noemen we het basisjaar. Dit basisjaar krijgt het indexcijfer 100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cxnSp>
        <p:nvCxnSpPr>
          <p:cNvPr id="112" name="Rechte verbindingslijn met pijl 3"/>
          <p:cNvCxnSpPr/>
          <p:nvPr/>
        </p:nvCxnSpPr>
        <p:spPr>
          <a:xfrm flipV="1">
            <a:off x="1476360" y="3860280"/>
            <a:ext cx="3456720" cy="2305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 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16" name="Tekstvak 2"/>
          <p:cNvSpPr/>
          <p:nvPr/>
        </p:nvSpPr>
        <p:spPr>
          <a:xfrm>
            <a:off x="900000" y="5805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indexcijfers van 2009 wordt :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jaar 2009 = Waarde van jaar 2009 / Waarde basisjaar x 100 =          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                                                 </a:t>
            </a: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223.000       /  220.000              x 100 =  101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 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20" name="Tekstvak 2"/>
          <p:cNvSpPr/>
          <p:nvPr/>
        </p:nvSpPr>
        <p:spPr>
          <a:xfrm>
            <a:off x="900000" y="5805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indexcijfers van 2010 wordt :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jaar 2010 = Waarde van jaar 2010 / Waarde basisjaar x 100 =          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                                                 </a:t>
            </a: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207.000       /  220.000              x 100 =  94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 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24" name="Tekstvak 2"/>
          <p:cNvSpPr/>
          <p:nvPr/>
        </p:nvSpPr>
        <p:spPr>
          <a:xfrm>
            <a:off x="900000" y="5805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indexcijfers van 2011 wordt :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jaar 2011 = Waarde van jaar 2011 / Waarde basisjaar x 100 =          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                                                 </a:t>
            </a: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245.000       /  220.000              x 100 =  111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28" name="Tekstvak 2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s worden vaak afgerond op hele getallen (tenzij anders vermeld)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0:42:59Z</dcterms:created>
  <dc:creator/>
  <dc:description/>
  <dc:language>en-US</dc:language>
  <cp:lastModifiedBy>J. de Jong</cp:lastModifiedBy>
  <dcterms:modified xsi:type="dcterms:W3CDTF">2011-10-08T17:45:20Z</dcterms:modified>
  <cp:revision>39</cp:revision>
  <dc:subject/>
  <dc:title>Indexcijfers</dc:title>
</cp:coreProperties>
</file>