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C79-CEFF-40B3-AEB6-19FF7AB2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E3E-4D40-43FA-AAEC-D33523C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640-3651-4D0C-84F6-5EC8D090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C76-8565-4F58-8832-8F5E3A7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FCF-0DDE-4575-8B06-8A749510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992-AD65-495A-A020-E75BCEC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CD3-0BA1-4283-89AB-FEAD016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2D9-7F1F-4FD4-A34B-79277BB8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BC0-EF67-4D37-96FA-8EBB340A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129-E434-48D7-ABA4-4B03759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7BF-BE23-442A-AD86-37CA71B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B57-25F8-48DC-9975-A019B0D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2C7-3903-4DCF-8CF9-67DF097A28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k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ph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865080"/>
                <a:gridCol w="868320"/>
                <a:gridCol w="865080"/>
                <a:gridCol w="1119240"/>
                <a:gridCol w="8938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332000" y="1773360"/>
          <a:ext cx="6400800" cy="3627360"/>
        </p:xfrm>
        <a:graphic>
          <a:graphicData uri="http://schemas.openxmlformats.org/drawingml/2006/table">
            <a:tbl>
              <a:tblPr/>
              <a:tblGrid>
                <a:gridCol w="922320"/>
                <a:gridCol w="866880"/>
                <a:gridCol w="946080"/>
                <a:gridCol w="787320"/>
                <a:gridCol w="865080"/>
                <a:gridCol w="1119240"/>
                <a:gridCol w="893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K: 500 VK: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26920" y="620640"/>
          <a:ext cx="6696360" cy="6362640"/>
        </p:xfrm>
        <a:graphic>
          <a:graphicData uri="http://schemas.openxmlformats.org/drawingml/2006/table">
            <a:tbl>
              <a:tblPr/>
              <a:tblGrid>
                <a:gridCol w="922680"/>
                <a:gridCol w="866520"/>
                <a:gridCol w="946080"/>
                <a:gridCol w="793800"/>
                <a:gridCol w="1079640"/>
                <a:gridCol w="1008000"/>
                <a:gridCol w="107964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524720" y="620640"/>
          <a:ext cx="1079640" cy="638172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08:43:47Z</dcterms:created>
  <dc:creator>gebruiker</dc:creator>
  <dc:description/>
  <dc:language>en-US</dc:language>
  <cp:lastModifiedBy>Alberts, R.J.</cp:lastModifiedBy>
  <dcterms:modified xsi:type="dcterms:W3CDTF">2015-11-04T13:23:17Z</dcterms:modified>
  <cp:revision>8</cp:revision>
  <dc:subject/>
  <dc:title>Marginale kosten en opbrengsten</dc:title>
</cp:coreProperties>
</file>