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275B11-DBEB-4F53-BB7E-A0A44381E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22C224-606F-44FF-85B1-0EF9486C0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BCBBD3-5CC5-4340-AC7D-B450624E1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1690C8-85C4-4FAD-BC07-B2EF4961E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D05A7-871D-4370-A96D-A82A2F043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79DFA-65D3-4FBE-BBFF-66186EC3A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A1CDC-D2FA-4341-9203-CC55409CC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DE6A4-B9DA-4260-8298-1EA6E77BD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6EABC-A742-4781-BA75-7A8EADED2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FA79E-B505-4AFC-94A5-EC257F4BE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1B760-0FF6-4939-A8F9-6E473A0AD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DB20D5-915E-4D5E-A3A5-5D46B1F75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84BDB-3AAA-4617-B0E2-DDB38E51B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A22FA-5A91-403F-850B-369F8A287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8B2AB-0BF5-4A77-BAD6-75C9DD366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FA892-58DF-4A3C-9FA5-14D5A34FF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3E581-6F86-449A-8A24-DB83FE689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FDDCA1-FC0E-4DD9-87A9-2C588E301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70A428-4E9B-4F32-9BD4-6D1D3C27E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F40601-2F6A-4131-8C14-DECE2959D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E356E2-AB59-4E03-95E0-C8B465EFA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C0B8A1-BA04-466C-9A9B-DC81D441A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DFFDD6-940B-41C9-AA38-8982BBE25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180597-37D4-4295-943D-56D46BEB5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3F70E-B5FD-4D74-854B-CCD488709251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514"/>
                  </a:gs>
                  <a:gs pos="100000">
                    <a:srgbClr val="00051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514"/>
                  </a:gs>
                  <a:gs pos="100000">
                    <a:srgbClr val="00051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410"/>
                  </a:gs>
                  <a:gs pos="100000">
                    <a:srgbClr val="00051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05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412"/>
                  </a:gs>
                  <a:gs pos="100000">
                    <a:srgbClr val="00051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0411"/>
                </a:gs>
                <a:gs pos="100000">
                  <a:srgbClr val="00051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051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514"/>
                  </a:gs>
                  <a:gs pos="100000">
                    <a:srgbClr val="00051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514"/>
                  </a:gs>
                  <a:gs pos="100000">
                    <a:srgbClr val="00051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410"/>
                  </a:gs>
                  <a:gs pos="100000">
                    <a:srgbClr val="00051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05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412"/>
                  </a:gs>
                  <a:gs pos="100000">
                    <a:srgbClr val="00051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0411"/>
                </a:gs>
                <a:gs pos="100000">
                  <a:srgbClr val="00051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051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4F9D4-72BD-4E6C-AFB2-1FB7EB03B817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772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e5e5ff"/>
                </a:solidFill>
                <a:latin typeface="Garamond"/>
              </a:rPr>
              <a:t>Indexcijfers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826920" y="1676160"/>
            <a:ext cx="6840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00"/>
                </a:solidFill>
                <a:latin typeface="Garamond"/>
                <a:ea typeface="Times New Roman"/>
              </a:rPr>
              <a:t>Vaak moet je een reeks getallen (bijvoorbeeld de omzet van een bedrijf in de periode 2008 t/m 2011) met elkaar vergelijken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e5e5ff"/>
                </a:solidFill>
                <a:latin typeface="Garamond"/>
              </a:rPr>
              <a:t>Indexcijfers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837720" y="1676520"/>
            <a:ext cx="6829560" cy="42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Een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 indexcijfer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 is een verhoudingsgetal waarmee de grootte van een bepaald verschijnsel wordt uitgedrukt ten opzichte van datzelfde verschijnsel in een andere periode. 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Ander voorbeeld</a:t>
            </a:r>
            <a:r>
              <a:rPr b="0" lang="nl-NL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nl-NL" sz="1400" spc="-1" strike="noStrike">
                <a:solidFill>
                  <a:srgbClr val="ffffff"/>
                </a:solidFill>
                <a:latin typeface="Garamond"/>
                <a:ea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Garamond"/>
              </a:rPr>
              <a:t>Bereken de omzet van Filiaal B in de periode 2008 – 2011. In 2011 bedroeg de omzet € 130.900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900000" y="3213000"/>
          <a:ext cx="7848720" cy="1849680"/>
        </p:xfrm>
        <a:graphic>
          <a:graphicData uri="http://schemas.openxmlformats.org/drawingml/2006/table">
            <a:tbl>
              <a:tblPr/>
              <a:tblGrid>
                <a:gridCol w="1224000"/>
                <a:gridCol w="1916280"/>
                <a:gridCol w="1468440"/>
                <a:gridCol w="1871640"/>
                <a:gridCol w="1368360"/>
              </a:tblGrid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Jaar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mzet filiaal A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dexcijfers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mzet Filiaal B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dexcijfers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2008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220.0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2009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223.0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01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13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207.0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94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02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2011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245.0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11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19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e5e5ff"/>
                </a:solidFill>
                <a:latin typeface="Garamond"/>
              </a:rPr>
              <a:t>Indexcijfers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837720" y="1676520"/>
            <a:ext cx="6829560" cy="42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Een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 indexcijfer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 is een verhoudingsgetal waarmee de grootte van een bepaald verschijnsel wordt uitgedrukt ten opzichte van datzelfde verschijnsel in een andere periode. 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Ander voorbeeld</a:t>
            </a:r>
            <a:r>
              <a:rPr b="0" lang="nl-NL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nl-NL" sz="1400" spc="-1" strike="noStrike">
                <a:solidFill>
                  <a:srgbClr val="ffffff"/>
                </a:solidFill>
                <a:latin typeface="Garamond"/>
                <a:ea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Garamond"/>
              </a:rPr>
              <a:t>Bereken de omzet van Filiaal B in de periode 2008 – 2011. In 2011 bedroeg de omzet € 130.900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900000" y="3213000"/>
          <a:ext cx="7848720" cy="1849680"/>
        </p:xfrm>
        <a:graphic>
          <a:graphicData uri="http://schemas.openxmlformats.org/drawingml/2006/table">
            <a:tbl>
              <a:tblPr/>
              <a:tblGrid>
                <a:gridCol w="1224000"/>
                <a:gridCol w="1916280"/>
                <a:gridCol w="1468440"/>
                <a:gridCol w="1871640"/>
                <a:gridCol w="1368360"/>
              </a:tblGrid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Jaar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mzet filiaal A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dexcijfers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mzet Filiaal B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dexcijfers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2008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220.0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2009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223.0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01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13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207.0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94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02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2011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245.0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11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0000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ff0000"/>
                          </a:solidFill>
                          <a:latin typeface="Garamond"/>
                        </a:rPr>
                        <a:t>130.9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19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e5e5ff"/>
                </a:solidFill>
                <a:latin typeface="Garamond"/>
              </a:rPr>
              <a:t>Indexcijfers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837720" y="1676520"/>
            <a:ext cx="6829560" cy="42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Een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 indexcijfer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 is een verhoudingsgetal waarmee de grootte van een bepaald verschijnsel wordt uitgedrukt ten opzichte van datzelfde verschijnsel in een andere periode. 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Ander voorbeeld</a:t>
            </a:r>
            <a:r>
              <a:rPr b="0" lang="nl-NL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nl-NL" sz="1400" spc="-1" strike="noStrike">
                <a:solidFill>
                  <a:srgbClr val="ffffff"/>
                </a:solidFill>
                <a:latin typeface="Garamond"/>
                <a:ea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Garamond"/>
              </a:rPr>
              <a:t>Bereken de omzet van Filiaal B in de periode 2008 – 2011. In 2011 bedroeg de omzet € 130.900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900000" y="3213000"/>
          <a:ext cx="7848720" cy="1849680"/>
        </p:xfrm>
        <a:graphic>
          <a:graphicData uri="http://schemas.openxmlformats.org/drawingml/2006/table">
            <a:tbl>
              <a:tblPr/>
              <a:tblGrid>
                <a:gridCol w="1224000"/>
                <a:gridCol w="1916280"/>
                <a:gridCol w="1468440"/>
                <a:gridCol w="1871640"/>
                <a:gridCol w="1368360"/>
              </a:tblGrid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Jaar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mzet filiaal A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dexcijfers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mzet Filiaal B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dexcijfers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2008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220.0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2009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223.0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01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13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207.0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94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0000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ff0000"/>
                          </a:solidFill>
                          <a:latin typeface="Garamond"/>
                        </a:rPr>
                        <a:t>112.2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02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2011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245.0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11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30.9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19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</a:tr>
            </a:tbl>
          </a:graphicData>
        </a:graphic>
      </p:graphicFrame>
      <p:sp>
        <p:nvSpPr>
          <p:cNvPr id="138" name="Tekstvak 2"/>
          <p:cNvSpPr/>
          <p:nvPr/>
        </p:nvSpPr>
        <p:spPr>
          <a:xfrm>
            <a:off x="826920" y="5877000"/>
            <a:ext cx="734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00"/>
                </a:solidFill>
                <a:latin typeface="Garamond"/>
              </a:rPr>
              <a:t>De omzet in 2010 is € 130.900 / 119 x 102 = € 112.200</a:t>
            </a:r>
            <a:endParaRPr b="0" lang="en-US" sz="1800" spc="-1" strike="noStrike">
              <a:solidFill>
                <a:srgbClr val="00ffff"/>
              </a:solidFill>
              <a:latin typeface="Garamond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e5e5ff"/>
                </a:solidFill>
                <a:latin typeface="Garamond"/>
              </a:rPr>
              <a:t>Indexcijfers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837720" y="1676520"/>
            <a:ext cx="6829560" cy="42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Een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 indexcijfer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 is een verhoudingsgetal waarmee de grootte van een bepaald verschijnsel wordt uitgedrukt ten opzichte van datzelfde verschijnsel in een andere periode. 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Ander voorbeeld</a:t>
            </a:r>
            <a:r>
              <a:rPr b="0" lang="nl-NL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nl-NL" sz="1400" spc="-1" strike="noStrike">
                <a:solidFill>
                  <a:srgbClr val="ffffff"/>
                </a:solidFill>
                <a:latin typeface="Garamond"/>
                <a:ea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Garamond"/>
              </a:rPr>
              <a:t>Bereken de omzet van Filiaal B in de periode 2008 – 2011. In 2011 bedroeg de omzet € 130.900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900000" y="3213000"/>
          <a:ext cx="7848720" cy="1849680"/>
        </p:xfrm>
        <a:graphic>
          <a:graphicData uri="http://schemas.openxmlformats.org/drawingml/2006/table">
            <a:tbl>
              <a:tblPr/>
              <a:tblGrid>
                <a:gridCol w="1224000"/>
                <a:gridCol w="1916280"/>
                <a:gridCol w="1468440"/>
                <a:gridCol w="1871640"/>
                <a:gridCol w="1368360"/>
              </a:tblGrid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Jaar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mzet filiaal A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dexcijfers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mzet Filiaal B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dexcijfers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2008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220.0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2009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223.0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01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0000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ff0000"/>
                          </a:solidFill>
                          <a:latin typeface="Garamond"/>
                        </a:rPr>
                        <a:t>124.3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13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207.0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94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12.2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02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2011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245.0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11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30.9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19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</a:tr>
            </a:tbl>
          </a:graphicData>
        </a:graphic>
      </p:graphicFrame>
      <p:sp>
        <p:nvSpPr>
          <p:cNvPr id="142" name="Tekstvak 2"/>
          <p:cNvSpPr/>
          <p:nvPr/>
        </p:nvSpPr>
        <p:spPr>
          <a:xfrm>
            <a:off x="826920" y="5877000"/>
            <a:ext cx="734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00"/>
                </a:solidFill>
                <a:latin typeface="Garamond"/>
              </a:rPr>
              <a:t>De omzet in 2009 is € 130.900 / 119 x 113 = € 124.300</a:t>
            </a:r>
            <a:endParaRPr b="0" lang="en-US" sz="1800" spc="-1" strike="noStrike">
              <a:solidFill>
                <a:srgbClr val="00ffff"/>
              </a:solidFill>
              <a:latin typeface="Garamond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e5e5ff"/>
                </a:solidFill>
                <a:latin typeface="Garamond"/>
              </a:rPr>
              <a:t>Indexcijfers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837720" y="1676520"/>
            <a:ext cx="6829560" cy="42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Een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 indexcijfer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 is een verhoudingsgetal waarmee de grootte van een bepaald verschijnsel wordt uitgedrukt ten opzichte van datzelfde verschijnsel in een andere periode. 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Ander voorbeeld</a:t>
            </a:r>
            <a:r>
              <a:rPr b="0" lang="nl-NL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nl-NL" sz="1400" spc="-1" strike="noStrike">
                <a:solidFill>
                  <a:srgbClr val="ffffff"/>
                </a:solidFill>
                <a:latin typeface="Garamond"/>
                <a:ea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Garamond"/>
              </a:rPr>
              <a:t>Bereken de omzet van Filiaal B in de periode 2008 – 2011. In 2011 bedroeg de omzet € 130.900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900000" y="3213000"/>
          <a:ext cx="7848720" cy="1849680"/>
        </p:xfrm>
        <a:graphic>
          <a:graphicData uri="http://schemas.openxmlformats.org/drawingml/2006/table">
            <a:tbl>
              <a:tblPr/>
              <a:tblGrid>
                <a:gridCol w="1224000"/>
                <a:gridCol w="1916280"/>
                <a:gridCol w="1468440"/>
                <a:gridCol w="1871640"/>
                <a:gridCol w="1368360"/>
              </a:tblGrid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Jaar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mzet filiaal A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dexcijfers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mzet Filiaal B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dexcijfers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2008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220.0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0000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ff0000"/>
                          </a:solidFill>
                          <a:latin typeface="Garamond"/>
                        </a:rPr>
                        <a:t>110.0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2009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223.0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01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24.3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13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207.0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94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12.2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02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2011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245.0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11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30.9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19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</a:tr>
            </a:tbl>
          </a:graphicData>
        </a:graphic>
      </p:graphicFrame>
      <p:sp>
        <p:nvSpPr>
          <p:cNvPr id="146" name="Tekstvak 2"/>
          <p:cNvSpPr/>
          <p:nvPr/>
        </p:nvSpPr>
        <p:spPr>
          <a:xfrm>
            <a:off x="826920" y="5877000"/>
            <a:ext cx="734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00"/>
                </a:solidFill>
                <a:latin typeface="Garamond"/>
              </a:rPr>
              <a:t>De omzet in 2008 (basisjaar) is € 130.900 / 119 x 100 = € 110.000</a:t>
            </a:r>
            <a:endParaRPr b="0" lang="en-US" sz="1800" spc="-1" strike="noStrike">
              <a:solidFill>
                <a:srgbClr val="00ffff"/>
              </a:solidFill>
              <a:latin typeface="Garamond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e5e5ff"/>
                </a:solidFill>
                <a:latin typeface="Garamond"/>
              </a:rPr>
              <a:t>Indexcijfers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837720" y="1676520"/>
            <a:ext cx="6829560" cy="42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Een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 indexcijfer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 is een verhoudingsgetal waarmee de grootte van een bepaald verschijnsel wordt uitgedrukt ten opzichte van datzelfde verschijnsel in een andere periode. 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Ander voorbeeld</a:t>
            </a:r>
            <a:r>
              <a:rPr b="0" lang="nl-NL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nl-NL" sz="1400" spc="-1" strike="noStrike">
                <a:solidFill>
                  <a:srgbClr val="ffffff"/>
                </a:solidFill>
                <a:latin typeface="Garamond"/>
                <a:ea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00"/>
                </a:solidFill>
                <a:latin typeface="Garamond"/>
                <a:ea typeface="Times New Roman"/>
              </a:rPr>
              <a:t>Door het gebruik van indexcijfers wordt vergelijken van de gegevens makkelijker …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900000" y="3213000"/>
          <a:ext cx="7848720" cy="1849680"/>
        </p:xfrm>
        <a:graphic>
          <a:graphicData uri="http://schemas.openxmlformats.org/drawingml/2006/table">
            <a:tbl>
              <a:tblPr/>
              <a:tblGrid>
                <a:gridCol w="1224000"/>
                <a:gridCol w="1916280"/>
                <a:gridCol w="1468440"/>
                <a:gridCol w="1871640"/>
                <a:gridCol w="1368360"/>
              </a:tblGrid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Jaar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mzet filiaal A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dexcijfers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mzet Filiaal B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dexcijfers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2008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220.0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10.0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2009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223.0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01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24.3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13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207.0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94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12.2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02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2011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245.0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11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30.9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19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e5e5ff"/>
                </a:solidFill>
                <a:latin typeface="Garamond"/>
              </a:rPr>
              <a:t>Indexcijfers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837720" y="1676520"/>
            <a:ext cx="6829560" cy="42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Een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 indexcijfer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 is een verhoudingsgetal waarmee de grootte van een bepaald verschijnsel wordt uitgedrukt ten opzichte van datzelfde verschijnsel in een andere periode. 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Ander voorbeeld</a:t>
            </a:r>
            <a:r>
              <a:rPr b="0" lang="nl-NL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nl-NL" sz="1400" spc="-1" strike="noStrike">
                <a:solidFill>
                  <a:srgbClr val="ffffff"/>
                </a:solidFill>
                <a:latin typeface="Garamond"/>
                <a:ea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00"/>
                </a:solidFill>
                <a:latin typeface="Garamond"/>
                <a:ea typeface="Times New Roman"/>
              </a:rPr>
              <a:t>Omzet Filiaal B is met 19% gegroeid ten opzichte van het basisjaar    (Filiaal A met 11%)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900000" y="3213000"/>
          <a:ext cx="7848720" cy="1849680"/>
        </p:xfrm>
        <a:graphic>
          <a:graphicData uri="http://schemas.openxmlformats.org/drawingml/2006/table">
            <a:tbl>
              <a:tblPr/>
              <a:tblGrid>
                <a:gridCol w="1224000"/>
                <a:gridCol w="1916280"/>
                <a:gridCol w="1468440"/>
                <a:gridCol w="1871640"/>
                <a:gridCol w="1368360"/>
              </a:tblGrid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Jaar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mzet filiaal A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dexcijfers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mzet Filiaal B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dexcijfers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2008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220.0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10.0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2009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223.0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01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24.3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13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207.0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94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12.2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02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2011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245.0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0000"/>
                          </a:solidFill>
                          <a:latin typeface="Garamond"/>
                        </a:rPr>
                        <a:t>111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30.9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0000"/>
                          </a:solidFill>
                          <a:latin typeface="Garamond"/>
                        </a:rPr>
                        <a:t>119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e5e5ff"/>
                </a:solidFill>
                <a:latin typeface="Garamond"/>
              </a:rPr>
              <a:t>Indexcijfers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837720" y="1676520"/>
            <a:ext cx="6829560" cy="42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Een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 indexcijfer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 is een verhoudingsgetal waarmee de grootte van een bepaald verschijnsel wordt uitgedrukt ten opzichte van datzelfde verschijnsel in een andere periode. 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Ander voorbeeld</a:t>
            </a:r>
            <a:r>
              <a:rPr b="0" lang="nl-NL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nl-NL" sz="1400" spc="-1" strike="noStrike">
                <a:solidFill>
                  <a:srgbClr val="ffffff"/>
                </a:solidFill>
                <a:latin typeface="Garamond"/>
                <a:ea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00"/>
                </a:solidFill>
                <a:latin typeface="Garamond"/>
                <a:ea typeface="Times New Roman"/>
              </a:rPr>
              <a:t>Filiaal B heeft nooit een lagere omzet dan basisjaar behaald (geen index onder de 100) en Filiaal A wel (index 94)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900000" y="3213000"/>
          <a:ext cx="7848720" cy="1849680"/>
        </p:xfrm>
        <a:graphic>
          <a:graphicData uri="http://schemas.openxmlformats.org/drawingml/2006/table">
            <a:tbl>
              <a:tblPr/>
              <a:tblGrid>
                <a:gridCol w="1224000"/>
                <a:gridCol w="1916280"/>
                <a:gridCol w="1468440"/>
                <a:gridCol w="1871640"/>
                <a:gridCol w="1368360"/>
              </a:tblGrid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Jaar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mzet filiaal A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dexcijfers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mzet Filiaal B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dexcijfers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2008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220.0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10.0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2009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223.0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01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24.3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13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207.0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0000"/>
                          </a:solidFill>
                          <a:latin typeface="Garamond"/>
                        </a:rPr>
                        <a:t>94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12.2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02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2011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245.0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11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30.9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19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e5e5ff"/>
                </a:solidFill>
                <a:latin typeface="Garamond"/>
              </a:rPr>
              <a:t>Indexcijfers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838080" y="1676160"/>
            <a:ext cx="69343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Een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 indexcijfer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 is een verhoudingsgetal waarmee de grootte van een bepaald verschijnsel wordt uitgedrukt ten opzichte van datzelfde verschijnsel in een andere periode. 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Laatste voorbeeld</a:t>
            </a:r>
            <a:r>
              <a:rPr b="0" lang="nl-NL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nl-NL" sz="1400" spc="-1" strike="noStrike">
                <a:solidFill>
                  <a:srgbClr val="ffffff"/>
                </a:solidFill>
                <a:latin typeface="Garamond"/>
                <a:ea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00"/>
                </a:solidFill>
                <a:latin typeface="Garamond"/>
              </a:rPr>
              <a:t>Soms wordt het basisjaar veranderd…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900000" y="3213000"/>
          <a:ext cx="6096240" cy="185436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Jaar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mzet filiaal A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dexcijfers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2008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220.0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2009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223.0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207.0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2011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245.0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e5e5ff"/>
                </a:solidFill>
                <a:latin typeface="Garamond"/>
              </a:rPr>
              <a:t>Indexcijfers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838080" y="1676160"/>
            <a:ext cx="69343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Een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 indexcijfer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 is een verhoudingsgetal waarmee de grootte van een bepaald verschijnsel wordt uitgedrukt ten opzichte van datzelfde verschijnsel in een andere periode. 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Laatste voorbeeld</a:t>
            </a:r>
            <a:r>
              <a:rPr b="0" lang="nl-NL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nl-NL" sz="1400" spc="-1" strike="noStrike">
                <a:solidFill>
                  <a:srgbClr val="ffffff"/>
                </a:solidFill>
                <a:latin typeface="Garamond"/>
                <a:ea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00"/>
                </a:solidFill>
                <a:latin typeface="Garamond"/>
                <a:ea typeface="Times New Roman"/>
              </a:rPr>
              <a:t>Bereken de indexcijfers opnieuw maar nu met 2010 als basisjaar …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00"/>
                </a:solidFill>
                <a:latin typeface="Garamond"/>
                <a:ea typeface="Times New Roman"/>
              </a:rPr>
              <a:t>Indexcijfer 2010 wordt nu 100 …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900000" y="3213000"/>
          <a:ext cx="6096240" cy="185436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Jaar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mzet filiaal A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dexcijfers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2008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220.0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2009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223.0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0000"/>
                          </a:solidFill>
                          <a:latin typeface="Garamond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207.0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0000"/>
                          </a:solidFill>
                          <a:latin typeface="Garamond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2011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245.0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772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e5e5ff"/>
                </a:solidFill>
                <a:latin typeface="Garamond"/>
              </a:rPr>
              <a:t>Indexcijfers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838080" y="1676160"/>
            <a:ext cx="69343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Vaak moet je een reeks getallen (bijvoorbeeld de omzet van een bedrijf in de periode 2008 t/m 2011) met elkaar vergelijken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00"/>
                </a:solidFill>
                <a:latin typeface="Garamond"/>
                <a:ea typeface="Times New Roman"/>
              </a:rPr>
              <a:t>Het werken met indexcijfers maakt het makkelijker getallen te vergelijken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e5e5ff"/>
                </a:solidFill>
                <a:latin typeface="Garamond"/>
              </a:rPr>
              <a:t>Indexcijfers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838080" y="1676160"/>
            <a:ext cx="69343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Een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 indexcijfer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 is een verhoudingsgetal waarmee de grootte van een bepaald verschijnsel wordt uitgedrukt ten opzichte van datzelfde verschijnsel in een andere periode. 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Laatste voorbeeld</a:t>
            </a:r>
            <a:r>
              <a:rPr b="0" lang="nl-NL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nl-NL" sz="1400" spc="-1" strike="noStrike">
                <a:solidFill>
                  <a:srgbClr val="ffffff"/>
                </a:solidFill>
                <a:latin typeface="Garamond"/>
                <a:ea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00"/>
                </a:solidFill>
                <a:latin typeface="Garamond"/>
                <a:ea typeface="Times New Roman"/>
              </a:rPr>
              <a:t>Bereken de indexcijfers opnieuw maar nu met 2010 als basisjaar …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00"/>
                </a:solidFill>
                <a:latin typeface="Garamond"/>
                <a:ea typeface="Times New Roman"/>
              </a:rPr>
              <a:t>Indexcijfer 2008 wordt nu € 220.000 / € 207.000 x 100 = 106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900000" y="3213000"/>
          <a:ext cx="6096240" cy="185436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Jaar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mzet filiaal A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dexcijfers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0000"/>
                          </a:solidFill>
                          <a:latin typeface="Garamond"/>
                        </a:rPr>
                        <a:t>2008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0000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ff0000"/>
                          </a:solidFill>
                          <a:latin typeface="Garamond"/>
                        </a:rPr>
                        <a:t>220.0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0000"/>
                          </a:solidFill>
                          <a:latin typeface="Garamond"/>
                        </a:rPr>
                        <a:t>106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2009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223.0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207.0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2011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245.0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e5e5ff"/>
                </a:solidFill>
                <a:latin typeface="Garamond"/>
              </a:rPr>
              <a:t>Indexcijfers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838080" y="1676160"/>
            <a:ext cx="69343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Een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 indexcijfer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 is een verhoudingsgetal waarmee de grootte van een bepaald verschijnsel wordt uitgedrukt ten opzichte van datzelfde verschijnsel in een andere periode. 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Laatste voorbeeld</a:t>
            </a:r>
            <a:r>
              <a:rPr b="0" lang="nl-NL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nl-NL" sz="1400" spc="-1" strike="noStrike">
                <a:solidFill>
                  <a:srgbClr val="ffffff"/>
                </a:solidFill>
                <a:latin typeface="Garamond"/>
                <a:ea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00"/>
                </a:solidFill>
                <a:latin typeface="Garamond"/>
                <a:ea typeface="Times New Roman"/>
              </a:rPr>
              <a:t>Bereken de indexcijfers opnieuw maar nu met 2010 als basisjaar …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00"/>
                </a:solidFill>
                <a:latin typeface="Garamond"/>
                <a:ea typeface="Times New Roman"/>
              </a:rPr>
              <a:t>Indexcijfers 2009 en 2011 worden nu 108 en 118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900000" y="3213000"/>
          <a:ext cx="6096240" cy="185436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Jaar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mzet filiaal A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dexcijfers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2008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220.0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06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2009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223.0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0000"/>
                          </a:solidFill>
                          <a:latin typeface="Garamond"/>
                        </a:rPr>
                        <a:t>108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207.0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2011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245.0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0000"/>
                          </a:solidFill>
                          <a:latin typeface="Garamond"/>
                        </a:rPr>
                        <a:t>118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WordArt 4"/>
          <p:cNvSpPr txBox="1"/>
          <p:nvPr/>
        </p:nvSpPr>
        <p:spPr>
          <a:xfrm>
            <a:off x="3203640" y="2492280"/>
            <a:ext cx="3024000" cy="1263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Einde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772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e5e5ff"/>
                </a:solidFill>
                <a:latin typeface="Garamond"/>
              </a:rPr>
              <a:t>Indexcijfers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838080" y="1676160"/>
            <a:ext cx="69343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Vaak moet je een reeks getallen (bijvoorbeeld de omzet van een bedrijf in de periode 2008 t/m 2011) met elkaar vergelijken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Het werken met indexcijfers maakt het makkelijker getallen te vergelijken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Garamond"/>
                <a:ea typeface="Times New Roman"/>
              </a:rPr>
              <a:t>Een</a:t>
            </a:r>
            <a:r>
              <a:rPr b="1" lang="en-US" sz="1800" spc="-1" strike="noStrike">
                <a:solidFill>
                  <a:srgbClr val="ffff00"/>
                </a:solidFill>
                <a:latin typeface="Garamond"/>
                <a:ea typeface="Times New Roman"/>
              </a:rPr>
              <a:t> indexcijfer</a:t>
            </a:r>
            <a:r>
              <a:rPr b="0" lang="en-US" sz="1800" spc="-1" strike="noStrike">
                <a:solidFill>
                  <a:srgbClr val="ffff00"/>
                </a:solidFill>
                <a:latin typeface="Garamond"/>
                <a:ea typeface="Times New Roman"/>
              </a:rPr>
              <a:t> is een verhoudingsgetal waarmee de grootte van een bepaald verschijnsel wordt uitgedrukt ten opzichte van datzelfde verschijnsel in een andere periode</a:t>
            </a:r>
            <a:r>
              <a:rPr b="0" lang="nl-NL" sz="1800" spc="-1" strike="noStrike">
                <a:solidFill>
                  <a:srgbClr val="ffff00"/>
                </a:solidFill>
                <a:latin typeface="Garamond"/>
                <a:ea typeface="Times New Roman"/>
              </a:rPr>
              <a:t>.</a:t>
            </a:r>
            <a:r>
              <a:rPr b="0" lang="en-US" sz="1800" spc="-1" strike="noStrike">
                <a:solidFill>
                  <a:srgbClr val="ffff00"/>
                </a:solidFill>
                <a:latin typeface="Garamond"/>
                <a:ea typeface="Times New Roman"/>
              </a:rPr>
              <a:t> 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e5e5ff"/>
                </a:solidFill>
                <a:latin typeface="Garamond"/>
              </a:rPr>
              <a:t>Indexcijfers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838080" y="1676160"/>
            <a:ext cx="69343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Een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 indexcijfer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 is een verhoudingsgetal waarmee de grootte van een bepaald verschijnsel wordt uitgedrukt ten opzichte van datzelfde verschijnsel in een andere periode. 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Voorbeeld</a:t>
            </a:r>
            <a:r>
              <a:rPr b="0" lang="nl-NL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nl-NL" sz="1400" spc="-1" strike="noStrike">
                <a:solidFill>
                  <a:srgbClr val="ffffff"/>
                </a:solidFill>
                <a:latin typeface="Garamond"/>
                <a:ea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Garamond"/>
              </a:rPr>
              <a:t>Bereken de indexcijfers van Filiaal A in de periode 2008 – 2011(met 2008 als basisjaar)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900000" y="3213000"/>
          <a:ext cx="6096240" cy="185436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Jaar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mzet filiaal A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dexcijfers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2008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220.0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2009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223.0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207.0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2011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245.0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</a:tr>
            </a:tbl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e5e5ff"/>
                </a:solidFill>
                <a:latin typeface="Garamond"/>
              </a:rPr>
              <a:t>Indexcijfers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838080" y="1676160"/>
            <a:ext cx="69343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Een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 indexcijfer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 is een verhoudingsgetal waarmee de grootte van een bepaald verschijnsel wordt uitgedrukt ten opzichte van datzelfde verschijnsel in een andere periode. 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Voorbeeld </a:t>
            </a:r>
            <a:r>
              <a:rPr b="0" lang="nl-NL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nl-NL" sz="1400" spc="-1" strike="noStrike">
                <a:solidFill>
                  <a:srgbClr val="ffffff"/>
                </a:solidFill>
                <a:latin typeface="Garamond"/>
                <a:ea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Garamond"/>
              </a:rPr>
              <a:t>Bereken de indexcijfers van Filiaal A in de periode 2008 – 2011(met 2008 als basisjaar)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00"/>
                </a:solidFill>
                <a:latin typeface="Garamond"/>
                <a:ea typeface="Times New Roman"/>
              </a:rPr>
              <a:t>Het jaar</a:t>
            </a:r>
            <a:r>
              <a:rPr b="0" lang="en-US" sz="1800" spc="-1" strike="noStrike">
                <a:solidFill>
                  <a:srgbClr val="ffff00"/>
                </a:solidFill>
                <a:latin typeface="Garamond"/>
                <a:ea typeface="Times New Roman"/>
              </a:rPr>
              <a:t> waarmee we alle andere periodes vergelijken noemen we het basisjaar. Dit basisjaar krijgt het indexcijfer 100.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900000" y="3213000"/>
          <a:ext cx="6096240" cy="1849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Jaar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mzet filiaal A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dexcijfers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0000"/>
                          </a:solidFill>
                          <a:latin typeface="Garamond"/>
                        </a:rPr>
                        <a:t>2008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220.0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0000"/>
                          </a:solidFill>
                          <a:latin typeface="Garamond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2009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223.0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207.0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</a:tr>
              <a:tr h="37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2011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245.0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</a:tr>
            </a:tbl>
          </a:graphicData>
        </a:graphic>
      </p:graphicFrame>
      <p:cxnSp>
        <p:nvCxnSpPr>
          <p:cNvPr id="112" name="Rechte verbindingslijn met pijl 3"/>
          <p:cNvCxnSpPr/>
          <p:nvPr/>
        </p:nvCxnSpPr>
        <p:spPr>
          <a:xfrm flipV="1">
            <a:off x="1476360" y="3860280"/>
            <a:ext cx="3456720" cy="230544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e5e5ff"/>
                </a:solidFill>
                <a:latin typeface="Garamond"/>
              </a:rPr>
              <a:t>Indexcijfers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837720" y="1676520"/>
            <a:ext cx="6829560" cy="42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Een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 indexcijfer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 is een verhoudingsgetal waarmee de grootte van een bepaald verschijnsel wordt uitgedrukt ten opzichte van datzelfde verschijnsel in een andere periode. 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Voorbeeld </a:t>
            </a:r>
            <a:r>
              <a:rPr b="0" lang="nl-NL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nl-NL" sz="1400" spc="-1" strike="noStrike">
                <a:solidFill>
                  <a:srgbClr val="ffffff"/>
                </a:solidFill>
                <a:latin typeface="Garamond"/>
                <a:ea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Garamond"/>
              </a:rPr>
              <a:t>Bereken de indexcijfers van Filiaal A in de periode 2008 – 2011(met 2008 als basisjaar)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900000" y="3213000"/>
          <a:ext cx="6096240" cy="1849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Jaar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mzet filiaal A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dexcijfers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2008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220.0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0000"/>
                          </a:solidFill>
                          <a:latin typeface="Garamond"/>
                        </a:rPr>
                        <a:t>2009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0000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ff0000"/>
                          </a:solidFill>
                          <a:latin typeface="Garamond"/>
                        </a:rPr>
                        <a:t>223.0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0000"/>
                          </a:solidFill>
                          <a:latin typeface="Garamond"/>
                        </a:rPr>
                        <a:t>101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207.0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</a:tr>
              <a:tr h="37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2011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245.0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</a:tr>
            </a:tbl>
          </a:graphicData>
        </a:graphic>
      </p:graphicFrame>
      <p:sp>
        <p:nvSpPr>
          <p:cNvPr id="116" name="Tekstvak 2"/>
          <p:cNvSpPr/>
          <p:nvPr/>
        </p:nvSpPr>
        <p:spPr>
          <a:xfrm>
            <a:off x="900000" y="5805360"/>
            <a:ext cx="806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00"/>
                </a:solidFill>
                <a:latin typeface="Garamond"/>
                <a:ea typeface="Times New Roman"/>
              </a:rPr>
              <a:t>Het indexcijfers van 2009 wordt :</a:t>
            </a:r>
            <a:endParaRPr b="0" lang="en-US" sz="1800" spc="-1" strike="noStrike">
              <a:solidFill>
                <a:srgbClr val="00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00"/>
                </a:solidFill>
                <a:latin typeface="Garamond"/>
                <a:ea typeface="Times New Roman"/>
              </a:rPr>
              <a:t>Indexcijfer jaar 2009 = Waarde van jaar 2009 / Waarde basisjaar x 100 =          </a:t>
            </a:r>
            <a:endParaRPr b="0" lang="en-US" sz="1800" spc="-1" strike="noStrike">
              <a:solidFill>
                <a:srgbClr val="00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00"/>
                </a:solidFill>
                <a:latin typeface="Garamond"/>
                <a:ea typeface="Times New Roman"/>
              </a:rPr>
              <a:t>                                                  </a:t>
            </a:r>
            <a:r>
              <a:rPr b="0" lang="nl-NL" sz="1800" spc="-1" strike="noStrike">
                <a:solidFill>
                  <a:srgbClr val="ffff00"/>
                </a:solidFill>
                <a:latin typeface="Garamond"/>
                <a:ea typeface="Times New Roman"/>
              </a:rPr>
              <a:t>223.000       /  220.000              x 100 =  101</a:t>
            </a:r>
            <a:endParaRPr b="0" lang="en-US" sz="1800" spc="-1" strike="noStrike">
              <a:solidFill>
                <a:srgbClr val="00ffff"/>
              </a:solidFill>
              <a:latin typeface="Garamond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e5e5ff"/>
                </a:solidFill>
                <a:latin typeface="Garamond"/>
              </a:rPr>
              <a:t>Indexcijfers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837720" y="1676520"/>
            <a:ext cx="6829560" cy="42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Een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 indexcijfer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 is een verhoudingsgetal waarmee de grootte van een bepaald verschijnsel wordt uitgedrukt ten opzichte van datzelfde verschijnsel in een andere periode. 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Voorbeeld </a:t>
            </a:r>
            <a:r>
              <a:rPr b="0" lang="nl-NL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nl-NL" sz="1400" spc="-1" strike="noStrike">
                <a:solidFill>
                  <a:srgbClr val="ffffff"/>
                </a:solidFill>
                <a:latin typeface="Garamond"/>
                <a:ea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Garamond"/>
              </a:rPr>
              <a:t>Bereken de indexcijfers van Filiaal A in de periode 2008 – 2011(met 2008 als basisjaar)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900000" y="3213000"/>
          <a:ext cx="6096240" cy="1849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Jaar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mzet filiaal A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dexcijfers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2008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220.0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2009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223.0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01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0000"/>
                          </a:solidFill>
                          <a:latin typeface="Garamond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0000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ff0000"/>
                          </a:solidFill>
                          <a:latin typeface="Garamond"/>
                        </a:rPr>
                        <a:t>207.0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0000"/>
                          </a:solidFill>
                          <a:latin typeface="Garamond"/>
                        </a:rPr>
                        <a:t>94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</a:tr>
              <a:tr h="37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2011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245.0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</a:tr>
            </a:tbl>
          </a:graphicData>
        </a:graphic>
      </p:graphicFrame>
      <p:sp>
        <p:nvSpPr>
          <p:cNvPr id="120" name="Tekstvak 2"/>
          <p:cNvSpPr/>
          <p:nvPr/>
        </p:nvSpPr>
        <p:spPr>
          <a:xfrm>
            <a:off x="900000" y="5805360"/>
            <a:ext cx="806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00"/>
                </a:solidFill>
                <a:latin typeface="Garamond"/>
                <a:ea typeface="Times New Roman"/>
              </a:rPr>
              <a:t>Het indexcijfers van 2010 wordt :</a:t>
            </a:r>
            <a:endParaRPr b="0" lang="en-US" sz="1800" spc="-1" strike="noStrike">
              <a:solidFill>
                <a:srgbClr val="00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00"/>
                </a:solidFill>
                <a:latin typeface="Garamond"/>
                <a:ea typeface="Times New Roman"/>
              </a:rPr>
              <a:t>Indexcijfer jaar 2010 = Waarde van jaar 2010 / Waarde basisjaar x 100 =          </a:t>
            </a:r>
            <a:endParaRPr b="0" lang="en-US" sz="1800" spc="-1" strike="noStrike">
              <a:solidFill>
                <a:srgbClr val="00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00"/>
                </a:solidFill>
                <a:latin typeface="Garamond"/>
                <a:ea typeface="Times New Roman"/>
              </a:rPr>
              <a:t>                                                  </a:t>
            </a:r>
            <a:r>
              <a:rPr b="0" lang="nl-NL" sz="1800" spc="-1" strike="noStrike">
                <a:solidFill>
                  <a:srgbClr val="ffff00"/>
                </a:solidFill>
                <a:latin typeface="Garamond"/>
                <a:ea typeface="Times New Roman"/>
              </a:rPr>
              <a:t>207.000       /  220.000              x 100 =  94</a:t>
            </a:r>
            <a:endParaRPr b="0" lang="en-US" sz="1800" spc="-1" strike="noStrike">
              <a:solidFill>
                <a:srgbClr val="00ffff"/>
              </a:solidFill>
              <a:latin typeface="Garamond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e5e5ff"/>
                </a:solidFill>
                <a:latin typeface="Garamond"/>
              </a:rPr>
              <a:t>Indexcijfers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837720" y="1676520"/>
            <a:ext cx="6829560" cy="42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Een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 indexcijfer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 is een verhoudingsgetal waarmee de grootte van een bepaald verschijnsel wordt uitgedrukt ten opzichte van datzelfde verschijnsel in een andere periode. 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Voorbeeld </a:t>
            </a:r>
            <a:r>
              <a:rPr b="0" lang="nl-NL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nl-NL" sz="1400" spc="-1" strike="noStrike">
                <a:solidFill>
                  <a:srgbClr val="ffffff"/>
                </a:solidFill>
                <a:latin typeface="Garamond"/>
                <a:ea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Garamond"/>
              </a:rPr>
              <a:t>Bereken de indexcijfers van Filiaal A in de periode 2008 – 2011(met 2008 als basisjaar)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900000" y="3213000"/>
          <a:ext cx="6096240" cy="1849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Jaar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mzet filiaal A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dexcijfers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2008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220.0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2009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223.0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01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207.0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94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</a:tr>
              <a:tr h="37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0000"/>
                          </a:solidFill>
                          <a:latin typeface="Garamond"/>
                        </a:rPr>
                        <a:t>2011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0000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ff0000"/>
                          </a:solidFill>
                          <a:latin typeface="Garamond"/>
                        </a:rPr>
                        <a:t>245.0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0000"/>
                          </a:solidFill>
                          <a:latin typeface="Garamond"/>
                        </a:rPr>
                        <a:t>111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</a:tr>
            </a:tbl>
          </a:graphicData>
        </a:graphic>
      </p:graphicFrame>
      <p:sp>
        <p:nvSpPr>
          <p:cNvPr id="124" name="Tekstvak 2"/>
          <p:cNvSpPr/>
          <p:nvPr/>
        </p:nvSpPr>
        <p:spPr>
          <a:xfrm>
            <a:off x="900000" y="5805360"/>
            <a:ext cx="806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00"/>
                </a:solidFill>
                <a:latin typeface="Garamond"/>
                <a:ea typeface="Times New Roman"/>
              </a:rPr>
              <a:t>Het indexcijfers van 2011 wordt :</a:t>
            </a:r>
            <a:endParaRPr b="0" lang="en-US" sz="1800" spc="-1" strike="noStrike">
              <a:solidFill>
                <a:srgbClr val="00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00"/>
                </a:solidFill>
                <a:latin typeface="Garamond"/>
                <a:ea typeface="Times New Roman"/>
              </a:rPr>
              <a:t>Indexcijfer jaar 2011 = Waarde van jaar 2011 / Waarde basisjaar x 100 =          </a:t>
            </a:r>
            <a:endParaRPr b="0" lang="en-US" sz="1800" spc="-1" strike="noStrike">
              <a:solidFill>
                <a:srgbClr val="00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00"/>
                </a:solidFill>
                <a:latin typeface="Garamond"/>
                <a:ea typeface="Times New Roman"/>
              </a:rPr>
              <a:t>                                                  </a:t>
            </a:r>
            <a:r>
              <a:rPr b="0" lang="nl-NL" sz="1800" spc="-1" strike="noStrike">
                <a:solidFill>
                  <a:srgbClr val="ffff00"/>
                </a:solidFill>
                <a:latin typeface="Garamond"/>
                <a:ea typeface="Times New Roman"/>
              </a:rPr>
              <a:t>245.000       /  220.000              x 100 =  111</a:t>
            </a:r>
            <a:endParaRPr b="0" lang="en-US" sz="1800" spc="-1" strike="noStrike">
              <a:solidFill>
                <a:srgbClr val="00ffff"/>
              </a:solidFill>
              <a:latin typeface="Garamond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e5e5ff"/>
                </a:solidFill>
                <a:latin typeface="Garamond"/>
              </a:rPr>
              <a:t>Indexcijfers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837720" y="1676520"/>
            <a:ext cx="6829560" cy="42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Een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 indexcijfer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 is een verhoudingsgetal waarmee de grootte van een bepaald verschijnsel wordt uitgedrukt ten opzichte van datzelfde verschijnsel in een andere periode. 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Voorbeeld</a:t>
            </a:r>
            <a:r>
              <a:rPr b="0" lang="nl-NL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nl-NL" sz="1400" spc="-1" strike="noStrike">
                <a:solidFill>
                  <a:srgbClr val="ffffff"/>
                </a:solidFill>
                <a:latin typeface="Garamond"/>
                <a:ea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Garamond"/>
              </a:rPr>
              <a:t>Bereken de indexcijfers van Filiaal A in de periode 2008 – 2011(met 2008 als basisjaar)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900000" y="3213000"/>
          <a:ext cx="6096240" cy="1849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Jaar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mzet filiaal A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dexcijfers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2008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220.0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2009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223.0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01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207.0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94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</a:tr>
              <a:tr h="37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2011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€ </a:t>
                      </a: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245.000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3399"/>
                          </a:solidFill>
                          <a:latin typeface="Garamond"/>
                        </a:rPr>
                        <a:t>111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</a:tr>
            </a:tbl>
          </a:graphicData>
        </a:graphic>
      </p:graphicFrame>
      <p:sp>
        <p:nvSpPr>
          <p:cNvPr id="128" name="Tekstvak 2"/>
          <p:cNvSpPr/>
          <p:nvPr/>
        </p:nvSpPr>
        <p:spPr>
          <a:xfrm>
            <a:off x="900000" y="5805360"/>
            <a:ext cx="806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00"/>
                </a:solidFill>
                <a:latin typeface="Garamond"/>
                <a:ea typeface="Times New Roman"/>
              </a:rPr>
              <a:t>Indexcijfers worden vaak afgerond op hele getallen (tenzij anders vermeld)</a:t>
            </a:r>
            <a:endParaRPr b="0" lang="en-US" sz="1800" spc="-1" strike="noStrike">
              <a:solidFill>
                <a:srgbClr val="00ffff"/>
              </a:solidFill>
              <a:latin typeface="Garamond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1T10:42:59Z</dcterms:created>
  <dc:creator/>
  <dc:description/>
  <dc:language>en-US</dc:language>
  <cp:lastModifiedBy>J. de Jong</cp:lastModifiedBy>
  <dcterms:modified xsi:type="dcterms:W3CDTF">2011-10-08T17:45:20Z</dcterms:modified>
  <cp:revision>39</cp:revision>
  <dc:subject/>
  <dc:title>Indexcijfers</dc:title>
</cp:coreProperties>
</file>