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jpeg" ContentType="image/jpeg"/>
  <Override PartName="/ppt/media/image5.wmf" ContentType="image/x-wmf"/>
  <Override PartName="/ppt/media/image28.wmf" ContentType="image/x-wmf"/>
  <Override PartName="/ppt/media/image2.wmf" ContentType="image/x-wmf"/>
  <Override PartName="/ppt/media/image25.wmf" ContentType="image/x-wmf"/>
  <Override PartName="/ppt/media/image3.jpeg" ContentType="image/jpeg"/>
  <Override PartName="/ppt/media/image1.png" ContentType="image/png"/>
  <Override PartName="/ppt/media/image27.wmf" ContentType="image/x-wmf"/>
  <Override PartName="/ppt/media/image15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C48B-FFB7-46CC-9B36-A81A77872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8FE5-6273-40BB-BFB2-B206E6F4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56B4-C074-4B22-AC38-AD110632D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B05A-15B8-4BC9-B165-9A01253B9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C2D5-B4D0-4703-9071-F5EE2C049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B76A-7B30-46F7-AE72-8B53039C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14B3-F151-41B2-9D9B-53713CF6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C5CB-7192-472D-B6A9-7EAA345D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EA0A-FCF1-4FC5-B000-D4662DCC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B4CC1-B3F0-4E6F-BC25-21BC2DEB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A63D-B866-4F85-B4D3-33C71119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9181-33CC-4619-93BE-DD593CF0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BF5C-B805-487D-A165-75A59B22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5109-F645-428C-91FA-233314CA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8FD2-8C1D-455F-9A94-4FCB2CF4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67E8-05E4-4408-86C8-E84C79017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F1A4-053F-4BAF-9E4D-EDF2EE4C4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FDCF6-BB13-4642-A758-761F1CC8F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34D97-C725-4C0F-AF6F-653F02BB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3B6ED-B0C6-4CC5-8F3A-ECDBE811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6C258-06A4-4B9B-86CE-B58DE8C2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B3B2A-2AEC-4687-BBDE-EB89AD2C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B9C1-511B-4488-8F74-E2615FA7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99BF2-E0A8-453A-8F8F-A7DD183C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EAC8C-4D2C-4964-B700-2A65AB98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CA507-02D3-4226-B4AD-71674920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1E296-FE38-4768-91B5-5E824976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222A2-6069-420F-98A5-E9958F66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D64CD-2D0B-4766-8CE9-B8E4E6F9D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60D27-D1F1-4F5D-9E26-C9500D7AB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E564-44EF-42FC-B010-D9E4AF19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9C5B-0581-469C-9DDF-08375599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C4BF-6651-41A3-9EDC-2183FB28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1BCD-8756-4575-A821-E5E6B469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517C-B496-4ECC-A634-EDB9C198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3867-D878-4FE8-A61B-1FCC8FD1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hoek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hthoek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hthoek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hthoek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hthoek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hthoek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hthoek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hthoek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hthoek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EFE0-A2FA-4FEC-B524-DA379FB220A8}" type="slidenum">
              <a:rPr b="0" lang="nl-NL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D67F-87E4-4156-9E3C-2CE21C022889}" type="slidenum">
              <a:rPr b="0" lang="nl-NL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hthoek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hthoek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hthoek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hthoek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hthoek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hthoek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hthoek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hthoek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hthoek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430C-ADED-4262-AE7B-448B80ACE1B0}" type="slidenum">
              <a:rPr b="0" lang="nl-NL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-inc.nl/uploads/photos/5596_distributiecentrum_tnt_post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Rectangle 2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012680" y="685800"/>
            <a:ext cx="6836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 + 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57200" y="2209680"/>
          <a:ext cx="3581280" cy="44784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720"/>
                <a:gridCol w="99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2" name="Object 32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914400" y="304920"/>
            <a:ext cx="6835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= 8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 + 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= Totale opbrengst  TK = Totale kosten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7200" y="2133720"/>
          <a:ext cx="5181480" cy="447804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  <a:gridCol w="914400"/>
                <a:gridCol w="990720"/>
                <a:gridCol w="990720"/>
                <a:gridCol w="99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914400" y="304920"/>
            <a:ext cx="6835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= 8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 + 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= Totale opbrengst  TK = Totale kost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2133720"/>
          <a:ext cx="5181480" cy="447804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  <a:gridCol w="914400"/>
                <a:gridCol w="990720"/>
                <a:gridCol w="990720"/>
                <a:gridCol w="99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Object 68"/>
          <p:cNvGraphicFramePr/>
          <p:nvPr/>
        </p:nvGraphicFramePr>
        <p:xfrm>
          <a:off x="5791320" y="0"/>
          <a:ext cx="310968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6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0"/>
                    <a:ext cx="310968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PIJL-LINKS 72"/>
          <p:cNvSpPr/>
          <p:nvPr/>
        </p:nvSpPr>
        <p:spPr>
          <a:xfrm>
            <a:off x="5867280" y="3352680"/>
            <a:ext cx="1143000" cy="304920"/>
          </a:xfrm>
          <a:prstGeom prst="leftArrow">
            <a:avLst>
              <a:gd name="adj1" fmla="val 50000"/>
              <a:gd name="adj2" fmla="val 49980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kstvak 73"/>
          <p:cNvSpPr/>
          <p:nvPr/>
        </p:nvSpPr>
        <p:spPr>
          <a:xfrm>
            <a:off x="7238880" y="335268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reak even pu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457200" y="274680"/>
          <a:ext cx="6705720" cy="5851440"/>
        </p:xfrm>
        <a:graphic>
          <a:graphicData uri="http://schemas.openxmlformats.org/drawingml/2006/table">
            <a:tbl>
              <a:tblPr/>
              <a:tblGrid>
                <a:gridCol w="457200"/>
                <a:gridCol w="685800"/>
                <a:gridCol w="914400"/>
                <a:gridCol w="838080"/>
                <a:gridCol w="990720"/>
                <a:gridCol w="685800"/>
                <a:gridCol w="762120"/>
                <a:gridCol w="609480"/>
                <a:gridCol w="76212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O/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/M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457200" y="274680"/>
          <a:ext cx="6705720" cy="5851440"/>
        </p:xfrm>
        <a:graphic>
          <a:graphicData uri="http://schemas.openxmlformats.org/drawingml/2006/table">
            <a:tbl>
              <a:tblPr/>
              <a:tblGrid>
                <a:gridCol w="457200"/>
                <a:gridCol w="685800"/>
                <a:gridCol w="914400"/>
                <a:gridCol w="838080"/>
                <a:gridCol w="990720"/>
                <a:gridCol w="685800"/>
                <a:gridCol w="762120"/>
                <a:gridCol w="609480"/>
                <a:gridCol w="76212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O/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/M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457200" y="274680"/>
          <a:ext cx="6705720" cy="5851440"/>
        </p:xfrm>
        <a:graphic>
          <a:graphicData uri="http://schemas.openxmlformats.org/drawingml/2006/table">
            <a:tbl>
              <a:tblPr/>
              <a:tblGrid>
                <a:gridCol w="457200"/>
                <a:gridCol w="685800"/>
                <a:gridCol w="914400"/>
                <a:gridCol w="838080"/>
                <a:gridCol w="990720"/>
                <a:gridCol w="685800"/>
                <a:gridCol w="762120"/>
                <a:gridCol w="609480"/>
                <a:gridCol w="76212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O/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/M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457200" y="274680"/>
          <a:ext cx="6705720" cy="5851440"/>
        </p:xfrm>
        <a:graphic>
          <a:graphicData uri="http://schemas.openxmlformats.org/drawingml/2006/table">
            <a:tbl>
              <a:tblPr/>
              <a:tblGrid>
                <a:gridCol w="457200"/>
                <a:gridCol w="685800"/>
                <a:gridCol w="914400"/>
                <a:gridCol w="838080"/>
                <a:gridCol w="990720"/>
                <a:gridCol w="685800"/>
                <a:gridCol w="762120"/>
                <a:gridCol w="609480"/>
                <a:gridCol w="76212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O/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/M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457200" y="274680"/>
          <a:ext cx="6705720" cy="5851440"/>
        </p:xfrm>
        <a:graphic>
          <a:graphicData uri="http://schemas.openxmlformats.org/drawingml/2006/table">
            <a:tbl>
              <a:tblPr/>
              <a:tblGrid>
                <a:gridCol w="457200"/>
                <a:gridCol w="685800"/>
                <a:gridCol w="914400"/>
                <a:gridCol w="838080"/>
                <a:gridCol w="990720"/>
                <a:gridCol w="685800"/>
                <a:gridCol w="762120"/>
                <a:gridCol w="609480"/>
                <a:gridCol w="76212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O/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/M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457200" y="274680"/>
          <a:ext cx="6705720" cy="3036960"/>
        </p:xfrm>
        <a:graphic>
          <a:graphicData uri="http://schemas.openxmlformats.org/drawingml/2006/table">
            <a:tbl>
              <a:tblPr/>
              <a:tblGrid>
                <a:gridCol w="461880"/>
                <a:gridCol w="693720"/>
                <a:gridCol w="927360"/>
                <a:gridCol w="847440"/>
                <a:gridCol w="1001880"/>
                <a:gridCol w="693720"/>
                <a:gridCol w="770040"/>
                <a:gridCol w="617400"/>
                <a:gridCol w="692280"/>
              </a:tblGrid>
              <a:tr h="38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O/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/M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T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8" name="Object 98"/>
          <p:cNvGraphicFramePr/>
          <p:nvPr/>
        </p:nvGraphicFramePr>
        <p:xfrm>
          <a:off x="457200" y="3809880"/>
          <a:ext cx="311004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9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9880"/>
                    <a:ext cx="311004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Object 99"/>
          <p:cNvGraphicFramePr/>
          <p:nvPr/>
        </p:nvGraphicFramePr>
        <p:xfrm>
          <a:off x="4419720" y="3809880"/>
          <a:ext cx="3109680" cy="268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Object 9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3809880"/>
                    <a:ext cx="31096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niet proportioneel variabel, maar pro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1012680" y="685800"/>
            <a:ext cx="68360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= P*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= 8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= Totale opbreng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 = de prij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191120" y="1676520"/>
          <a:ext cx="4038480" cy="4140000"/>
        </p:xfrm>
        <a:graphic>
          <a:graphicData uri="http://schemas.openxmlformats.org/drawingml/2006/table">
            <a:tbl>
              <a:tblPr/>
              <a:tblGrid>
                <a:gridCol w="1922400"/>
                <a:gridCol w="2116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niet proportioneel variabel, maar pro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niet proportioneel variabel, maar pro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3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niet proportioneel variabel, maar pro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8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niet proportioneel variabel, maar pro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3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niet proportioneel variabel, maar pro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8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523880" y="380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j progressief variabele kosten zijn de gemiddelde variabele kosten niet gelijk aan de marginale kos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14400" y="1143000"/>
          <a:ext cx="3471840" cy="5553000"/>
        </p:xfrm>
        <a:graphic>
          <a:graphicData uri="http://schemas.openxmlformats.org/drawingml/2006/table">
            <a:tbl>
              <a:tblPr/>
              <a:tblGrid>
                <a:gridCol w="592200"/>
                <a:gridCol w="958680"/>
                <a:gridCol w="962280"/>
                <a:gridCol w="958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523880" y="380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j progressief variabele kosten zijn de gemiddelde variabele kosten niet gelijk aan de marginale kos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914400" y="1143000"/>
          <a:ext cx="3471840" cy="5553000"/>
        </p:xfrm>
        <a:graphic>
          <a:graphicData uri="http://schemas.openxmlformats.org/drawingml/2006/table">
            <a:tbl>
              <a:tblPr/>
              <a:tblGrid>
                <a:gridCol w="592200"/>
                <a:gridCol w="958680"/>
                <a:gridCol w="962280"/>
                <a:gridCol w="958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4" name="Object 50"/>
          <p:cNvGraphicFramePr/>
          <p:nvPr/>
        </p:nvGraphicFramePr>
        <p:xfrm>
          <a:off x="4800600" y="1143000"/>
          <a:ext cx="402444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143000"/>
                    <a:ext cx="402444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523880" y="380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j progressief variabele kosten zijn de gemiddelde variabele kosten niet gelijk aan de marginale kos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914400" y="1143000"/>
          <a:ext cx="3471840" cy="5553000"/>
        </p:xfrm>
        <a:graphic>
          <a:graphicData uri="http://schemas.openxmlformats.org/drawingml/2006/table">
            <a:tbl>
              <a:tblPr/>
              <a:tblGrid>
                <a:gridCol w="592200"/>
                <a:gridCol w="958680"/>
                <a:gridCol w="962280"/>
                <a:gridCol w="958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8" name="Object 50"/>
          <p:cNvGraphicFramePr/>
          <p:nvPr/>
        </p:nvGraphicFramePr>
        <p:xfrm>
          <a:off x="4800600" y="1143000"/>
          <a:ext cx="402444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143000"/>
                    <a:ext cx="402444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23880" y="380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j progressief variabele kosten zijn de gemiddelde variabele kosten niet gelijk aan de marginale kos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914400" y="1143000"/>
          <a:ext cx="3471840" cy="5553000"/>
        </p:xfrm>
        <a:graphic>
          <a:graphicData uri="http://schemas.openxmlformats.org/drawingml/2006/table">
            <a:tbl>
              <a:tblPr/>
              <a:tblGrid>
                <a:gridCol w="592200"/>
                <a:gridCol w="958680"/>
                <a:gridCol w="962280"/>
                <a:gridCol w="958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2" name="Object 50"/>
          <p:cNvGraphicFramePr/>
          <p:nvPr/>
        </p:nvGraphicFramePr>
        <p:xfrm>
          <a:off x="4800600" y="1143000"/>
          <a:ext cx="402444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143000"/>
                    <a:ext cx="402444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50"/>
          <p:cNvGraphicFramePr/>
          <p:nvPr/>
        </p:nvGraphicFramePr>
        <p:xfrm>
          <a:off x="4800600" y="3809880"/>
          <a:ext cx="4024440" cy="268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Object 5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809880"/>
                    <a:ext cx="402444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de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0,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1012680" y="685800"/>
            <a:ext cx="6836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= 8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= Totale opbreng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2209680"/>
          <a:ext cx="4038480" cy="4478400"/>
        </p:xfrm>
        <a:graphic>
          <a:graphicData uri="http://schemas.openxmlformats.org/drawingml/2006/table">
            <a:tbl>
              <a:tblPr/>
              <a:tblGrid>
                <a:gridCol w="1922400"/>
                <a:gridCol w="2116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6" name="Object 57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5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de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0,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4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2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de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0,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4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7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de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0,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4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2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de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0,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,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,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4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,4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7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600200" y="533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het volgende voorbeeld zijn de variabele kosten degressief varia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1600200" y="1295280"/>
            <a:ext cx="6835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</a:t>
            </a:r>
            <a:r>
              <a:rPr b="0" lang="en-US" sz="1600" spc="-1" strike="noStrike" baseline="60000">
                <a:solidFill>
                  <a:srgbClr val="ffffff"/>
                </a:solidFill>
                <a:latin typeface="Arial"/>
              </a:rPr>
              <a:t>0,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762120" y="2743200"/>
          <a:ext cx="3581280" cy="36450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,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,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4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,4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2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523880" y="380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ok bij degressief variabele kosten zijn de gemiddelde variabele kosten niet gelijk aan de marginale kos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914400" y="1143000"/>
          <a:ext cx="3471840" cy="5553000"/>
        </p:xfrm>
        <a:graphic>
          <a:graphicData uri="http://schemas.openxmlformats.org/drawingml/2006/table">
            <a:tbl>
              <a:tblPr/>
              <a:tblGrid>
                <a:gridCol w="592200"/>
                <a:gridCol w="958680"/>
                <a:gridCol w="962280"/>
                <a:gridCol w="958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523880" y="380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ok bij degressief variabele kosten zijn de gemiddelde variabele kosten niet gelijk aan de marginale kos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914400" y="1143000"/>
          <a:ext cx="3471840" cy="5553000"/>
        </p:xfrm>
        <a:graphic>
          <a:graphicData uri="http://schemas.openxmlformats.org/drawingml/2006/table">
            <a:tbl>
              <a:tblPr/>
              <a:tblGrid>
                <a:gridCol w="592200"/>
                <a:gridCol w="958680"/>
                <a:gridCol w="962280"/>
                <a:gridCol w="958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8" name="Object 50"/>
          <p:cNvGraphicFramePr/>
          <p:nvPr/>
        </p:nvGraphicFramePr>
        <p:xfrm>
          <a:off x="4800600" y="1143000"/>
          <a:ext cx="402444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143000"/>
                    <a:ext cx="402444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523880" y="380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ok bij degressief variabele kosten zijn de gemiddelde variabele kosten niet gelijk aan de marginale kos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914400" y="1143000"/>
          <a:ext cx="3471840" cy="5553000"/>
        </p:xfrm>
        <a:graphic>
          <a:graphicData uri="http://schemas.openxmlformats.org/drawingml/2006/table">
            <a:tbl>
              <a:tblPr/>
              <a:tblGrid>
                <a:gridCol w="592200"/>
                <a:gridCol w="958680"/>
                <a:gridCol w="962280"/>
                <a:gridCol w="958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2" name="Object 50"/>
          <p:cNvGraphicFramePr/>
          <p:nvPr/>
        </p:nvGraphicFramePr>
        <p:xfrm>
          <a:off x="4800600" y="1143000"/>
          <a:ext cx="402444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143000"/>
                    <a:ext cx="402444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523880" y="380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ok bij degressief variabele kosten zijn de gemiddelde variabele kosten niet gelijk aan de marginale kos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914400" y="1143000"/>
          <a:ext cx="3471840" cy="5553000"/>
        </p:xfrm>
        <a:graphic>
          <a:graphicData uri="http://schemas.openxmlformats.org/drawingml/2006/table">
            <a:tbl>
              <a:tblPr/>
              <a:tblGrid>
                <a:gridCol w="592200"/>
                <a:gridCol w="958680"/>
                <a:gridCol w="962280"/>
                <a:gridCol w="958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V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6" name="Object 50"/>
          <p:cNvGraphicFramePr/>
          <p:nvPr/>
        </p:nvGraphicFramePr>
        <p:xfrm>
          <a:off x="4800600" y="1143000"/>
          <a:ext cx="402444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143000"/>
                    <a:ext cx="402444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50"/>
          <p:cNvGraphicFramePr/>
          <p:nvPr/>
        </p:nvGraphicFramePr>
        <p:xfrm>
          <a:off x="4800600" y="3809880"/>
          <a:ext cx="4024440" cy="268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Object 5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809880"/>
                    <a:ext cx="402444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71800" y="3108240"/>
            <a:ext cx="1400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in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Totale koste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nstante koste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Huurkoste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vaste loonkoste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Variabele koste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materiaalkoste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inkope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50" name="" descr="Bekijk de afbeelding op ware groot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1981080"/>
            <a:ext cx="2438280" cy="19814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705720" y="4572000"/>
            <a:ext cx="24382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1012680" y="685800"/>
            <a:ext cx="6836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 + 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57200" y="2209680"/>
          <a:ext cx="3581280" cy="44784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720"/>
                <a:gridCol w="99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1012680" y="685800"/>
            <a:ext cx="6836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 + 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57200" y="2209680"/>
          <a:ext cx="3581280" cy="44784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720"/>
                <a:gridCol w="99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6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012680" y="685800"/>
            <a:ext cx="6836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 + 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2209680"/>
          <a:ext cx="3581280" cy="44784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720"/>
                <a:gridCol w="99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0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1012680" y="685800"/>
            <a:ext cx="6836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 + 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7200" y="2209680"/>
          <a:ext cx="3581280" cy="44784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720"/>
                <a:gridCol w="99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4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1012680" y="685800"/>
            <a:ext cx="6836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2q + 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K = Totale ko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hoeveel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2209680"/>
          <a:ext cx="3581280" cy="447840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990720"/>
                <a:gridCol w="99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V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8" name="Object 50"/>
          <p:cNvGraphicFramePr/>
          <p:nvPr/>
        </p:nvGraphicFramePr>
        <p:xfrm>
          <a:off x="4876920" y="2438280"/>
          <a:ext cx="4024080" cy="26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402408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bruiker</cp:lastModifiedBy>
  <dcterms:modified xsi:type="dcterms:W3CDTF">2011-11-15T08:21:08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