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7A3BD-BBA7-40E0-81DF-09043E22D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35CEA-6362-4E20-8800-C98DEDAC5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E8DE0-9BC1-4C09-B6AF-ABAF2E0F4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A499F-90DC-471A-8D9F-446CCF537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83927-719B-40A8-816C-DFB8EE572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044F2-08CF-4D48-8A08-349E78ED9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AB0E5-271D-42D5-94F7-37178904C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78F66-C527-4363-9FCD-FCFC9BCEA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766A9-D8F0-43B8-9C8E-A657E880D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ACDC1-647F-4CB9-A4D8-6477D7A4F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81247-8B3A-4384-9915-0EB6FD27D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FA17-70CD-4F1E-995D-DF76F1F2E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A6F9-0EA5-4158-B91A-DD3782F3D9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0" y="2924280"/>
            <a:ext cx="2340000" cy="1346040"/>
          </a:xfrm>
          <a:prstGeom prst="rect">
            <a:avLst/>
          </a:prstGeom>
          <a:ln w="0">
            <a:noFill/>
          </a:ln>
        </p:spPr>
      </p:pic>
      <p:sp>
        <p:nvSpPr>
          <p:cNvPr id="42" name="PlaceHolder 1"/>
          <p:cNvSpPr>
            <a:spLocks noGrp="1"/>
          </p:cNvSpPr>
          <p:nvPr>
            <p:ph type="title"/>
          </p:nvPr>
        </p:nvSpPr>
        <p:spPr>
          <a:xfrm>
            <a:off x="3203640" y="620640"/>
            <a:ext cx="56116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900" spc="-1" strike="noStrike">
                <a:solidFill>
                  <a:srgbClr val="953735"/>
                </a:solidFill>
                <a:latin typeface="Calibri"/>
              </a:rPr>
              <a:t>Sortimentskennis</a:t>
            </a:r>
            <a:endParaRPr b="0" lang="en-US" sz="5900" spc="-1" strike="noStrike">
              <a:solidFill>
                <a:srgbClr val="000000"/>
              </a:solidFill>
              <a:latin typeface="Calibri"/>
            </a:endParaRPr>
          </a:p>
        </p:txBody>
      </p:sp>
      <p:pic>
        <p:nvPicPr>
          <p:cNvPr id="43" name="Picture 2" descr=""/>
          <p:cNvPicPr/>
          <p:nvPr/>
        </p:nvPicPr>
        <p:blipFill>
          <a:blip r:embed="rId2"/>
          <a:stretch/>
        </p:blipFill>
        <p:spPr>
          <a:xfrm>
            <a:off x="0" y="0"/>
            <a:ext cx="3203640" cy="2998800"/>
          </a:xfrm>
          <a:prstGeom prst="rect">
            <a:avLst/>
          </a:prstGeom>
          <a:ln w="0">
            <a:noFill/>
          </a:ln>
        </p:spPr>
      </p:pic>
      <p:pic>
        <p:nvPicPr>
          <p:cNvPr id="44" name="Picture 4" descr=""/>
          <p:cNvPicPr/>
          <p:nvPr/>
        </p:nvPicPr>
        <p:blipFill>
          <a:blip r:embed="rId3"/>
          <a:stretch/>
        </p:blipFill>
        <p:spPr>
          <a:xfrm>
            <a:off x="3576600" y="2681280"/>
            <a:ext cx="5567400" cy="4176720"/>
          </a:xfrm>
          <a:prstGeom prst="rect">
            <a:avLst/>
          </a:prstGeom>
          <a:ln w="0">
            <a:noFill/>
          </a:ln>
        </p:spPr>
      </p:pic>
      <p:pic>
        <p:nvPicPr>
          <p:cNvPr id="45" name="Picture 5" descr=""/>
          <p:cNvPicPr/>
          <p:nvPr/>
        </p:nvPicPr>
        <p:blipFill>
          <a:blip r:embed="rId4"/>
          <a:stretch/>
        </p:blipFill>
        <p:spPr>
          <a:xfrm>
            <a:off x="0" y="4030560"/>
            <a:ext cx="3780000" cy="2827440"/>
          </a:xfrm>
          <a:prstGeom prst="rect">
            <a:avLst/>
          </a:prstGeom>
          <a:ln w="0">
            <a:noFill/>
          </a:ln>
        </p:spPr>
      </p:pic>
      <p:pic>
        <p:nvPicPr>
          <p:cNvPr id="46" name="Picture 3" descr=""/>
          <p:cNvPicPr/>
          <p:nvPr/>
        </p:nvPicPr>
        <p:blipFill>
          <a:blip r:embed="rId5"/>
          <a:stretch/>
        </p:blipFill>
        <p:spPr>
          <a:xfrm>
            <a:off x="2340000" y="2637000"/>
            <a:ext cx="1428840" cy="142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ortimentskennis in de 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edere week aandacht voor sortimentskennis, 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ne keer veel: verzorging en kenmer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andere keer weinig: spra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oets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beeldingen (PPT) en/of echte bloe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Je schrijft eerst de volledige Latijnse en Nederlandse naam op! </a:t>
            </a:r>
            <a:r>
              <a:rPr b="0" i="1" lang="nl-NL" sz="3200" spc="-1" strike="noStrike">
                <a:solidFill>
                  <a:srgbClr val="000000"/>
                </a:solidFill>
                <a:latin typeface="Calibri"/>
              </a:rPr>
              <a:t>(alleen als er een Nederlandse naam in de lijst staat benoem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ips om te lere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pellen: Memory, Kwartet, en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artjes </a:t>
            </a:r>
            <a:r>
              <a:rPr b="0" lang="nl-NL" sz="3200" spc="-1" strike="noStrike">
                <a:solidFill>
                  <a:srgbClr val="000000"/>
                </a:solidFill>
                <a:latin typeface="Wingdings"/>
                <a:ea typeface="Wingdings"/>
              </a:rPr>
              <a:t></a:t>
            </a:r>
            <a:r>
              <a:rPr b="0" lang="nl-NL" sz="3200" spc="-1" strike="noStrike">
                <a:solidFill>
                  <a:srgbClr val="000000"/>
                </a:solidFill>
                <a:latin typeface="Calibri"/>
              </a:rPr>
              <a:t> voorkant afbeelding – achterkant Latijnse en Nederlandse na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otoboe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jven, schrijven, schrij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188640"/>
            <a:ext cx="8229600" cy="5832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altijd je eigen kaartjessysteem om te ler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Powerpoint uit de lessen en op deze site is ter afwisseling maar niet de basi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e goed mee in de lessen, hierdoor leer je snell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er in kleine groepjes, geen hele lijst in één ke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ussel de namen die je geleerd hebt door elkaar, en herhaal ze op deze manier en niet volgens de lij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33000"/>
            <a:ext cx="8229600" cy="57927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60 namen kun je starten met de eerste week alle plaatjes te zoeken en op de kaartjes te plakken. Daarna heb je zo'n zes weken nodig om het te leren. Bijvoorbeeld zo:</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eerste vijf, drie avonden 10 minuten hardop oplezen en tegelijk opschrijve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gin met de 1e naam welke je 10 keer opschrijft en zegt, vervolgens de 2e naam 10 keer opschrijven en zeggen enz.</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ls je ze kunt benoemen aan de hand van je afbeelding kun je er twee nieuwe namen bijpak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 deze besteed je extra aandacht, dus weer 10 keer opschrijven en zeggen, de oude namen herhaal je alleen mond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of je de nieuwe namen hebt onthouden en je de oude namen nog w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ja, dan pak je er weer twee nieuwe namen bij, zo nee dan wacht je nog een dag. De namen welke je vergeten bent of nog niet weet geef je extra aandacht door 10 keer opschrijven en zeg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weer of je de nieuwe namen hebt onthouden en je de oude namen nog weet, zo ja dan pak je er weer twee nieuwe namen bij, zo nee dan wacht je nog een da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 deze manier ken je na één week de eerste tien na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ga je de gehele lijst d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30:19Z</dcterms:created>
  <dc:creator>Linda</dc:creator>
  <dc:description/>
  <dc:language>en-US</dc:language>
  <cp:lastModifiedBy>Gemmy Duisters</cp:lastModifiedBy>
  <dcterms:modified xsi:type="dcterms:W3CDTF">2016-09-08T08:13:07Z</dcterms:modified>
  <cp:revision>14</cp:revision>
  <dc:subject/>
  <dc:title>Plantenkennis</dc:title>
</cp:coreProperties>
</file>